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7741-E36C-4550-89AB-8517FE6A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303F-FDB7-4228-8DDF-027643B2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1CCA-36D3-4ADB-B7C8-DA620E528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139A-1314-4630-B587-A4C003A54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0EF8-30B3-4BFB-8F37-6AE676E4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4783-1D7E-456C-B6F2-4846051E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F513-7B8B-4C72-AE7C-CBEA6D7F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34F7-0723-4F13-AD33-D7624699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78FE-DA07-4C5B-9608-723D73F0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E783-8935-4184-A0D7-CD0DEA91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468B-AB3C-4FB9-9209-326E4FC3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2293-B6F2-4F3D-AB51-D0F9878A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6F18-B9F8-4006-850D-8FB290BC6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368520" y="765000"/>
            <a:ext cx="3168000" cy="2663640"/>
            <a:chOff x="3368520" y="765000"/>
            <a:chExt cx="3168000" cy="2663640"/>
          </a:xfrm>
        </p:grpSpPr>
        <p:sp>
          <p:nvSpPr>
            <p:cNvPr id="42" name=""/>
            <p:cNvSpPr/>
            <p:nvPr/>
          </p:nvSpPr>
          <p:spPr>
            <a:xfrm>
              <a:off x="3950280" y="1603800"/>
              <a:ext cx="1819080" cy="1257480"/>
            </a:xfrm>
            <a:prstGeom prst="rect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0" dir="0" blurRad="0" rotWithShape="0">
                <a:srgbClr val="8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 txBox="1"/>
            <p:nvPr/>
          </p:nvSpPr>
          <p:spPr>
            <a:xfrm>
              <a:off x="3368520" y="2826000"/>
              <a:ext cx="1242720" cy="602640"/>
            </a:xfrm>
            <a:prstGeom prst="rect">
              <a:avLst/>
            </a:prstGeom>
          </p:spPr>
          <p:txBody>
            <a:bodyPr wrap="none" lIns="91080" rIns="9108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2600" dir="5400000" blurRad="0" rotWithShape="0">
                      <a:srgbClr val="000000"/>
                    </a:outerShdw>
                  </a:effectLst>
                  <a:latin typeface="Arial Black"/>
                </a:rPr>
                <a:t>Go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2600" dir="54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4" name=""/>
            <p:cNvSpPr txBox="1"/>
            <p:nvPr/>
          </p:nvSpPr>
          <p:spPr>
            <a:xfrm>
              <a:off x="5032800" y="2960280"/>
              <a:ext cx="1503720" cy="457920"/>
            </a:xfrm>
            <a:prstGeom prst="rect">
              <a:avLst/>
            </a:prstGeom>
          </p:spPr>
          <p:txBody>
            <a:bodyPr wrap="none" lIns="91080" rIns="9108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2600" dir="5400000" blurRad="0" rotWithShape="0">
                      <a:srgbClr val="000000"/>
                    </a:outerShdw>
                  </a:effectLst>
                  <a:latin typeface="Arial Black"/>
                </a:rPr>
                <a:t>ora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2600" dir="54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031280" y="765000"/>
              <a:ext cx="1671480" cy="2653200"/>
            </a:xfrm>
            <a:custGeom>
              <a:avLst/>
              <a:gdLst/>
              <a:ahLst/>
              <a:rect l="l" t="t" r="r" b="b"/>
              <a:pathLst>
                <a:path w="339" h="702">
                  <a:moveTo>
                    <a:pt x="132" y="178"/>
                  </a:moveTo>
                  <a:lnTo>
                    <a:pt x="0" y="437"/>
                  </a:lnTo>
                  <a:lnTo>
                    <a:pt x="220" y="438"/>
                  </a:lnTo>
                  <a:lnTo>
                    <a:pt x="151" y="582"/>
                  </a:lnTo>
                  <a:lnTo>
                    <a:pt x="190" y="581"/>
                  </a:lnTo>
                  <a:lnTo>
                    <a:pt x="162" y="636"/>
                  </a:lnTo>
                  <a:lnTo>
                    <a:pt x="160" y="635"/>
                  </a:lnTo>
                  <a:lnTo>
                    <a:pt x="156" y="606"/>
                  </a:lnTo>
                  <a:lnTo>
                    <a:pt x="125" y="606"/>
                  </a:lnTo>
                  <a:lnTo>
                    <a:pt x="150" y="702"/>
                  </a:lnTo>
                  <a:lnTo>
                    <a:pt x="339" y="364"/>
                  </a:lnTo>
                  <a:lnTo>
                    <a:pt x="119" y="364"/>
                  </a:lnTo>
                  <a:lnTo>
                    <a:pt x="210" y="176"/>
                  </a:lnTo>
                  <a:lnTo>
                    <a:pt x="264" y="177"/>
                  </a:lnTo>
                  <a:lnTo>
                    <a:pt x="252" y="135"/>
                  </a:lnTo>
                  <a:lnTo>
                    <a:pt x="190" y="136"/>
                  </a:lnTo>
                  <a:lnTo>
                    <a:pt x="207" y="106"/>
                  </a:lnTo>
                  <a:lnTo>
                    <a:pt x="246" y="106"/>
                  </a:lnTo>
                  <a:lnTo>
                    <a:pt x="244" y="78"/>
                  </a:lnTo>
                  <a:lnTo>
                    <a:pt x="220" y="77"/>
                  </a:lnTo>
                  <a:lnTo>
                    <a:pt x="231" y="54"/>
                  </a:lnTo>
                  <a:lnTo>
                    <a:pt x="264" y="56"/>
                  </a:lnTo>
                  <a:lnTo>
                    <a:pt x="281" y="18"/>
                  </a:lnTo>
                  <a:lnTo>
                    <a:pt x="227" y="20"/>
                  </a:lnTo>
                  <a:lnTo>
                    <a:pt x="223" y="0"/>
                  </a:lnTo>
                  <a:lnTo>
                    <a:pt x="97" y="178"/>
                  </a:lnTo>
                  <a:lnTo>
                    <a:pt x="132" y="178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  <a:effectLst>
              <a:outerShdw dist="1260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 txBox="1"/>
            <p:nvPr/>
          </p:nvSpPr>
          <p:spPr>
            <a:xfrm>
              <a:off x="3868920" y="802080"/>
              <a:ext cx="776520" cy="600480"/>
            </a:xfrm>
            <a:prstGeom prst="rect">
              <a:avLst/>
            </a:prstGeom>
          </p:spPr>
          <p:txBody>
            <a:bodyPr wrap="none" lIns="91080" rIns="9108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2600" dir="5400000" blurRad="0" rotWithShape="0">
                      <a:srgbClr val="000000"/>
                    </a:outerShdw>
                  </a:effectLst>
                  <a:latin typeface="Arial Black"/>
                </a:rPr>
                <a:t>C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2600" dir="54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5498640" y="847440"/>
              <a:ext cx="761760" cy="603000"/>
            </a:xfrm>
            <a:prstGeom prst="rect">
              <a:avLst/>
            </a:prstGeom>
          </p:spPr>
          <p:txBody>
            <a:bodyPr wrap="none" lIns="91080" rIns="9108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2600" dir="5400000" blurRad="0" rotWithShape="0">
                      <a:srgbClr val="000000"/>
                    </a:outerShdw>
                  </a:effectLst>
                  <a:latin typeface="Arial Black"/>
                </a:rPr>
                <a:t>T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2600" dir="54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4600" y="5931000"/>
            <a:ext cx="1295280" cy="865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6600" y="3862440"/>
            <a:ext cx="864072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Arial"/>
              </a:rPr>
              <a:t>PROGRAMUL DE RETEHNOLOGIZARE SI DEZVOLTARE LA CET GOVO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39880" y="6311880"/>
            <a:ext cx="23749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Membru COGEN Rom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1" name=""/>
          <p:cNvGrpSpPr/>
          <p:nvPr/>
        </p:nvGrpSpPr>
        <p:grpSpPr>
          <a:xfrm>
            <a:off x="-9360" y="333360"/>
            <a:ext cx="9905040" cy="7117920"/>
            <a:chOff x="-9360" y="333360"/>
            <a:chExt cx="9905040" cy="7117920"/>
          </a:xfrm>
        </p:grpSpPr>
        <p:sp>
          <p:nvSpPr>
            <p:cNvPr id="1942" name=""/>
            <p:cNvSpPr/>
            <p:nvPr/>
          </p:nvSpPr>
          <p:spPr>
            <a:xfrm>
              <a:off x="631800" y="333360"/>
              <a:ext cx="8785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993300"/>
                  </a:solidFill>
                  <a:latin typeface="Arial"/>
                </a:rPr>
                <a:t>CONSUMUL DE CARBUNE IN URMATORII 20 AN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3" name=""/>
            <p:cNvGrpSpPr/>
            <p:nvPr/>
          </p:nvGrpSpPr>
          <p:grpSpPr>
            <a:xfrm>
              <a:off x="-9360" y="6232680"/>
              <a:ext cx="9905040" cy="1218600"/>
              <a:chOff x="-9360" y="6232680"/>
              <a:chExt cx="9905040" cy="1218600"/>
            </a:xfrm>
          </p:grpSpPr>
          <p:grpSp>
            <p:nvGrpSpPr>
              <p:cNvPr id="1944" name=""/>
              <p:cNvGrpSpPr/>
              <p:nvPr/>
            </p:nvGrpSpPr>
            <p:grpSpPr>
              <a:xfrm>
                <a:off x="-9360" y="6232680"/>
                <a:ext cx="9905040" cy="1218600"/>
                <a:chOff x="-9360" y="6232680"/>
                <a:chExt cx="9905040" cy="1218600"/>
              </a:xfrm>
            </p:grpSpPr>
            <p:sp>
              <p:nvSpPr>
                <p:cNvPr id="1945" name=""/>
                <p:cNvSpPr/>
                <p:nvPr/>
              </p:nvSpPr>
              <p:spPr>
                <a:xfrm>
                  <a:off x="-9360" y="6232680"/>
                  <a:ext cx="9905040" cy="609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ffcc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2216160" y="6232680"/>
                  <a:ext cx="10936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7560" y="6235560"/>
                  <a:ext cx="2779200" cy="60984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963360" y="6308640"/>
                  <a:ext cx="16027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>
                      <a:solidFill>
                        <a:srgbClr val="339933"/>
                      </a:solidFill>
                      <a:latin typeface="Arial Black"/>
                    </a:rPr>
                    <a:t>CET Govora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8455680" y="6308640"/>
                  <a:ext cx="1311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339933"/>
                      </a:solidFill>
                      <a:latin typeface="Arial"/>
                    </a:rPr>
                    <a:t>Noiembrie 200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50" name=""/>
                <p:cNvGrpSpPr/>
                <p:nvPr/>
              </p:nvGrpSpPr>
              <p:grpSpPr>
                <a:xfrm>
                  <a:off x="100440" y="6270480"/>
                  <a:ext cx="646920" cy="533520"/>
                  <a:chOff x="100440" y="6270480"/>
                  <a:chExt cx="646920" cy="533520"/>
                </a:xfrm>
              </p:grpSpPr>
              <p:sp>
                <p:nvSpPr>
                  <p:cNvPr id="1951" name=""/>
                  <p:cNvSpPr/>
                  <p:nvPr/>
                </p:nvSpPr>
                <p:spPr>
                  <a:xfrm>
                    <a:off x="219240" y="6438240"/>
                    <a:ext cx="371520" cy="251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8200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0" dir="0" blurRad="0" rotWithShape="0">
                      <a:srgbClr val="8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2" name=""/>
                  <p:cNvSpPr txBox="1"/>
                  <p:nvPr/>
                </p:nvSpPr>
                <p:spPr>
                  <a:xfrm>
                    <a:off x="100440" y="6683400"/>
                    <a:ext cx="25380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Go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1953" name=""/>
                  <p:cNvSpPr txBox="1"/>
                  <p:nvPr/>
                </p:nvSpPr>
                <p:spPr>
                  <a:xfrm>
                    <a:off x="440280" y="6710400"/>
                    <a:ext cx="307080" cy="91440"/>
                  </a:xfrm>
                  <a:prstGeom prst="rect">
                    <a:avLst/>
                  </a:prstGeom>
                </p:spPr>
                <p:txBody>
                  <a:bodyPr wrap="none" lIns="90000" rIns="90000" tIns="45000" bIns="450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ora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1954" name=""/>
                  <p:cNvSpPr/>
                  <p:nvPr/>
                </p:nvSpPr>
                <p:spPr>
                  <a:xfrm>
                    <a:off x="235800" y="6270480"/>
                    <a:ext cx="341640" cy="531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9" h="702">
                        <a:moveTo>
                          <a:pt x="132" y="178"/>
                        </a:moveTo>
                        <a:lnTo>
                          <a:pt x="0" y="437"/>
                        </a:lnTo>
                        <a:lnTo>
                          <a:pt x="220" y="438"/>
                        </a:lnTo>
                        <a:lnTo>
                          <a:pt x="151" y="582"/>
                        </a:lnTo>
                        <a:lnTo>
                          <a:pt x="190" y="581"/>
                        </a:lnTo>
                        <a:lnTo>
                          <a:pt x="162" y="636"/>
                        </a:lnTo>
                        <a:lnTo>
                          <a:pt x="160" y="635"/>
                        </a:lnTo>
                        <a:lnTo>
                          <a:pt x="156" y="606"/>
                        </a:lnTo>
                        <a:lnTo>
                          <a:pt x="125" y="606"/>
                        </a:lnTo>
                        <a:lnTo>
                          <a:pt x="150" y="702"/>
                        </a:lnTo>
                        <a:lnTo>
                          <a:pt x="339" y="364"/>
                        </a:lnTo>
                        <a:lnTo>
                          <a:pt x="119" y="364"/>
                        </a:lnTo>
                        <a:lnTo>
                          <a:pt x="210" y="176"/>
                        </a:lnTo>
                        <a:lnTo>
                          <a:pt x="264" y="177"/>
                        </a:lnTo>
                        <a:lnTo>
                          <a:pt x="252" y="135"/>
                        </a:lnTo>
                        <a:lnTo>
                          <a:pt x="190" y="136"/>
                        </a:lnTo>
                        <a:lnTo>
                          <a:pt x="207" y="106"/>
                        </a:lnTo>
                        <a:lnTo>
                          <a:pt x="246" y="106"/>
                        </a:lnTo>
                        <a:lnTo>
                          <a:pt x="244" y="78"/>
                        </a:lnTo>
                        <a:lnTo>
                          <a:pt x="220" y="77"/>
                        </a:lnTo>
                        <a:lnTo>
                          <a:pt x="231" y="54"/>
                        </a:lnTo>
                        <a:lnTo>
                          <a:pt x="264" y="56"/>
                        </a:lnTo>
                        <a:lnTo>
                          <a:pt x="281" y="18"/>
                        </a:lnTo>
                        <a:lnTo>
                          <a:pt x="227" y="20"/>
                        </a:lnTo>
                        <a:lnTo>
                          <a:pt x="223" y="0"/>
                        </a:lnTo>
                        <a:lnTo>
                          <a:pt x="97" y="178"/>
                        </a:lnTo>
                        <a:lnTo>
                          <a:pt x="132" y="178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round/>
                  </a:ln>
                  <a:effectLst>
                    <a:outerShdw dist="12600" dir="54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5" name=""/>
                  <p:cNvSpPr txBox="1"/>
                  <p:nvPr/>
                </p:nvSpPr>
                <p:spPr>
                  <a:xfrm>
                    <a:off x="202680" y="6277680"/>
                    <a:ext cx="158400" cy="1202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C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1956" name=""/>
                  <p:cNvSpPr txBox="1"/>
                  <p:nvPr/>
                </p:nvSpPr>
                <p:spPr>
                  <a:xfrm>
                    <a:off x="535680" y="6287040"/>
                    <a:ext cx="15552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T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</p:grpSp>
          </p:grpSp>
          <p:sp>
            <p:nvSpPr>
              <p:cNvPr id="1957" name=""/>
              <p:cNvSpPr/>
              <p:nvPr/>
            </p:nvSpPr>
            <p:spPr>
              <a:xfrm>
                <a:off x="3475800" y="62913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8" name=""/>
            <p:cNvGrpSpPr/>
            <p:nvPr/>
          </p:nvGrpSpPr>
          <p:grpSpPr>
            <a:xfrm>
              <a:off x="1067040" y="1125360"/>
              <a:ext cx="8565840" cy="4287960"/>
              <a:chOff x="1067040" y="1125360"/>
              <a:chExt cx="8565840" cy="4287960"/>
            </a:xfrm>
          </p:grpSpPr>
          <p:sp>
            <p:nvSpPr>
              <p:cNvPr id="1959" name=""/>
              <p:cNvSpPr/>
              <p:nvPr/>
            </p:nvSpPr>
            <p:spPr>
              <a:xfrm>
                <a:off x="1830240" y="4281480"/>
                <a:ext cx="5720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1830240" y="3630600"/>
                <a:ext cx="5720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1830240" y="2968560"/>
                <a:ext cx="5720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1830240" y="2316240"/>
                <a:ext cx="5720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1830240" y="1654200"/>
                <a:ext cx="5720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 flipH="1" flipV="1">
                <a:off x="1829880" y="1341360"/>
                <a:ext cx="1800" cy="3603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1779480" y="4944960"/>
                <a:ext cx="50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1779480" y="4281480"/>
                <a:ext cx="50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1779480" y="3630600"/>
                <a:ext cx="50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1779480" y="2968560"/>
                <a:ext cx="50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1779480" y="2316240"/>
                <a:ext cx="50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1779480" y="1654200"/>
                <a:ext cx="50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1830240" y="4944960"/>
                <a:ext cx="57150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 flipV="1">
                <a:off x="1830240" y="4944960"/>
                <a:ext cx="180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 flipV="1">
                <a:off x="211464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 flipV="1">
                <a:off x="2398680" y="4944960"/>
                <a:ext cx="180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 flipV="1">
                <a:off x="2682720" y="4944960"/>
                <a:ext cx="180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 flipV="1">
                <a:off x="297972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 flipV="1">
                <a:off x="3263760" y="4944960"/>
                <a:ext cx="180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flipV="1">
                <a:off x="354816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 flipV="1">
                <a:off x="383220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 flipV="1">
                <a:off x="411480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 flipV="1">
                <a:off x="4398840" y="4944960"/>
                <a:ext cx="180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 flipV="1">
                <a:off x="469584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 flipV="1">
                <a:off x="4979880" y="4944960"/>
                <a:ext cx="180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flipV="1">
                <a:off x="526428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 flipV="1">
                <a:off x="554832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 flipV="1">
                <a:off x="5832360" y="4944960"/>
                <a:ext cx="180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 flipV="1">
                <a:off x="611676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flipV="1">
                <a:off x="640080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 flipV="1">
                <a:off x="669780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 flipV="1">
                <a:off x="698184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1973160" y="1863720"/>
                <a:ext cx="5434200" cy="1833480"/>
              </a:xfrm>
              <a:custGeom>
                <a:avLst/>
                <a:gdLst/>
                <a:ahLst/>
                <a:rect l="l" t="t" r="r" b="b"/>
                <a:pathLst>
                  <a:path w="421" h="166">
                    <a:moveTo>
                      <a:pt x="0" y="53"/>
                    </a:moveTo>
                    <a:lnTo>
                      <a:pt x="22" y="53"/>
                    </a:lnTo>
                    <a:lnTo>
                      <a:pt x="44" y="166"/>
                    </a:lnTo>
                    <a:lnTo>
                      <a:pt x="67" y="140"/>
                    </a:lnTo>
                    <a:lnTo>
                      <a:pt x="89" y="0"/>
                    </a:lnTo>
                    <a:lnTo>
                      <a:pt x="111" y="0"/>
                    </a:lnTo>
                    <a:lnTo>
                      <a:pt x="133" y="0"/>
                    </a:lnTo>
                    <a:lnTo>
                      <a:pt x="155" y="0"/>
                    </a:lnTo>
                    <a:lnTo>
                      <a:pt x="177" y="0"/>
                    </a:lnTo>
                    <a:lnTo>
                      <a:pt x="199" y="0"/>
                    </a:lnTo>
                    <a:lnTo>
                      <a:pt x="222" y="0"/>
                    </a:lnTo>
                    <a:lnTo>
                      <a:pt x="244" y="0"/>
                    </a:lnTo>
                    <a:lnTo>
                      <a:pt x="266" y="0"/>
                    </a:lnTo>
                    <a:lnTo>
                      <a:pt x="288" y="0"/>
                    </a:lnTo>
                    <a:lnTo>
                      <a:pt x="310" y="0"/>
                    </a:lnTo>
                    <a:lnTo>
                      <a:pt x="332" y="0"/>
                    </a:lnTo>
                    <a:lnTo>
                      <a:pt x="354" y="0"/>
                    </a:lnTo>
                    <a:lnTo>
                      <a:pt x="377" y="0"/>
                    </a:lnTo>
                    <a:lnTo>
                      <a:pt x="399" y="0"/>
                    </a:lnTo>
                    <a:lnTo>
                      <a:pt x="421" y="0"/>
                    </a:lnTo>
                  </a:path>
                </a:pathLst>
              </a:custGeom>
              <a:noFill/>
              <a:ln w="2844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540160" y="4513320"/>
                <a:ext cx="4867200" cy="1440"/>
              </a:xfrm>
              <a:custGeom>
                <a:avLst/>
                <a:gdLst/>
                <a:ahLst/>
                <a:rect l="l" t="t" r="r" b="b"/>
                <a:pathLst>
                  <a:path w="377" h="0">
                    <a:moveTo>
                      <a:pt x="0" y="0"/>
                    </a:moveTo>
                    <a:lnTo>
                      <a:pt x="23" y="0"/>
                    </a:lnTo>
                    <a:lnTo>
                      <a:pt x="45" y="0"/>
                    </a:lnTo>
                    <a:lnTo>
                      <a:pt x="67" y="0"/>
                    </a:lnTo>
                    <a:lnTo>
                      <a:pt x="89" y="0"/>
                    </a:lnTo>
                    <a:lnTo>
                      <a:pt x="111" y="0"/>
                    </a:lnTo>
                    <a:lnTo>
                      <a:pt x="133" y="0"/>
                    </a:lnTo>
                    <a:lnTo>
                      <a:pt x="155" y="0"/>
                    </a:lnTo>
                    <a:lnTo>
                      <a:pt x="178" y="0"/>
                    </a:lnTo>
                    <a:lnTo>
                      <a:pt x="200" y="0"/>
                    </a:lnTo>
                    <a:lnTo>
                      <a:pt x="222" y="0"/>
                    </a:lnTo>
                    <a:lnTo>
                      <a:pt x="244" y="0"/>
                    </a:lnTo>
                    <a:lnTo>
                      <a:pt x="266" y="0"/>
                    </a:lnTo>
                    <a:lnTo>
                      <a:pt x="288" y="0"/>
                    </a:lnTo>
                    <a:lnTo>
                      <a:pt x="310" y="0"/>
                    </a:lnTo>
                    <a:lnTo>
                      <a:pt x="333" y="0"/>
                    </a:lnTo>
                    <a:lnTo>
                      <a:pt x="355" y="0"/>
                    </a:lnTo>
                    <a:lnTo>
                      <a:pt x="377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1611000" y="4856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1158120" y="4194000"/>
                <a:ext cx="506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500,00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1067040" y="3541680"/>
                <a:ext cx="623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1,000,00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1067040" y="2879640"/>
                <a:ext cx="623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1,500,00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1067040" y="2228760"/>
                <a:ext cx="623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,000,00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1067040" y="1565280"/>
                <a:ext cx="623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,500,00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 rot="18900000">
                <a:off x="1545480" y="5159520"/>
                <a:ext cx="311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007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 rot="18900000">
                <a:off x="2113920" y="5159520"/>
                <a:ext cx="311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009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rot="18900000">
                <a:off x="2694960" y="5159520"/>
                <a:ext cx="311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011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 rot="18900000">
                <a:off x="3263400" y="5159160"/>
                <a:ext cx="311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013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 rot="18900000">
                <a:off x="3830040" y="5159520"/>
                <a:ext cx="311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015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 rot="18900000">
                <a:off x="4411080" y="5159520"/>
                <a:ext cx="311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017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 rot="18900000">
                <a:off x="4979520" y="5159160"/>
                <a:ext cx="311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019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rot="18900000">
                <a:off x="5547600" y="5159520"/>
                <a:ext cx="311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021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rot="18900000">
                <a:off x="6116040" y="5159520"/>
                <a:ext cx="311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023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 rot="18900000">
                <a:off x="6697080" y="5159520"/>
                <a:ext cx="311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025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9" name=""/>
              <p:cNvGrpSpPr/>
              <p:nvPr/>
            </p:nvGrpSpPr>
            <p:grpSpPr>
              <a:xfrm>
                <a:off x="7905600" y="3645000"/>
                <a:ext cx="1580040" cy="444960"/>
                <a:chOff x="7905600" y="3645000"/>
                <a:chExt cx="1580040" cy="444960"/>
              </a:xfrm>
            </p:grpSpPr>
            <p:sp>
              <p:nvSpPr>
                <p:cNvPr id="2010" name=""/>
                <p:cNvSpPr/>
                <p:nvPr/>
              </p:nvSpPr>
              <p:spPr>
                <a:xfrm>
                  <a:off x="7905600" y="3744720"/>
                  <a:ext cx="309600" cy="1080"/>
                </a:xfrm>
                <a:prstGeom prst="line">
                  <a:avLst/>
                </a:prstGeom>
                <a:ln w="255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8344800" y="3645000"/>
                  <a:ext cx="1140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993300"/>
                      </a:solidFill>
                      <a:latin typeface="Arial"/>
                    </a:rPr>
                    <a:t>Consum Ligni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7905600" y="3976560"/>
                  <a:ext cx="309600" cy="1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8346240" y="3876480"/>
                  <a:ext cx="11192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onsum Huil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4" name=""/>
              <p:cNvSpPr/>
              <p:nvPr/>
            </p:nvSpPr>
            <p:spPr>
              <a:xfrm>
                <a:off x="7761240" y="3500280"/>
                <a:ext cx="1871640" cy="720720"/>
              </a:xfrm>
              <a:prstGeom prst="rect">
                <a:avLst/>
              </a:prstGeom>
              <a:noFill/>
              <a:ln w="158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1639800" y="1125360"/>
                <a:ext cx="36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Arial"/>
                  </a:rPr>
                  <a:t>Ton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7574040" y="4869000"/>
                <a:ext cx="203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Arial"/>
                  </a:rPr>
                  <a:t>A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7" name=""/>
          <p:cNvGrpSpPr/>
          <p:nvPr/>
        </p:nvGrpSpPr>
        <p:grpSpPr>
          <a:xfrm>
            <a:off x="-9360" y="333360"/>
            <a:ext cx="9905040" cy="7117920"/>
            <a:chOff x="-9360" y="333360"/>
            <a:chExt cx="9905040" cy="7117920"/>
          </a:xfrm>
        </p:grpSpPr>
        <p:sp>
          <p:nvSpPr>
            <p:cNvPr id="2018" name=""/>
            <p:cNvSpPr/>
            <p:nvPr/>
          </p:nvSpPr>
          <p:spPr>
            <a:xfrm>
              <a:off x="631800" y="333360"/>
              <a:ext cx="878508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993300"/>
                  </a:solidFill>
                  <a:latin typeface="Arial"/>
                </a:rPr>
                <a:t>MONITORIZARE EMISII DE CO</a:t>
              </a:r>
              <a:r>
                <a:rPr b="1" lang="en-US" sz="2200" spc="-1" strike="noStrike" baseline="-25000">
                  <a:solidFill>
                    <a:srgbClr val="9933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9" name=""/>
            <p:cNvGrpSpPr/>
            <p:nvPr/>
          </p:nvGrpSpPr>
          <p:grpSpPr>
            <a:xfrm>
              <a:off x="-9360" y="6232680"/>
              <a:ext cx="9905040" cy="1218600"/>
              <a:chOff x="-9360" y="6232680"/>
              <a:chExt cx="9905040" cy="1218600"/>
            </a:xfrm>
          </p:grpSpPr>
          <p:grpSp>
            <p:nvGrpSpPr>
              <p:cNvPr id="2020" name=""/>
              <p:cNvGrpSpPr/>
              <p:nvPr/>
            </p:nvGrpSpPr>
            <p:grpSpPr>
              <a:xfrm>
                <a:off x="-9360" y="6232680"/>
                <a:ext cx="9905040" cy="1218600"/>
                <a:chOff x="-9360" y="6232680"/>
                <a:chExt cx="9905040" cy="1218600"/>
              </a:xfrm>
            </p:grpSpPr>
            <p:sp>
              <p:nvSpPr>
                <p:cNvPr id="2021" name=""/>
                <p:cNvSpPr/>
                <p:nvPr/>
              </p:nvSpPr>
              <p:spPr>
                <a:xfrm>
                  <a:off x="-9360" y="6232680"/>
                  <a:ext cx="9905040" cy="609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ffcc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2216160" y="6232680"/>
                  <a:ext cx="10936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7560" y="6235560"/>
                  <a:ext cx="2779200" cy="60984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963360" y="6308640"/>
                  <a:ext cx="16027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>
                      <a:solidFill>
                        <a:srgbClr val="339933"/>
                      </a:solidFill>
                      <a:latin typeface="Arial Black"/>
                    </a:rPr>
                    <a:t>CET Govora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8455680" y="6308640"/>
                  <a:ext cx="1311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339933"/>
                      </a:solidFill>
                      <a:latin typeface="Arial"/>
                    </a:rPr>
                    <a:t>Noiembrie 200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26" name=""/>
                <p:cNvGrpSpPr/>
                <p:nvPr/>
              </p:nvGrpSpPr>
              <p:grpSpPr>
                <a:xfrm>
                  <a:off x="100440" y="6270480"/>
                  <a:ext cx="646920" cy="533520"/>
                  <a:chOff x="100440" y="6270480"/>
                  <a:chExt cx="646920" cy="533520"/>
                </a:xfrm>
              </p:grpSpPr>
              <p:sp>
                <p:nvSpPr>
                  <p:cNvPr id="2027" name=""/>
                  <p:cNvSpPr/>
                  <p:nvPr/>
                </p:nvSpPr>
                <p:spPr>
                  <a:xfrm>
                    <a:off x="219240" y="6438240"/>
                    <a:ext cx="371520" cy="251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8200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0" dir="0" blurRad="0" rotWithShape="0">
                      <a:srgbClr val="8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8" name=""/>
                  <p:cNvSpPr txBox="1"/>
                  <p:nvPr/>
                </p:nvSpPr>
                <p:spPr>
                  <a:xfrm>
                    <a:off x="100440" y="6683400"/>
                    <a:ext cx="25380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Go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029" name=""/>
                  <p:cNvSpPr txBox="1"/>
                  <p:nvPr/>
                </p:nvSpPr>
                <p:spPr>
                  <a:xfrm>
                    <a:off x="440280" y="6710400"/>
                    <a:ext cx="307080" cy="91440"/>
                  </a:xfrm>
                  <a:prstGeom prst="rect">
                    <a:avLst/>
                  </a:prstGeom>
                </p:spPr>
                <p:txBody>
                  <a:bodyPr wrap="none" lIns="90000" rIns="90000" tIns="45000" bIns="450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ora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030" name=""/>
                  <p:cNvSpPr/>
                  <p:nvPr/>
                </p:nvSpPr>
                <p:spPr>
                  <a:xfrm>
                    <a:off x="235800" y="6270480"/>
                    <a:ext cx="341640" cy="531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9" h="702">
                        <a:moveTo>
                          <a:pt x="132" y="178"/>
                        </a:moveTo>
                        <a:lnTo>
                          <a:pt x="0" y="437"/>
                        </a:lnTo>
                        <a:lnTo>
                          <a:pt x="220" y="438"/>
                        </a:lnTo>
                        <a:lnTo>
                          <a:pt x="151" y="582"/>
                        </a:lnTo>
                        <a:lnTo>
                          <a:pt x="190" y="581"/>
                        </a:lnTo>
                        <a:lnTo>
                          <a:pt x="162" y="636"/>
                        </a:lnTo>
                        <a:lnTo>
                          <a:pt x="160" y="635"/>
                        </a:lnTo>
                        <a:lnTo>
                          <a:pt x="156" y="606"/>
                        </a:lnTo>
                        <a:lnTo>
                          <a:pt x="125" y="606"/>
                        </a:lnTo>
                        <a:lnTo>
                          <a:pt x="150" y="702"/>
                        </a:lnTo>
                        <a:lnTo>
                          <a:pt x="339" y="364"/>
                        </a:lnTo>
                        <a:lnTo>
                          <a:pt x="119" y="364"/>
                        </a:lnTo>
                        <a:lnTo>
                          <a:pt x="210" y="176"/>
                        </a:lnTo>
                        <a:lnTo>
                          <a:pt x="264" y="177"/>
                        </a:lnTo>
                        <a:lnTo>
                          <a:pt x="252" y="135"/>
                        </a:lnTo>
                        <a:lnTo>
                          <a:pt x="190" y="136"/>
                        </a:lnTo>
                        <a:lnTo>
                          <a:pt x="207" y="106"/>
                        </a:lnTo>
                        <a:lnTo>
                          <a:pt x="246" y="106"/>
                        </a:lnTo>
                        <a:lnTo>
                          <a:pt x="244" y="78"/>
                        </a:lnTo>
                        <a:lnTo>
                          <a:pt x="220" y="77"/>
                        </a:lnTo>
                        <a:lnTo>
                          <a:pt x="231" y="54"/>
                        </a:lnTo>
                        <a:lnTo>
                          <a:pt x="264" y="56"/>
                        </a:lnTo>
                        <a:lnTo>
                          <a:pt x="281" y="18"/>
                        </a:lnTo>
                        <a:lnTo>
                          <a:pt x="227" y="20"/>
                        </a:lnTo>
                        <a:lnTo>
                          <a:pt x="223" y="0"/>
                        </a:lnTo>
                        <a:lnTo>
                          <a:pt x="97" y="178"/>
                        </a:lnTo>
                        <a:lnTo>
                          <a:pt x="132" y="178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round/>
                  </a:ln>
                  <a:effectLst>
                    <a:outerShdw dist="12600" dir="54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1" name=""/>
                  <p:cNvSpPr txBox="1"/>
                  <p:nvPr/>
                </p:nvSpPr>
                <p:spPr>
                  <a:xfrm>
                    <a:off x="202680" y="6277680"/>
                    <a:ext cx="158400" cy="1202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C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032" name=""/>
                  <p:cNvSpPr txBox="1"/>
                  <p:nvPr/>
                </p:nvSpPr>
                <p:spPr>
                  <a:xfrm>
                    <a:off x="535680" y="6287040"/>
                    <a:ext cx="15552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T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</p:grpSp>
          </p:grpSp>
          <p:sp>
            <p:nvSpPr>
              <p:cNvPr id="2033" name=""/>
              <p:cNvSpPr/>
              <p:nvPr/>
            </p:nvSpPr>
            <p:spPr>
              <a:xfrm>
                <a:off x="3475800" y="62913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4" name=""/>
            <p:cNvGrpSpPr/>
            <p:nvPr/>
          </p:nvGrpSpPr>
          <p:grpSpPr>
            <a:xfrm>
              <a:off x="703440" y="981000"/>
              <a:ext cx="9073800" cy="5085000"/>
              <a:chOff x="703440" y="981000"/>
              <a:chExt cx="9073800" cy="5085000"/>
            </a:xfrm>
          </p:grpSpPr>
          <p:grpSp>
            <p:nvGrpSpPr>
              <p:cNvPr id="2035" name=""/>
              <p:cNvGrpSpPr/>
              <p:nvPr/>
            </p:nvGrpSpPr>
            <p:grpSpPr>
              <a:xfrm>
                <a:off x="703440" y="981000"/>
                <a:ext cx="9073800" cy="4318200"/>
                <a:chOff x="703440" y="981000"/>
                <a:chExt cx="9073800" cy="4318200"/>
              </a:xfrm>
            </p:grpSpPr>
            <p:sp>
              <p:nvSpPr>
                <p:cNvPr id="2036" name=""/>
                <p:cNvSpPr/>
                <p:nvPr/>
              </p:nvSpPr>
              <p:spPr>
                <a:xfrm>
                  <a:off x="6392880" y="3141720"/>
                  <a:ext cx="3384360" cy="48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misie CO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Arial"/>
                    </a:rPr>
                    <a:t>2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in “Planul National de Alocare” pentru CET Govor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6383160" y="2171880"/>
                  <a:ext cx="30243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zerva de alocare pentru instalatii no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4,000,000 t pe 5 an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2205000" y="2298600"/>
                  <a:ext cx="3956040" cy="95724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1398600" y="4438800"/>
                  <a:ext cx="4816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1398600" y="3854520"/>
                  <a:ext cx="4816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1398600" y="3268800"/>
                  <a:ext cx="4816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1398600" y="2673360"/>
                  <a:ext cx="4816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1398600" y="2087640"/>
                  <a:ext cx="48164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1638360" y="2932200"/>
                  <a:ext cx="325440" cy="20923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2441520" y="2932200"/>
                  <a:ext cx="325440" cy="20923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3243240" y="3213000"/>
                  <a:ext cx="326880" cy="18115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4044960" y="3021120"/>
                  <a:ext cx="325440" cy="20034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4848120" y="1974960"/>
                  <a:ext cx="325440" cy="3049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5651640" y="1974960"/>
                  <a:ext cx="325440" cy="3049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 flipV="1">
                  <a:off x="1398600" y="1341000"/>
                  <a:ext cx="3240" cy="3683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1349280" y="5024520"/>
                  <a:ext cx="493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1349280" y="4438800"/>
                  <a:ext cx="493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1349280" y="3854520"/>
                  <a:ext cx="493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1349280" y="3268800"/>
                  <a:ext cx="493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1349280" y="2673360"/>
                  <a:ext cx="493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1349280" y="2087640"/>
                  <a:ext cx="4932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1349280" y="1503360"/>
                  <a:ext cx="493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1395360" y="5024520"/>
                  <a:ext cx="49150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V="1">
                  <a:off x="1398600" y="5024160"/>
                  <a:ext cx="3240" cy="44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V="1">
                  <a:off x="2201760" y="5024160"/>
                  <a:ext cx="1800" cy="44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V="1">
                  <a:off x="3005280" y="5024160"/>
                  <a:ext cx="1440" cy="44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V="1">
                  <a:off x="3807000" y="5024160"/>
                  <a:ext cx="2880" cy="44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V="1">
                  <a:off x="4610160" y="5024160"/>
                  <a:ext cx="3240" cy="44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V="1">
                  <a:off x="5411880" y="5024160"/>
                  <a:ext cx="1440" cy="44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V="1">
                  <a:off x="6161040" y="4989600"/>
                  <a:ext cx="3240" cy="792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1187640" y="493380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790920" y="4348080"/>
                  <a:ext cx="4564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0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703440" y="376380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,00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703440" y="317808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,50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703440" y="258300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,00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703440" y="199692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,50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703440" y="141444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,00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1623240" y="5146560"/>
                  <a:ext cx="2811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007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2426400" y="5146560"/>
                  <a:ext cx="2811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008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3229920" y="5146560"/>
                  <a:ext cx="2811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009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>
                  <a:off x="4033080" y="5146560"/>
                  <a:ext cx="2811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01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4834800" y="5146560"/>
                  <a:ext cx="2811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01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>
                  <a:off x="5636520" y="5146560"/>
                  <a:ext cx="2811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01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>
                  <a:off x="1384200" y="3267000"/>
                  <a:ext cx="508176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>
                  <a:off x="2205000" y="2289240"/>
                  <a:ext cx="403056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V="1">
                  <a:off x="2205000" y="2288880"/>
                  <a:ext cx="0" cy="270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V="1">
                  <a:off x="6161040" y="2288880"/>
                  <a:ext cx="0" cy="270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>
                  <a:off x="1495800" y="277164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,78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4735800" y="180648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,60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5527800" y="180648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,60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6105600" y="2295360"/>
                  <a:ext cx="36036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920880" y="981000"/>
                  <a:ext cx="115236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one CO</a:t>
                  </a:r>
                  <a:r>
                    <a:rPr b="1" lang="en-US" sz="12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/a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>
                  <a:off x="6321600" y="4869000"/>
                  <a:ext cx="4316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>
                  <a:off x="3934080" y="285264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,71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>
                  <a:off x="2359080" y="277164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,78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>
                  <a:off x="3108600" y="305928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,54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2" name=""/>
              <p:cNvSpPr/>
              <p:nvPr/>
            </p:nvSpPr>
            <p:spPr>
              <a:xfrm>
                <a:off x="5600880" y="5516640"/>
                <a:ext cx="396072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ret certificate emisii 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2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cca 25 EUR/ton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enalitati lipsa drepturi de emisii 100 EUR/ton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3" name=""/>
          <p:cNvGrpSpPr/>
          <p:nvPr/>
        </p:nvGrpSpPr>
        <p:grpSpPr>
          <a:xfrm>
            <a:off x="-9360" y="333360"/>
            <a:ext cx="9905040" cy="7117920"/>
            <a:chOff x="-9360" y="333360"/>
            <a:chExt cx="9905040" cy="7117920"/>
          </a:xfrm>
        </p:grpSpPr>
        <p:sp>
          <p:nvSpPr>
            <p:cNvPr id="2094" name=""/>
            <p:cNvSpPr/>
            <p:nvPr/>
          </p:nvSpPr>
          <p:spPr>
            <a:xfrm>
              <a:off x="631800" y="333360"/>
              <a:ext cx="8785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993300"/>
                  </a:solidFill>
                  <a:latin typeface="Arial"/>
                </a:rPr>
                <a:t>CERTIFICATE VERZ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5" name=""/>
            <p:cNvGrpSpPr/>
            <p:nvPr/>
          </p:nvGrpSpPr>
          <p:grpSpPr>
            <a:xfrm>
              <a:off x="-9360" y="6232680"/>
              <a:ext cx="9905040" cy="1218600"/>
              <a:chOff x="-9360" y="6232680"/>
              <a:chExt cx="9905040" cy="1218600"/>
            </a:xfrm>
          </p:grpSpPr>
          <p:grpSp>
            <p:nvGrpSpPr>
              <p:cNvPr id="2096" name=""/>
              <p:cNvGrpSpPr/>
              <p:nvPr/>
            </p:nvGrpSpPr>
            <p:grpSpPr>
              <a:xfrm>
                <a:off x="-9360" y="6232680"/>
                <a:ext cx="9905040" cy="1218600"/>
                <a:chOff x="-9360" y="6232680"/>
                <a:chExt cx="9905040" cy="1218600"/>
              </a:xfrm>
            </p:grpSpPr>
            <p:sp>
              <p:nvSpPr>
                <p:cNvPr id="2097" name=""/>
                <p:cNvSpPr/>
                <p:nvPr/>
              </p:nvSpPr>
              <p:spPr>
                <a:xfrm>
                  <a:off x="-9360" y="6232680"/>
                  <a:ext cx="9905040" cy="609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ffcc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2216160" y="6232680"/>
                  <a:ext cx="10936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7560" y="6235560"/>
                  <a:ext cx="2779200" cy="60984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963360" y="6308640"/>
                  <a:ext cx="16027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>
                      <a:solidFill>
                        <a:srgbClr val="339933"/>
                      </a:solidFill>
                      <a:latin typeface="Arial Black"/>
                    </a:rPr>
                    <a:t>CET Govora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8455680" y="6308640"/>
                  <a:ext cx="1311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339933"/>
                      </a:solidFill>
                      <a:latin typeface="Arial"/>
                    </a:rPr>
                    <a:t>Noiembrie 200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02" name=""/>
                <p:cNvGrpSpPr/>
                <p:nvPr/>
              </p:nvGrpSpPr>
              <p:grpSpPr>
                <a:xfrm>
                  <a:off x="100440" y="6270480"/>
                  <a:ext cx="646920" cy="533520"/>
                  <a:chOff x="100440" y="6270480"/>
                  <a:chExt cx="646920" cy="533520"/>
                </a:xfrm>
              </p:grpSpPr>
              <p:sp>
                <p:nvSpPr>
                  <p:cNvPr id="2103" name=""/>
                  <p:cNvSpPr/>
                  <p:nvPr/>
                </p:nvSpPr>
                <p:spPr>
                  <a:xfrm>
                    <a:off x="219240" y="6438240"/>
                    <a:ext cx="371520" cy="251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8200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0" dir="0" blurRad="0" rotWithShape="0">
                      <a:srgbClr val="8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4" name=""/>
                  <p:cNvSpPr txBox="1"/>
                  <p:nvPr/>
                </p:nvSpPr>
                <p:spPr>
                  <a:xfrm>
                    <a:off x="100440" y="6683400"/>
                    <a:ext cx="25380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Go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105" name=""/>
                  <p:cNvSpPr txBox="1"/>
                  <p:nvPr/>
                </p:nvSpPr>
                <p:spPr>
                  <a:xfrm>
                    <a:off x="440280" y="6710400"/>
                    <a:ext cx="307080" cy="91440"/>
                  </a:xfrm>
                  <a:prstGeom prst="rect">
                    <a:avLst/>
                  </a:prstGeom>
                </p:spPr>
                <p:txBody>
                  <a:bodyPr wrap="none" lIns="90000" rIns="90000" tIns="45000" bIns="450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ora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106" name=""/>
                  <p:cNvSpPr/>
                  <p:nvPr/>
                </p:nvSpPr>
                <p:spPr>
                  <a:xfrm>
                    <a:off x="235800" y="6270480"/>
                    <a:ext cx="341640" cy="531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9" h="702">
                        <a:moveTo>
                          <a:pt x="132" y="178"/>
                        </a:moveTo>
                        <a:lnTo>
                          <a:pt x="0" y="437"/>
                        </a:lnTo>
                        <a:lnTo>
                          <a:pt x="220" y="438"/>
                        </a:lnTo>
                        <a:lnTo>
                          <a:pt x="151" y="582"/>
                        </a:lnTo>
                        <a:lnTo>
                          <a:pt x="190" y="581"/>
                        </a:lnTo>
                        <a:lnTo>
                          <a:pt x="162" y="636"/>
                        </a:lnTo>
                        <a:lnTo>
                          <a:pt x="160" y="635"/>
                        </a:lnTo>
                        <a:lnTo>
                          <a:pt x="156" y="606"/>
                        </a:lnTo>
                        <a:lnTo>
                          <a:pt x="125" y="606"/>
                        </a:lnTo>
                        <a:lnTo>
                          <a:pt x="150" y="702"/>
                        </a:lnTo>
                        <a:lnTo>
                          <a:pt x="339" y="364"/>
                        </a:lnTo>
                        <a:lnTo>
                          <a:pt x="119" y="364"/>
                        </a:lnTo>
                        <a:lnTo>
                          <a:pt x="210" y="176"/>
                        </a:lnTo>
                        <a:lnTo>
                          <a:pt x="264" y="177"/>
                        </a:lnTo>
                        <a:lnTo>
                          <a:pt x="252" y="135"/>
                        </a:lnTo>
                        <a:lnTo>
                          <a:pt x="190" y="136"/>
                        </a:lnTo>
                        <a:lnTo>
                          <a:pt x="207" y="106"/>
                        </a:lnTo>
                        <a:lnTo>
                          <a:pt x="246" y="106"/>
                        </a:lnTo>
                        <a:lnTo>
                          <a:pt x="244" y="78"/>
                        </a:lnTo>
                        <a:lnTo>
                          <a:pt x="220" y="77"/>
                        </a:lnTo>
                        <a:lnTo>
                          <a:pt x="231" y="54"/>
                        </a:lnTo>
                        <a:lnTo>
                          <a:pt x="264" y="56"/>
                        </a:lnTo>
                        <a:lnTo>
                          <a:pt x="281" y="18"/>
                        </a:lnTo>
                        <a:lnTo>
                          <a:pt x="227" y="20"/>
                        </a:lnTo>
                        <a:lnTo>
                          <a:pt x="223" y="0"/>
                        </a:lnTo>
                        <a:lnTo>
                          <a:pt x="97" y="178"/>
                        </a:lnTo>
                        <a:lnTo>
                          <a:pt x="132" y="178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round/>
                  </a:ln>
                  <a:effectLst>
                    <a:outerShdw dist="12600" dir="54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7" name=""/>
                  <p:cNvSpPr txBox="1"/>
                  <p:nvPr/>
                </p:nvSpPr>
                <p:spPr>
                  <a:xfrm>
                    <a:off x="202680" y="6277680"/>
                    <a:ext cx="158400" cy="1202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C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108" name=""/>
                  <p:cNvSpPr txBox="1"/>
                  <p:nvPr/>
                </p:nvSpPr>
                <p:spPr>
                  <a:xfrm>
                    <a:off x="535680" y="6287040"/>
                    <a:ext cx="15552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T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</p:grpSp>
          </p:grpSp>
          <p:sp>
            <p:nvSpPr>
              <p:cNvPr id="2109" name=""/>
              <p:cNvSpPr/>
              <p:nvPr/>
            </p:nvSpPr>
            <p:spPr>
              <a:xfrm>
                <a:off x="3475800" y="62913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0" name=""/>
            <p:cNvGrpSpPr/>
            <p:nvPr/>
          </p:nvGrpSpPr>
          <p:grpSpPr>
            <a:xfrm>
              <a:off x="1279080" y="1380960"/>
              <a:ext cx="8249760" cy="4569480"/>
              <a:chOff x="1279080" y="1380960"/>
              <a:chExt cx="8249760" cy="4569480"/>
            </a:xfrm>
          </p:grpSpPr>
          <p:grpSp>
            <p:nvGrpSpPr>
              <p:cNvPr id="2111" name=""/>
              <p:cNvGrpSpPr/>
              <p:nvPr/>
            </p:nvGrpSpPr>
            <p:grpSpPr>
              <a:xfrm>
                <a:off x="6896160" y="2997360"/>
                <a:ext cx="2632680" cy="500760"/>
                <a:chOff x="6896160" y="2997360"/>
                <a:chExt cx="2632680" cy="500760"/>
              </a:xfrm>
            </p:grpSpPr>
            <p:sp>
              <p:nvSpPr>
                <p:cNvPr id="2112" name=""/>
                <p:cNvSpPr/>
                <p:nvPr/>
              </p:nvSpPr>
              <p:spPr>
                <a:xfrm>
                  <a:off x="6896160" y="3090960"/>
                  <a:ext cx="347760" cy="85680"/>
                </a:xfrm>
                <a:prstGeom prst="rect">
                  <a:avLst/>
                </a:prstGeom>
                <a:solidFill>
                  <a:srgbClr val="ff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6896160" y="3394080"/>
                  <a:ext cx="361800" cy="180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7029360" y="3357720"/>
                  <a:ext cx="81000" cy="73080"/>
                </a:xfrm>
                <a:custGeom>
                  <a:avLst/>
                  <a:gdLst/>
                  <a:ahLst/>
                  <a:rect l="l" t="t" r="r" b="b"/>
                  <a:pathLst>
                    <a:path w="51" h="46">
                      <a:moveTo>
                        <a:pt x="26" y="0"/>
                      </a:moveTo>
                      <a:lnTo>
                        <a:pt x="51" y="23"/>
                      </a:lnTo>
                      <a:lnTo>
                        <a:pt x="26" y="46"/>
                      </a:lnTo>
                      <a:lnTo>
                        <a:pt x="0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1260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7362360" y="3284640"/>
                  <a:ext cx="21664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ERTIFICATE VERZI (CV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7363800" y="2997360"/>
                  <a:ext cx="16221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NERGIE LIVRAT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7" name=""/>
              <p:cNvGrpSpPr/>
              <p:nvPr/>
            </p:nvGrpSpPr>
            <p:grpSpPr>
              <a:xfrm>
                <a:off x="1279080" y="1380960"/>
                <a:ext cx="6147000" cy="4569480"/>
                <a:chOff x="1279080" y="1380960"/>
                <a:chExt cx="6147000" cy="4569480"/>
              </a:xfrm>
            </p:grpSpPr>
            <p:sp>
              <p:nvSpPr>
                <p:cNvPr id="2118" name=""/>
                <p:cNvSpPr/>
                <p:nvPr/>
              </p:nvSpPr>
              <p:spPr>
                <a:xfrm>
                  <a:off x="1924200" y="4397400"/>
                  <a:ext cx="309240" cy="1236600"/>
                </a:xfrm>
                <a:prstGeom prst="rect">
                  <a:avLst/>
                </a:prstGeom>
                <a:solidFill>
                  <a:srgbClr val="ff9900"/>
                </a:solidFill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2687760" y="4397400"/>
                  <a:ext cx="295200" cy="1236600"/>
                </a:xfrm>
                <a:prstGeom prst="rect">
                  <a:avLst/>
                </a:prstGeom>
                <a:solidFill>
                  <a:srgbClr val="ff9900"/>
                </a:solidFill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3438360" y="4216320"/>
                  <a:ext cx="308160" cy="1417680"/>
                </a:xfrm>
                <a:prstGeom prst="rect">
                  <a:avLst/>
                </a:prstGeom>
                <a:solidFill>
                  <a:srgbClr val="ff9900"/>
                </a:solidFill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4202280" y="4216320"/>
                  <a:ext cx="295200" cy="1417680"/>
                </a:xfrm>
                <a:prstGeom prst="rect">
                  <a:avLst/>
                </a:prstGeom>
                <a:solidFill>
                  <a:srgbClr val="ff9900"/>
                </a:solidFill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4951440" y="3549600"/>
                  <a:ext cx="307800" cy="2084400"/>
                </a:xfrm>
                <a:prstGeom prst="rect">
                  <a:avLst/>
                </a:prstGeom>
                <a:solidFill>
                  <a:srgbClr val="ff9900"/>
                </a:solidFill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5715000" y="2216160"/>
                  <a:ext cx="295200" cy="3417840"/>
                </a:xfrm>
                <a:prstGeom prst="rect">
                  <a:avLst/>
                </a:prstGeom>
                <a:solidFill>
                  <a:srgbClr val="ff9900"/>
                </a:solidFill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1697040" y="1668600"/>
                  <a:ext cx="1440" cy="396540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1643040" y="5634000"/>
                  <a:ext cx="108000" cy="180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1643040" y="5257800"/>
                  <a:ext cx="108000" cy="144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1643040" y="4870440"/>
                  <a:ext cx="108000" cy="144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1643040" y="4494240"/>
                  <a:ext cx="108000" cy="144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1643040" y="4119480"/>
                  <a:ext cx="108000" cy="180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1643040" y="3743280"/>
                  <a:ext cx="108000" cy="180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1643040" y="3355920"/>
                  <a:ext cx="108000" cy="180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1643040" y="2979720"/>
                  <a:ext cx="108000" cy="144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1643040" y="2603520"/>
                  <a:ext cx="108000" cy="144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1643040" y="2216160"/>
                  <a:ext cx="108000" cy="144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1643040" y="1839960"/>
                  <a:ext cx="108000" cy="144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1697040" y="5634000"/>
                  <a:ext cx="45403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 flipV="1">
                  <a:off x="1697040" y="5584320"/>
                  <a:ext cx="1440" cy="9684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 flipV="1">
                  <a:off x="2460600" y="5584320"/>
                  <a:ext cx="1440" cy="9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 flipV="1">
                  <a:off x="3209760" y="5584320"/>
                  <a:ext cx="1800" cy="9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 flipV="1">
                  <a:off x="3973680" y="5584320"/>
                  <a:ext cx="1440" cy="9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 flipV="1">
                  <a:off x="4724280" y="5584320"/>
                  <a:ext cx="1800" cy="9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 flipV="1">
                  <a:off x="5487840" y="5584320"/>
                  <a:ext cx="1800" cy="9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 flipV="1">
                  <a:off x="6237360" y="5584320"/>
                  <a:ext cx="1440" cy="9684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6237360" y="1839960"/>
                  <a:ext cx="1440" cy="379404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6184800" y="5634000"/>
                  <a:ext cx="106560" cy="180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6184800" y="5160960"/>
                  <a:ext cx="106560" cy="144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6184800" y="4687920"/>
                  <a:ext cx="106560" cy="144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6184800" y="4216320"/>
                  <a:ext cx="106560" cy="180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6184800" y="3743280"/>
                  <a:ext cx="106560" cy="180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6184800" y="3259080"/>
                  <a:ext cx="106560" cy="180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6184800" y="2786040"/>
                  <a:ext cx="106560" cy="144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6184800" y="2313000"/>
                  <a:ext cx="106560" cy="144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6184800" y="1839960"/>
                  <a:ext cx="106560" cy="144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2071800" y="2082960"/>
                  <a:ext cx="3790800" cy="3430440"/>
                </a:xfrm>
                <a:custGeom>
                  <a:avLst/>
                  <a:gdLst/>
                  <a:ahLst/>
                  <a:rect l="l" t="t" r="r" b="b"/>
                  <a:pathLst>
                    <a:path w="283" h="283">
                      <a:moveTo>
                        <a:pt x="0" y="283"/>
                      </a:moveTo>
                      <a:lnTo>
                        <a:pt x="57" y="264"/>
                      </a:lnTo>
                      <a:lnTo>
                        <a:pt x="113" y="240"/>
                      </a:lnTo>
                      <a:lnTo>
                        <a:pt x="170" y="219"/>
                      </a:lnTo>
                      <a:lnTo>
                        <a:pt x="226" y="156"/>
                      </a:lnTo>
                      <a:lnTo>
                        <a:pt x="283" y="0"/>
                      </a:lnTo>
                    </a:path>
                  </a:pathLst>
                </a:custGeom>
                <a:noFill/>
                <a:ln w="3816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2031840" y="5477040"/>
                  <a:ext cx="81000" cy="71280"/>
                </a:xfrm>
                <a:custGeom>
                  <a:avLst/>
                  <a:gdLst/>
                  <a:ahLst/>
                  <a:rect l="l" t="t" r="r" b="b"/>
                  <a:pathLst>
                    <a:path w="51" h="45">
                      <a:moveTo>
                        <a:pt x="25" y="0"/>
                      </a:moveTo>
                      <a:lnTo>
                        <a:pt x="51" y="23"/>
                      </a:lnTo>
                      <a:lnTo>
                        <a:pt x="25" y="45"/>
                      </a:lnTo>
                      <a:lnTo>
                        <a:pt x="0" y="2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1260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2795760" y="5246640"/>
                  <a:ext cx="80640" cy="71640"/>
                </a:xfrm>
                <a:custGeom>
                  <a:avLst/>
                  <a:gdLst/>
                  <a:ahLst/>
                  <a:rect l="l" t="t" r="r" b="b"/>
                  <a:pathLst>
                    <a:path w="51" h="45">
                      <a:moveTo>
                        <a:pt x="25" y="0"/>
                      </a:moveTo>
                      <a:lnTo>
                        <a:pt x="51" y="23"/>
                      </a:lnTo>
                      <a:lnTo>
                        <a:pt x="25" y="45"/>
                      </a:lnTo>
                      <a:lnTo>
                        <a:pt x="0" y="2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1260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3544920" y="4954680"/>
                  <a:ext cx="81000" cy="73080"/>
                </a:xfrm>
                <a:custGeom>
                  <a:avLst/>
                  <a:gdLst/>
                  <a:ahLst/>
                  <a:rect l="l" t="t" r="r" b="b"/>
                  <a:pathLst>
                    <a:path w="51" h="46">
                      <a:moveTo>
                        <a:pt x="26" y="0"/>
                      </a:moveTo>
                      <a:lnTo>
                        <a:pt x="51" y="23"/>
                      </a:lnTo>
                      <a:lnTo>
                        <a:pt x="26" y="46"/>
                      </a:lnTo>
                      <a:lnTo>
                        <a:pt x="0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1260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4308480" y="4700520"/>
                  <a:ext cx="81000" cy="73080"/>
                </a:xfrm>
                <a:custGeom>
                  <a:avLst/>
                  <a:gdLst/>
                  <a:ahLst/>
                  <a:rect l="l" t="t" r="r" b="b"/>
                  <a:pathLst>
                    <a:path w="51" h="46">
                      <a:moveTo>
                        <a:pt x="26" y="0"/>
                      </a:moveTo>
                      <a:lnTo>
                        <a:pt x="51" y="23"/>
                      </a:lnTo>
                      <a:lnTo>
                        <a:pt x="26" y="46"/>
                      </a:lnTo>
                      <a:lnTo>
                        <a:pt x="0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1260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5059440" y="3936960"/>
                  <a:ext cx="81000" cy="73080"/>
                </a:xfrm>
                <a:custGeom>
                  <a:avLst/>
                  <a:gdLst/>
                  <a:ahLst/>
                  <a:rect l="l" t="t" r="r" b="b"/>
                  <a:pathLst>
                    <a:path w="51" h="46">
                      <a:moveTo>
                        <a:pt x="25" y="0"/>
                      </a:moveTo>
                      <a:lnTo>
                        <a:pt x="51" y="23"/>
                      </a:lnTo>
                      <a:lnTo>
                        <a:pt x="25" y="46"/>
                      </a:lnTo>
                      <a:lnTo>
                        <a:pt x="0" y="2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1260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5823000" y="2046240"/>
                  <a:ext cx="81000" cy="73080"/>
                </a:xfrm>
                <a:custGeom>
                  <a:avLst/>
                  <a:gdLst/>
                  <a:ahLst/>
                  <a:rect l="l" t="t" r="r" b="b"/>
                  <a:pathLst>
                    <a:path w="51" h="46">
                      <a:moveTo>
                        <a:pt x="25" y="0"/>
                      </a:moveTo>
                      <a:lnTo>
                        <a:pt x="51" y="23"/>
                      </a:lnTo>
                      <a:lnTo>
                        <a:pt x="25" y="46"/>
                      </a:lnTo>
                      <a:lnTo>
                        <a:pt x="0" y="2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1260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1469160" y="55371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1374840" y="51609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1374840" y="47736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1374840" y="43974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1374840" y="402264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1279080" y="364644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1279080" y="325908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1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1279080" y="288288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1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1279080" y="250668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1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1279080" y="211932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1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1279080" y="174312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2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1877040" y="5767560"/>
                  <a:ext cx="342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00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6371640" y="553716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66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6371640" y="506412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66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6371640" y="459108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66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6371640" y="411948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66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6371640" y="364644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66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6371280" y="3162240"/>
                  <a:ext cx="198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66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6371280" y="2689200"/>
                  <a:ext cx="198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6600"/>
                      </a:solidFill>
                      <a:latin typeface="Arial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6371280" y="2216160"/>
                  <a:ext cx="198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6600"/>
                      </a:solidFill>
                      <a:latin typeface="Arial"/>
                    </a:rPr>
                    <a:t>1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6371280" y="1743120"/>
                  <a:ext cx="198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6600"/>
                      </a:solidFill>
                      <a:latin typeface="Arial"/>
                    </a:rPr>
                    <a:t>1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2635920" y="5767560"/>
                  <a:ext cx="342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00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3427920" y="5767560"/>
                  <a:ext cx="342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007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4218480" y="5767560"/>
                  <a:ext cx="342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008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4939200" y="5767560"/>
                  <a:ext cx="342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009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>
                  <a:off x="5731560" y="5767560"/>
                  <a:ext cx="342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0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>
                  <a:off x="1554120" y="1380960"/>
                  <a:ext cx="844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993300"/>
                      </a:solidFill>
                      <a:latin typeface="Arial"/>
                    </a:rPr>
                    <a:t>MW livrati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>
                  <a:off x="5899680" y="1528920"/>
                  <a:ext cx="152640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6600"/>
                      </a:solidFill>
                      <a:latin typeface="Arial"/>
                    </a:rPr>
                    <a:t>MW energie verd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9" name=""/>
              <p:cNvGrpSpPr/>
              <p:nvPr/>
            </p:nvGrpSpPr>
            <p:grpSpPr>
              <a:xfrm>
                <a:off x="7323480" y="4076640"/>
                <a:ext cx="1549080" cy="1067760"/>
                <a:chOff x="7323480" y="4076640"/>
                <a:chExt cx="1549080" cy="1067760"/>
              </a:xfrm>
            </p:grpSpPr>
            <p:sp>
              <p:nvSpPr>
                <p:cNvPr id="2190" name=""/>
                <p:cNvSpPr/>
                <p:nvPr/>
              </p:nvSpPr>
              <p:spPr>
                <a:xfrm>
                  <a:off x="7367760" y="4076640"/>
                  <a:ext cx="1319040" cy="42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et CV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4 – 42 EUR/CV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>
                  <a:off x="7323480" y="4717800"/>
                  <a:ext cx="1549080" cy="42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enalitati lipsa CV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63 – 84 EUR/CV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2" name=""/>
          <p:cNvGrpSpPr/>
          <p:nvPr/>
        </p:nvGrpSpPr>
        <p:grpSpPr>
          <a:xfrm>
            <a:off x="-9360" y="333360"/>
            <a:ext cx="9905040" cy="7117920"/>
            <a:chOff x="-9360" y="333360"/>
            <a:chExt cx="9905040" cy="7117920"/>
          </a:xfrm>
        </p:grpSpPr>
        <p:sp>
          <p:nvSpPr>
            <p:cNvPr id="2193" name=""/>
            <p:cNvSpPr/>
            <p:nvPr/>
          </p:nvSpPr>
          <p:spPr>
            <a:xfrm>
              <a:off x="631800" y="333360"/>
              <a:ext cx="8785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993300"/>
                  </a:solidFill>
                  <a:latin typeface="Arial"/>
                </a:rPr>
                <a:t>EVALUARE COSTUR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4" name=""/>
            <p:cNvGrpSpPr/>
            <p:nvPr/>
          </p:nvGrpSpPr>
          <p:grpSpPr>
            <a:xfrm>
              <a:off x="-9360" y="6232680"/>
              <a:ext cx="9905040" cy="1218600"/>
              <a:chOff x="-9360" y="6232680"/>
              <a:chExt cx="9905040" cy="1218600"/>
            </a:xfrm>
          </p:grpSpPr>
          <p:grpSp>
            <p:nvGrpSpPr>
              <p:cNvPr id="2195" name=""/>
              <p:cNvGrpSpPr/>
              <p:nvPr/>
            </p:nvGrpSpPr>
            <p:grpSpPr>
              <a:xfrm>
                <a:off x="-9360" y="6232680"/>
                <a:ext cx="9905040" cy="1218600"/>
                <a:chOff x="-9360" y="6232680"/>
                <a:chExt cx="9905040" cy="1218600"/>
              </a:xfrm>
            </p:grpSpPr>
            <p:sp>
              <p:nvSpPr>
                <p:cNvPr id="2196" name=""/>
                <p:cNvSpPr/>
                <p:nvPr/>
              </p:nvSpPr>
              <p:spPr>
                <a:xfrm>
                  <a:off x="-9360" y="6232680"/>
                  <a:ext cx="9905040" cy="609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ffcc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>
                  <a:off x="2216160" y="6232680"/>
                  <a:ext cx="10936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>
                  <a:off x="7560" y="6235560"/>
                  <a:ext cx="2779200" cy="60984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>
                  <a:off x="963360" y="6308640"/>
                  <a:ext cx="16027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>
                      <a:solidFill>
                        <a:srgbClr val="339933"/>
                      </a:solidFill>
                      <a:latin typeface="Arial Black"/>
                    </a:rPr>
                    <a:t>CET Govora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8455680" y="6308640"/>
                  <a:ext cx="1311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339933"/>
                      </a:solidFill>
                      <a:latin typeface="Arial"/>
                    </a:rPr>
                    <a:t>Noiembrie 200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01" name=""/>
                <p:cNvGrpSpPr/>
                <p:nvPr/>
              </p:nvGrpSpPr>
              <p:grpSpPr>
                <a:xfrm>
                  <a:off x="100440" y="6270480"/>
                  <a:ext cx="646920" cy="533520"/>
                  <a:chOff x="100440" y="6270480"/>
                  <a:chExt cx="646920" cy="533520"/>
                </a:xfrm>
              </p:grpSpPr>
              <p:sp>
                <p:nvSpPr>
                  <p:cNvPr id="2202" name=""/>
                  <p:cNvSpPr/>
                  <p:nvPr/>
                </p:nvSpPr>
                <p:spPr>
                  <a:xfrm>
                    <a:off x="219240" y="6438240"/>
                    <a:ext cx="371520" cy="251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8200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0" dir="0" blurRad="0" rotWithShape="0">
                      <a:srgbClr val="8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3" name=""/>
                  <p:cNvSpPr txBox="1"/>
                  <p:nvPr/>
                </p:nvSpPr>
                <p:spPr>
                  <a:xfrm>
                    <a:off x="100440" y="6683400"/>
                    <a:ext cx="25380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Go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204" name=""/>
                  <p:cNvSpPr txBox="1"/>
                  <p:nvPr/>
                </p:nvSpPr>
                <p:spPr>
                  <a:xfrm>
                    <a:off x="440280" y="6710400"/>
                    <a:ext cx="307080" cy="91440"/>
                  </a:xfrm>
                  <a:prstGeom prst="rect">
                    <a:avLst/>
                  </a:prstGeom>
                </p:spPr>
                <p:txBody>
                  <a:bodyPr wrap="none" lIns="90000" rIns="90000" tIns="45000" bIns="450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ora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205" name=""/>
                  <p:cNvSpPr/>
                  <p:nvPr/>
                </p:nvSpPr>
                <p:spPr>
                  <a:xfrm>
                    <a:off x="235800" y="6270480"/>
                    <a:ext cx="341640" cy="531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9" h="702">
                        <a:moveTo>
                          <a:pt x="132" y="178"/>
                        </a:moveTo>
                        <a:lnTo>
                          <a:pt x="0" y="437"/>
                        </a:lnTo>
                        <a:lnTo>
                          <a:pt x="220" y="438"/>
                        </a:lnTo>
                        <a:lnTo>
                          <a:pt x="151" y="582"/>
                        </a:lnTo>
                        <a:lnTo>
                          <a:pt x="190" y="581"/>
                        </a:lnTo>
                        <a:lnTo>
                          <a:pt x="162" y="636"/>
                        </a:lnTo>
                        <a:lnTo>
                          <a:pt x="160" y="635"/>
                        </a:lnTo>
                        <a:lnTo>
                          <a:pt x="156" y="606"/>
                        </a:lnTo>
                        <a:lnTo>
                          <a:pt x="125" y="606"/>
                        </a:lnTo>
                        <a:lnTo>
                          <a:pt x="150" y="702"/>
                        </a:lnTo>
                        <a:lnTo>
                          <a:pt x="339" y="364"/>
                        </a:lnTo>
                        <a:lnTo>
                          <a:pt x="119" y="364"/>
                        </a:lnTo>
                        <a:lnTo>
                          <a:pt x="210" y="176"/>
                        </a:lnTo>
                        <a:lnTo>
                          <a:pt x="264" y="177"/>
                        </a:lnTo>
                        <a:lnTo>
                          <a:pt x="252" y="135"/>
                        </a:lnTo>
                        <a:lnTo>
                          <a:pt x="190" y="136"/>
                        </a:lnTo>
                        <a:lnTo>
                          <a:pt x="207" y="106"/>
                        </a:lnTo>
                        <a:lnTo>
                          <a:pt x="246" y="106"/>
                        </a:lnTo>
                        <a:lnTo>
                          <a:pt x="244" y="78"/>
                        </a:lnTo>
                        <a:lnTo>
                          <a:pt x="220" y="77"/>
                        </a:lnTo>
                        <a:lnTo>
                          <a:pt x="231" y="54"/>
                        </a:lnTo>
                        <a:lnTo>
                          <a:pt x="264" y="56"/>
                        </a:lnTo>
                        <a:lnTo>
                          <a:pt x="281" y="18"/>
                        </a:lnTo>
                        <a:lnTo>
                          <a:pt x="227" y="20"/>
                        </a:lnTo>
                        <a:lnTo>
                          <a:pt x="223" y="0"/>
                        </a:lnTo>
                        <a:lnTo>
                          <a:pt x="97" y="178"/>
                        </a:lnTo>
                        <a:lnTo>
                          <a:pt x="132" y="178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round/>
                  </a:ln>
                  <a:effectLst>
                    <a:outerShdw dist="12600" dir="54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6" name=""/>
                  <p:cNvSpPr txBox="1"/>
                  <p:nvPr/>
                </p:nvSpPr>
                <p:spPr>
                  <a:xfrm>
                    <a:off x="202680" y="6277680"/>
                    <a:ext cx="158400" cy="1202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C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207" name=""/>
                  <p:cNvSpPr txBox="1"/>
                  <p:nvPr/>
                </p:nvSpPr>
                <p:spPr>
                  <a:xfrm>
                    <a:off x="535680" y="6287040"/>
                    <a:ext cx="15552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T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</p:grpSp>
          </p:grpSp>
          <p:sp>
            <p:nvSpPr>
              <p:cNvPr id="2208" name=""/>
              <p:cNvSpPr/>
              <p:nvPr/>
            </p:nvSpPr>
            <p:spPr>
              <a:xfrm>
                <a:off x="3475800" y="62913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9" name=""/>
            <p:cNvGrpSpPr/>
            <p:nvPr/>
          </p:nvGrpSpPr>
          <p:grpSpPr>
            <a:xfrm>
              <a:off x="488880" y="981000"/>
              <a:ext cx="8921880" cy="4824360"/>
              <a:chOff x="488880" y="981000"/>
              <a:chExt cx="8921880" cy="4824360"/>
            </a:xfrm>
          </p:grpSpPr>
          <p:sp>
            <p:nvSpPr>
              <p:cNvPr id="2210" name=""/>
              <p:cNvSpPr/>
              <p:nvPr/>
            </p:nvSpPr>
            <p:spPr>
              <a:xfrm>
                <a:off x="495360" y="5318280"/>
                <a:ext cx="95400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8267760" y="5014800"/>
                <a:ext cx="1143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6788160" y="5014800"/>
                <a:ext cx="14796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.1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614920" y="5014800"/>
                <a:ext cx="117324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.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1449360" y="5014800"/>
                <a:ext cx="416556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lte cheltuiel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495360" y="5014800"/>
                <a:ext cx="954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8267760" y="4711680"/>
                <a:ext cx="1143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6788160" y="4711680"/>
                <a:ext cx="14796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5614920" y="4711680"/>
                <a:ext cx="117324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1449360" y="4711680"/>
                <a:ext cx="416556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iectare, consultanta Management proiec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495360" y="4711680"/>
                <a:ext cx="954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8267760" y="4408560"/>
                <a:ext cx="1143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788160" y="4408560"/>
                <a:ext cx="14796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5614920" y="4408560"/>
                <a:ext cx="117324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1449360" y="4408560"/>
                <a:ext cx="416556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abilitare sistem termofica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495360" y="4408560"/>
                <a:ext cx="954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8267760" y="4105440"/>
                <a:ext cx="1143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788160" y="4105440"/>
                <a:ext cx="14796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.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5614920" y="4105440"/>
                <a:ext cx="117324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.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1449360" y="4105440"/>
                <a:ext cx="416556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dernizare preparare AF termofica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495360" y="4105440"/>
                <a:ext cx="954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8267760" y="3801960"/>
                <a:ext cx="1143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788160" y="3801960"/>
                <a:ext cx="14796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5614920" y="3801960"/>
                <a:ext cx="117324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1449360" y="3801960"/>
                <a:ext cx="416556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dernizarea statiei de tratare chimi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495360" y="3801960"/>
                <a:ext cx="954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8267760" y="3498840"/>
                <a:ext cx="1143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788160" y="3498840"/>
                <a:ext cx="14796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5614920" y="3498840"/>
                <a:ext cx="117324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1449360" y="3498840"/>
                <a:ext cx="416556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istemul de racire tehnologi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495360" y="3498840"/>
                <a:ext cx="954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8267760" y="3195720"/>
                <a:ext cx="1143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6788160" y="3195720"/>
                <a:ext cx="14796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5614920" y="3195720"/>
                <a:ext cx="117324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1449360" y="3195720"/>
                <a:ext cx="416556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dernizare turbine existen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495360" y="3195720"/>
                <a:ext cx="954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8267760" y="2892600"/>
                <a:ext cx="1143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6788160" y="2892600"/>
                <a:ext cx="14796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5614920" y="2892600"/>
                <a:ext cx="117324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1449360" y="2892600"/>
                <a:ext cx="416556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stalare turbine no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495360" y="2892600"/>
                <a:ext cx="954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8267760" y="2589120"/>
                <a:ext cx="1143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6788160" y="2589120"/>
                <a:ext cx="14796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5614920" y="2589120"/>
                <a:ext cx="117324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1449360" y="2589120"/>
                <a:ext cx="416556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ospodarie carbu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495360" y="2589120"/>
                <a:ext cx="954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8267760" y="2286000"/>
                <a:ext cx="1143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6788160" y="2286000"/>
                <a:ext cx="14796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5614920" y="2286000"/>
                <a:ext cx="117324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1449360" y="2286000"/>
                <a:ext cx="416556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pozite de cenus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495360" y="2286000"/>
                <a:ext cx="954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8267760" y="1982880"/>
                <a:ext cx="1143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6.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6788160" y="1982880"/>
                <a:ext cx="14796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5614920" y="1982880"/>
                <a:ext cx="117324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6.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449360" y="1982880"/>
                <a:ext cx="416556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ecrofiltre si desulfura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495360" y="1982880"/>
                <a:ext cx="954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8267760" y="1679400"/>
                <a:ext cx="1143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6788160" y="1679400"/>
                <a:ext cx="14796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5614920" y="1679400"/>
                <a:ext cx="117324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1449360" y="1679400"/>
                <a:ext cx="416556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dernizare caza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495360" y="1679400"/>
                <a:ext cx="954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8267760" y="1376280"/>
                <a:ext cx="1143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ediu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6788160" y="1376280"/>
                <a:ext cx="14796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ficient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6788160" y="981000"/>
                <a:ext cx="26226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meniu de aplicabilita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5614920" y="981000"/>
                <a:ext cx="1173240" cy="69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ilioane EU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1449360" y="981000"/>
                <a:ext cx="4165560" cy="69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numire proiec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495360" y="981000"/>
                <a:ext cx="954000" cy="69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r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495360" y="98100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495360" y="981000"/>
                <a:ext cx="0" cy="433728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9410760" y="981000"/>
                <a:ext cx="0" cy="433728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495360" y="167940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1449360" y="981000"/>
                <a:ext cx="0" cy="433728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5614920" y="981000"/>
                <a:ext cx="0" cy="433728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6788160" y="981000"/>
                <a:ext cx="0" cy="433728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8267760" y="1376280"/>
                <a:ext cx="0" cy="394200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6788160" y="1376280"/>
                <a:ext cx="26226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495360" y="198288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495360" y="228600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495360" y="258912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495360" y="289260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495360" y="319572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495360" y="349884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495360" y="380196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495360" y="410544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495360" y="440856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495360" y="471168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495360" y="501480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495360" y="531828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5673600" y="5373720"/>
                <a:ext cx="100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~ 15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7040520" y="5373720"/>
                <a:ext cx="100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~ 9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8337600" y="5373720"/>
                <a:ext cx="100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~ 6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488880" y="5373720"/>
                <a:ext cx="100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OTA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2" name=""/>
          <p:cNvGrpSpPr/>
          <p:nvPr/>
        </p:nvGrpSpPr>
        <p:grpSpPr>
          <a:xfrm>
            <a:off x="-9360" y="503280"/>
            <a:ext cx="9905040" cy="6948000"/>
            <a:chOff x="-9360" y="503280"/>
            <a:chExt cx="9905040" cy="6948000"/>
          </a:xfrm>
        </p:grpSpPr>
        <p:sp>
          <p:nvSpPr>
            <p:cNvPr id="2303" name=""/>
            <p:cNvSpPr/>
            <p:nvPr/>
          </p:nvSpPr>
          <p:spPr>
            <a:xfrm>
              <a:off x="163440" y="503280"/>
              <a:ext cx="8785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993300"/>
                  </a:solidFill>
                  <a:latin typeface="Arial"/>
                </a:rPr>
                <a:t>SCHEMA  DE  FINANTARE  PROIEC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4" name=""/>
            <p:cNvGrpSpPr/>
            <p:nvPr/>
          </p:nvGrpSpPr>
          <p:grpSpPr>
            <a:xfrm>
              <a:off x="-9360" y="1916280"/>
              <a:ext cx="9905040" cy="5535000"/>
              <a:chOff x="-9360" y="1916280"/>
              <a:chExt cx="9905040" cy="5535000"/>
            </a:xfrm>
          </p:grpSpPr>
          <p:sp>
            <p:nvSpPr>
              <p:cNvPr id="2305" name=""/>
              <p:cNvSpPr/>
              <p:nvPr/>
            </p:nvSpPr>
            <p:spPr>
              <a:xfrm>
                <a:off x="825840" y="1916280"/>
                <a:ext cx="3841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3300"/>
                    </a:solidFill>
                    <a:latin typeface="Arial"/>
                  </a:rPr>
                  <a:t>TOTAL INVESTITIE 150 mil EU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6" name=""/>
              <p:cNvGrpSpPr/>
              <p:nvPr/>
            </p:nvGrpSpPr>
            <p:grpSpPr>
              <a:xfrm>
                <a:off x="684360" y="2421000"/>
                <a:ext cx="3635280" cy="2795400"/>
                <a:chOff x="684360" y="2421000"/>
                <a:chExt cx="3635280" cy="2795400"/>
              </a:xfrm>
            </p:grpSpPr>
            <p:sp>
              <p:nvSpPr>
                <p:cNvPr id="2307" name=""/>
                <p:cNvSpPr/>
                <p:nvPr/>
              </p:nvSpPr>
              <p:spPr>
                <a:xfrm>
                  <a:off x="2714760" y="2421000"/>
                  <a:ext cx="1027080" cy="1096920"/>
                </a:xfrm>
                <a:custGeom>
                  <a:avLst/>
                  <a:gdLst/>
                  <a:ahLst/>
                  <a:rect l="l" t="t" r="r" b="b"/>
                  <a:pathLst>
                    <a:path w="89" h="95">
                      <a:moveTo>
                        <a:pt x="88" y="95"/>
                      </a:moveTo>
                      <a:cubicBezTo>
                        <a:pt x="88" y="93"/>
                        <a:pt x="89" y="91"/>
                        <a:pt x="89" y="89"/>
                      </a:cubicBezTo>
                      <a:cubicBezTo>
                        <a:pt x="89" y="40"/>
                        <a:pt x="49" y="1"/>
                        <a:pt x="0" y="1"/>
                      </a:cubicBezTo>
                      <a:cubicBezTo>
                        <a:pt x="0" y="0"/>
                        <a:pt x="0" y="1"/>
                        <a:pt x="0" y="1"/>
                      </a:cubicBezTo>
                      <a:lnTo>
                        <a:pt x="0" y="89"/>
                      </a:lnTo>
                      <a:lnTo>
                        <a:pt x="88" y="95"/>
                      </a:lnTo>
                      <a:close/>
                    </a:path>
                  </a:pathLst>
                </a:custGeom>
                <a:solidFill>
                  <a:srgbClr val="9999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>
                  <a:off x="2784600" y="3678120"/>
                  <a:ext cx="1015920" cy="371520"/>
                </a:xfrm>
                <a:custGeom>
                  <a:avLst/>
                  <a:gdLst/>
                  <a:ahLst/>
                  <a:rect l="l" t="t" r="r" b="b"/>
                  <a:pathLst>
                    <a:path w="88" h="32">
                      <a:moveTo>
                        <a:pt x="83" y="32"/>
                      </a:moveTo>
                      <a:cubicBezTo>
                        <a:pt x="86" y="23"/>
                        <a:pt x="88" y="15"/>
                        <a:pt x="88" y="6"/>
                      </a:cubicBezTo>
                      <a:lnTo>
                        <a:pt x="0" y="0"/>
                      </a:lnTo>
                      <a:lnTo>
                        <a:pt x="83" y="32"/>
                      </a:lnTo>
                      <a:close/>
                    </a:path>
                  </a:pathLst>
                </a:custGeom>
                <a:solidFill>
                  <a:srgbClr val="9933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2714760" y="3805200"/>
                  <a:ext cx="958680" cy="960480"/>
                </a:xfrm>
                <a:custGeom>
                  <a:avLst/>
                  <a:gdLst/>
                  <a:ahLst/>
                  <a:rect l="l" t="t" r="r" b="b"/>
                  <a:pathLst>
                    <a:path w="83" h="83">
                      <a:moveTo>
                        <a:pt x="30" y="83"/>
                      </a:moveTo>
                      <a:cubicBezTo>
                        <a:pt x="54" y="75"/>
                        <a:pt x="73" y="56"/>
                        <a:pt x="83" y="32"/>
                      </a:cubicBezTo>
                      <a:lnTo>
                        <a:pt x="0" y="0"/>
                      </a:lnTo>
                      <a:lnTo>
                        <a:pt x="30" y="8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>
                  <a:off x="1814400" y="3876840"/>
                  <a:ext cx="1016280" cy="1015920"/>
                </a:xfrm>
                <a:custGeom>
                  <a:avLst/>
                  <a:gdLst/>
                  <a:ahLst/>
                  <a:rect l="l" t="t" r="r" b="b"/>
                  <a:pathLst>
                    <a:path w="88" h="88">
                      <a:moveTo>
                        <a:pt x="0" y="67"/>
                      </a:moveTo>
                      <a:cubicBezTo>
                        <a:pt x="16" y="81"/>
                        <a:pt x="37" y="88"/>
                        <a:pt x="58" y="88"/>
                      </a:cubicBezTo>
                      <a:cubicBezTo>
                        <a:pt x="68" y="88"/>
                        <a:pt x="78" y="87"/>
                        <a:pt x="88" y="83"/>
                      </a:cubicBezTo>
                      <a:lnTo>
                        <a:pt x="58" y="0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>
                  <a:off x="1317600" y="3759120"/>
                  <a:ext cx="993960" cy="774720"/>
                </a:xfrm>
                <a:custGeom>
                  <a:avLst/>
                  <a:gdLst/>
                  <a:ahLst/>
                  <a:rect l="l" t="t" r="r" b="b"/>
                  <a:pathLst>
                    <a:path w="86" h="67">
                      <a:moveTo>
                        <a:pt x="0" y="21"/>
                      </a:moveTo>
                      <a:cubicBezTo>
                        <a:pt x="4" y="39"/>
                        <a:pt x="14" y="55"/>
                        <a:pt x="28" y="67"/>
                      </a:cubicBezTo>
                      <a:lnTo>
                        <a:pt x="86" y="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6600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1260360" y="3657600"/>
                  <a:ext cx="1016280" cy="241200"/>
                </a:xfrm>
                <a:custGeom>
                  <a:avLst/>
                  <a:gdLst/>
                  <a:ahLst/>
                  <a:rect l="l" t="t" r="r" b="b"/>
                  <a:pathLst>
                    <a:path w="88" h="21">
                      <a:moveTo>
                        <a:pt x="0" y="2"/>
                      </a:moveTo>
                      <a:cubicBezTo>
                        <a:pt x="0" y="9"/>
                        <a:pt x="1" y="15"/>
                        <a:pt x="2" y="21"/>
                      </a:cubicBezTo>
                      <a:lnTo>
                        <a:pt x="88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>
                  <a:off x="1317600" y="2433600"/>
                  <a:ext cx="1027080" cy="1038240"/>
                </a:xfrm>
                <a:custGeom>
                  <a:avLst/>
                  <a:gdLst/>
                  <a:ahLst/>
                  <a:rect l="l" t="t" r="r" b="b"/>
                  <a:pathLst>
                    <a:path w="89" h="90">
                      <a:moveTo>
                        <a:pt x="89" y="0"/>
                      </a:moveTo>
                      <a:cubicBezTo>
                        <a:pt x="40" y="0"/>
                        <a:pt x="1" y="39"/>
                        <a:pt x="1" y="88"/>
                      </a:cubicBezTo>
                      <a:cubicBezTo>
                        <a:pt x="0" y="89"/>
                        <a:pt x="1" y="90"/>
                        <a:pt x="1" y="90"/>
                      </a:cubicBezTo>
                      <a:lnTo>
                        <a:pt x="89" y="88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0066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>
                  <a:off x="3710160" y="2637000"/>
                  <a:ext cx="5205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6 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>
                  <a:off x="3925800" y="3789360"/>
                  <a:ext cx="3938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5 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>
                  <a:off x="3565440" y="4510080"/>
                  <a:ext cx="5205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3 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2130480" y="4941720"/>
                  <a:ext cx="5205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7 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819000" y="4361040"/>
                  <a:ext cx="5842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0 %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>
                  <a:off x="684360" y="3718080"/>
                  <a:ext cx="3938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 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>
                  <a:off x="757080" y="2709720"/>
                  <a:ext cx="5205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6 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1" name=""/>
              <p:cNvGrpSpPr/>
              <p:nvPr/>
            </p:nvGrpSpPr>
            <p:grpSpPr>
              <a:xfrm>
                <a:off x="4894200" y="2708280"/>
                <a:ext cx="3918240" cy="2232720"/>
                <a:chOff x="4894200" y="2708280"/>
                <a:chExt cx="3918240" cy="2232720"/>
              </a:xfrm>
            </p:grpSpPr>
            <p:sp>
              <p:nvSpPr>
                <p:cNvPr id="2322" name=""/>
                <p:cNvSpPr/>
                <p:nvPr/>
              </p:nvSpPr>
              <p:spPr>
                <a:xfrm>
                  <a:off x="4894200" y="2725560"/>
                  <a:ext cx="179280" cy="179640"/>
                </a:xfrm>
                <a:prstGeom prst="rect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5150160" y="2708280"/>
                  <a:ext cx="35744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mprumuturi pe termen lung (intre 5 si 15 ani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>
                  <a:off x="4894200" y="3062160"/>
                  <a:ext cx="179280" cy="179640"/>
                </a:xfrm>
                <a:prstGeom prst="rect">
                  <a:avLst/>
                </a:prstGeom>
                <a:solidFill>
                  <a:srgbClr val="9933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>
                  <a:off x="5153040" y="3044880"/>
                  <a:ext cx="2760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mprumuturi pe termen scurt (1 an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4894200" y="3398760"/>
                  <a:ext cx="179280" cy="1796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5157720" y="3381480"/>
                  <a:ext cx="18781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arteneriat public priva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>
                  <a:off x="4894200" y="3733920"/>
                  <a:ext cx="179280" cy="1792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>
                  <a:off x="5154840" y="3718080"/>
                  <a:ext cx="26996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randuri pentru protectia mediului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4894200" y="4070520"/>
                  <a:ext cx="179280" cy="1792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>
                  <a:off x="5153040" y="4054320"/>
                  <a:ext cx="30272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randuri pentru reabilitare termoficar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>
                  <a:off x="4894200" y="4406760"/>
                  <a:ext cx="179280" cy="179640"/>
                </a:xfrm>
                <a:prstGeom prst="rect">
                  <a:avLst/>
                </a:prstGeom>
                <a:solidFill>
                  <a:srgbClr val="ff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>
                  <a:off x="5152680" y="4390920"/>
                  <a:ext cx="36597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randuri Guvernamentale pentru CET Govor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>
                  <a:off x="4894200" y="4743360"/>
                  <a:ext cx="179280" cy="179640"/>
                </a:xfrm>
                <a:prstGeom prst="rect">
                  <a:avLst/>
                </a:prstGeom>
                <a:solidFill>
                  <a:srgbClr val="0066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>
                  <a:off x="5159520" y="4727520"/>
                  <a:ext cx="1431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fit si amortizari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6" name=""/>
              <p:cNvGrpSpPr/>
              <p:nvPr/>
            </p:nvGrpSpPr>
            <p:grpSpPr>
              <a:xfrm>
                <a:off x="-9360" y="6232680"/>
                <a:ext cx="9905040" cy="1218600"/>
                <a:chOff x="-9360" y="6232680"/>
                <a:chExt cx="9905040" cy="1218600"/>
              </a:xfrm>
            </p:grpSpPr>
            <p:grpSp>
              <p:nvGrpSpPr>
                <p:cNvPr id="2337" name=""/>
                <p:cNvGrpSpPr/>
                <p:nvPr/>
              </p:nvGrpSpPr>
              <p:grpSpPr>
                <a:xfrm>
                  <a:off x="-9360" y="6232680"/>
                  <a:ext cx="9905040" cy="1218600"/>
                  <a:chOff x="-9360" y="6232680"/>
                  <a:chExt cx="9905040" cy="1218600"/>
                </a:xfrm>
              </p:grpSpPr>
              <p:sp>
                <p:nvSpPr>
                  <p:cNvPr id="2338" name=""/>
                  <p:cNvSpPr/>
                  <p:nvPr/>
                </p:nvSpPr>
                <p:spPr>
                  <a:xfrm>
                    <a:off x="-9360" y="6232680"/>
                    <a:ext cx="9905040" cy="609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cff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9" name=""/>
                  <p:cNvSpPr/>
                  <p:nvPr/>
                </p:nvSpPr>
                <p:spPr>
                  <a:xfrm>
                    <a:off x="2216160" y="6232680"/>
                    <a:ext cx="1093680" cy="1218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99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0" name=""/>
                  <p:cNvSpPr/>
                  <p:nvPr/>
                </p:nvSpPr>
                <p:spPr>
                  <a:xfrm>
                    <a:off x="7560" y="6235560"/>
                    <a:ext cx="2779200" cy="609840"/>
                  </a:xfrm>
                  <a:prstGeom prst="rect">
                    <a:avLst/>
                  </a:prstGeom>
                  <a:solidFill>
                    <a:srgbClr val="99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1" name=""/>
                  <p:cNvSpPr/>
                  <p:nvPr/>
                </p:nvSpPr>
                <p:spPr>
                  <a:xfrm>
                    <a:off x="963360" y="6308640"/>
                    <a:ext cx="1602720" cy="429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200" spc="-1" strike="noStrike">
                        <a:solidFill>
                          <a:srgbClr val="339933"/>
                        </a:solidFill>
                        <a:latin typeface="Arial Black"/>
                      </a:rPr>
                      <a:t>CET Govora</a:t>
                    </a:r>
                    <a:endParaRPr b="0" lang="en-US" sz="2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2" name=""/>
                  <p:cNvSpPr/>
                  <p:nvPr/>
                </p:nvSpPr>
                <p:spPr>
                  <a:xfrm>
                    <a:off x="8455680" y="6308640"/>
                    <a:ext cx="13114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200" spc="-1" strike="noStrike">
                        <a:solidFill>
                          <a:srgbClr val="339933"/>
                        </a:solidFill>
                        <a:latin typeface="Arial"/>
                      </a:rPr>
                      <a:t>Noiembrie 200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343" name=""/>
                  <p:cNvGrpSpPr/>
                  <p:nvPr/>
                </p:nvGrpSpPr>
                <p:grpSpPr>
                  <a:xfrm>
                    <a:off x="100440" y="6270480"/>
                    <a:ext cx="646920" cy="533520"/>
                    <a:chOff x="100440" y="6270480"/>
                    <a:chExt cx="646920" cy="533520"/>
                  </a:xfrm>
                </p:grpSpPr>
                <p:sp>
                  <p:nvSpPr>
                    <p:cNvPr id="2344" name=""/>
                    <p:cNvSpPr/>
                    <p:nvPr/>
                  </p:nvSpPr>
                  <p:spPr>
                    <a:xfrm>
                      <a:off x="219240" y="6438240"/>
                      <a:ext cx="371520" cy="2516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8200"/>
                        </a:gs>
                        <a:gs pos="100000">
                          <a:srgbClr val="000082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  <a:effectLst>
                      <a:outerShdw dist="0" dir="0" blurRad="0" rotWithShape="0">
                        <a:srgbClr val="8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5" name=""/>
                    <p:cNvSpPr txBox="1"/>
                    <p:nvPr/>
                  </p:nvSpPr>
                  <p:spPr>
                    <a:xfrm>
                      <a:off x="100440" y="6683400"/>
                      <a:ext cx="253800" cy="12060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1" strike="noStrike"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  <a:solidFill>
                            <a:srgbClr val="ffff00"/>
                          </a:solidFill>
                          <a:effectLst>
                            <a:outerShdw dist="12600" dir="5400000" blurRad="0" rotWithShape="0">
                              <a:srgbClr val="000000"/>
                            </a:outerShdw>
                          </a:effectLst>
                          <a:latin typeface="Arial Black"/>
                        </a:rPr>
                        <a:t>Go</a:t>
                      </a:r>
                      <a:endPara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  <a:ea typeface="Arial Black"/>
                      </a:endParaRPr>
                    </a:p>
                  </p:txBody>
                </p:sp>
                <p:sp>
                  <p:nvSpPr>
                    <p:cNvPr id="2346" name=""/>
                    <p:cNvSpPr txBox="1"/>
                    <p:nvPr/>
                  </p:nvSpPr>
                  <p:spPr>
                    <a:xfrm>
                      <a:off x="440280" y="6710400"/>
                      <a:ext cx="307080" cy="91440"/>
                    </a:xfrm>
                    <a:prstGeom prst="rect">
                      <a:avLst/>
                    </a:prstGeom>
                  </p:spPr>
                  <p:txBody>
                    <a:bodyPr wrap="none" lIns="90000" rIns="90000" tIns="45000" bIns="450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1" strike="noStrike"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  <a:solidFill>
                            <a:srgbClr val="ffff00"/>
                          </a:solidFill>
                          <a:effectLst>
                            <a:outerShdw dist="12600" dir="5400000" blurRad="0" rotWithShape="0">
                              <a:srgbClr val="000000"/>
                            </a:outerShdw>
                          </a:effectLst>
                          <a:latin typeface="Arial Black"/>
                        </a:rPr>
                        <a:t>ora</a:t>
                      </a:r>
                      <a:endPara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  <a:ea typeface="Arial Black"/>
                      </a:endParaRPr>
                    </a:p>
                  </p:txBody>
                </p:sp>
                <p:sp>
                  <p:nvSpPr>
                    <p:cNvPr id="2347" name=""/>
                    <p:cNvSpPr/>
                    <p:nvPr/>
                  </p:nvSpPr>
                  <p:spPr>
                    <a:xfrm>
                      <a:off x="235800" y="6270480"/>
                      <a:ext cx="341640" cy="53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9" h="702">
                          <a:moveTo>
                            <a:pt x="132" y="178"/>
                          </a:moveTo>
                          <a:lnTo>
                            <a:pt x="0" y="437"/>
                          </a:lnTo>
                          <a:lnTo>
                            <a:pt x="220" y="438"/>
                          </a:lnTo>
                          <a:lnTo>
                            <a:pt x="151" y="582"/>
                          </a:lnTo>
                          <a:lnTo>
                            <a:pt x="190" y="581"/>
                          </a:lnTo>
                          <a:lnTo>
                            <a:pt x="162" y="636"/>
                          </a:lnTo>
                          <a:lnTo>
                            <a:pt x="160" y="635"/>
                          </a:lnTo>
                          <a:lnTo>
                            <a:pt x="156" y="606"/>
                          </a:lnTo>
                          <a:lnTo>
                            <a:pt x="125" y="606"/>
                          </a:lnTo>
                          <a:lnTo>
                            <a:pt x="150" y="702"/>
                          </a:lnTo>
                          <a:lnTo>
                            <a:pt x="339" y="364"/>
                          </a:lnTo>
                          <a:lnTo>
                            <a:pt x="119" y="364"/>
                          </a:lnTo>
                          <a:lnTo>
                            <a:pt x="210" y="176"/>
                          </a:lnTo>
                          <a:lnTo>
                            <a:pt x="264" y="177"/>
                          </a:lnTo>
                          <a:lnTo>
                            <a:pt x="252" y="135"/>
                          </a:lnTo>
                          <a:lnTo>
                            <a:pt x="190" y="136"/>
                          </a:lnTo>
                          <a:lnTo>
                            <a:pt x="207" y="106"/>
                          </a:lnTo>
                          <a:lnTo>
                            <a:pt x="246" y="106"/>
                          </a:lnTo>
                          <a:lnTo>
                            <a:pt x="244" y="78"/>
                          </a:lnTo>
                          <a:lnTo>
                            <a:pt x="220" y="77"/>
                          </a:lnTo>
                          <a:lnTo>
                            <a:pt x="231" y="54"/>
                          </a:lnTo>
                          <a:lnTo>
                            <a:pt x="264" y="56"/>
                          </a:lnTo>
                          <a:lnTo>
                            <a:pt x="281" y="18"/>
                          </a:lnTo>
                          <a:lnTo>
                            <a:pt x="227" y="20"/>
                          </a:lnTo>
                          <a:lnTo>
                            <a:pt x="223" y="0"/>
                          </a:lnTo>
                          <a:lnTo>
                            <a:pt x="97" y="178"/>
                          </a:lnTo>
                          <a:lnTo>
                            <a:pt x="132" y="178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round/>
                    </a:ln>
                    <a:effectLst>
                      <a:outerShdw dist="12600" dir="54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8" name=""/>
                    <p:cNvSpPr txBox="1"/>
                    <p:nvPr/>
                  </p:nvSpPr>
                  <p:spPr>
                    <a:xfrm>
                      <a:off x="202680" y="6277680"/>
                      <a:ext cx="158400" cy="12024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1" strike="noStrike"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  <a:solidFill>
                            <a:srgbClr val="ffff00"/>
                          </a:solidFill>
                          <a:effectLst>
                            <a:outerShdw dist="12600" dir="5400000" blurRad="0" rotWithShape="0">
                              <a:srgbClr val="000000"/>
                            </a:outerShdw>
                          </a:effectLst>
                          <a:latin typeface="Arial Black"/>
                        </a:rPr>
                        <a:t>C</a:t>
                      </a:r>
                      <a:endPara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  <a:ea typeface="Arial Black"/>
                      </a:endParaRPr>
                    </a:p>
                  </p:txBody>
                </p:sp>
                <p:sp>
                  <p:nvSpPr>
                    <p:cNvPr id="2349" name=""/>
                    <p:cNvSpPr txBox="1"/>
                    <p:nvPr/>
                  </p:nvSpPr>
                  <p:spPr>
                    <a:xfrm>
                      <a:off x="535680" y="6287040"/>
                      <a:ext cx="155520" cy="12060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1" strike="noStrike"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  <a:solidFill>
                            <a:srgbClr val="ffff00"/>
                          </a:solidFill>
                          <a:effectLst>
                            <a:outerShdw dist="12600" dir="5400000" blurRad="0" rotWithShape="0">
                              <a:srgbClr val="000000"/>
                            </a:outerShdw>
                          </a:effectLst>
                          <a:latin typeface="Arial Black"/>
                        </a:rPr>
                        <a:t>T</a:t>
                      </a:r>
                      <a:endPara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  <a:ea typeface="Arial Black"/>
                      </a:endParaRPr>
                    </a:p>
                  </p:txBody>
                </p:sp>
              </p:grpSp>
            </p:grpSp>
            <p:sp>
              <p:nvSpPr>
                <p:cNvPr id="2350" name=""/>
                <p:cNvSpPr/>
                <p:nvPr/>
              </p:nvSpPr>
              <p:spPr>
                <a:xfrm>
                  <a:off x="3475800" y="6291360"/>
                  <a:ext cx="184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1" name=""/>
          <p:cNvGrpSpPr/>
          <p:nvPr/>
        </p:nvGrpSpPr>
        <p:grpSpPr>
          <a:xfrm>
            <a:off x="-9360" y="2600280"/>
            <a:ext cx="9905040" cy="4851000"/>
            <a:chOff x="-9360" y="2600280"/>
            <a:chExt cx="9905040" cy="4851000"/>
          </a:xfrm>
        </p:grpSpPr>
        <p:grpSp>
          <p:nvGrpSpPr>
            <p:cNvPr id="2352" name=""/>
            <p:cNvGrpSpPr/>
            <p:nvPr/>
          </p:nvGrpSpPr>
          <p:grpSpPr>
            <a:xfrm>
              <a:off x="2822040" y="2600280"/>
              <a:ext cx="4347360" cy="1282680"/>
              <a:chOff x="2822040" y="2600280"/>
              <a:chExt cx="4347360" cy="1282680"/>
            </a:xfrm>
          </p:grpSpPr>
          <p:sp>
            <p:nvSpPr>
              <p:cNvPr id="2353" name=""/>
              <p:cNvSpPr/>
              <p:nvPr/>
            </p:nvSpPr>
            <p:spPr>
              <a:xfrm>
                <a:off x="2822040" y="2600280"/>
                <a:ext cx="4347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3300"/>
                    </a:solidFill>
                    <a:latin typeface="Arial"/>
                  </a:rPr>
                  <a:t>Va multumim pentru atentia acordata !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3356640" y="3514680"/>
                <a:ext cx="348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3300"/>
                    </a:solidFill>
                    <a:latin typeface="Arial"/>
                  </a:rPr>
                  <a:t>Director General Mihai BALA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5" name=""/>
            <p:cNvGrpSpPr/>
            <p:nvPr/>
          </p:nvGrpSpPr>
          <p:grpSpPr>
            <a:xfrm>
              <a:off x="-9360" y="6232680"/>
              <a:ext cx="9905040" cy="1218600"/>
              <a:chOff x="-9360" y="6232680"/>
              <a:chExt cx="9905040" cy="1218600"/>
            </a:xfrm>
          </p:grpSpPr>
          <p:grpSp>
            <p:nvGrpSpPr>
              <p:cNvPr id="2356" name=""/>
              <p:cNvGrpSpPr/>
              <p:nvPr/>
            </p:nvGrpSpPr>
            <p:grpSpPr>
              <a:xfrm>
                <a:off x="-9360" y="6232680"/>
                <a:ext cx="9905040" cy="1218600"/>
                <a:chOff x="-9360" y="6232680"/>
                <a:chExt cx="9905040" cy="1218600"/>
              </a:xfrm>
            </p:grpSpPr>
            <p:sp>
              <p:nvSpPr>
                <p:cNvPr id="2357" name=""/>
                <p:cNvSpPr/>
                <p:nvPr/>
              </p:nvSpPr>
              <p:spPr>
                <a:xfrm>
                  <a:off x="-9360" y="6232680"/>
                  <a:ext cx="9905040" cy="609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ffcc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2216160" y="6232680"/>
                  <a:ext cx="10936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>
                  <a:off x="7560" y="6235560"/>
                  <a:ext cx="2779200" cy="60984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>
                  <a:off x="963360" y="6308640"/>
                  <a:ext cx="16027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>
                      <a:solidFill>
                        <a:srgbClr val="339933"/>
                      </a:solidFill>
                      <a:latin typeface="Arial Black"/>
                    </a:rPr>
                    <a:t>CET Govora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>
                  <a:off x="8455680" y="6308640"/>
                  <a:ext cx="1311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339933"/>
                      </a:solidFill>
                      <a:latin typeface="Arial"/>
                    </a:rPr>
                    <a:t>Noiembrie 200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62" name=""/>
                <p:cNvGrpSpPr/>
                <p:nvPr/>
              </p:nvGrpSpPr>
              <p:grpSpPr>
                <a:xfrm>
                  <a:off x="100440" y="6270480"/>
                  <a:ext cx="646920" cy="533520"/>
                  <a:chOff x="100440" y="6270480"/>
                  <a:chExt cx="646920" cy="533520"/>
                </a:xfrm>
              </p:grpSpPr>
              <p:sp>
                <p:nvSpPr>
                  <p:cNvPr id="2363" name=""/>
                  <p:cNvSpPr/>
                  <p:nvPr/>
                </p:nvSpPr>
                <p:spPr>
                  <a:xfrm>
                    <a:off x="219240" y="6438240"/>
                    <a:ext cx="371520" cy="251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8200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0" dir="0" blurRad="0" rotWithShape="0">
                      <a:srgbClr val="8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4" name=""/>
                  <p:cNvSpPr txBox="1"/>
                  <p:nvPr/>
                </p:nvSpPr>
                <p:spPr>
                  <a:xfrm>
                    <a:off x="100440" y="6683400"/>
                    <a:ext cx="25380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Go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365" name=""/>
                  <p:cNvSpPr txBox="1"/>
                  <p:nvPr/>
                </p:nvSpPr>
                <p:spPr>
                  <a:xfrm>
                    <a:off x="440280" y="6710400"/>
                    <a:ext cx="307080" cy="91440"/>
                  </a:xfrm>
                  <a:prstGeom prst="rect">
                    <a:avLst/>
                  </a:prstGeom>
                </p:spPr>
                <p:txBody>
                  <a:bodyPr wrap="none" lIns="90000" rIns="90000" tIns="45000" bIns="450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ora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366" name=""/>
                  <p:cNvSpPr/>
                  <p:nvPr/>
                </p:nvSpPr>
                <p:spPr>
                  <a:xfrm>
                    <a:off x="235800" y="6270480"/>
                    <a:ext cx="341640" cy="531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9" h="702">
                        <a:moveTo>
                          <a:pt x="132" y="178"/>
                        </a:moveTo>
                        <a:lnTo>
                          <a:pt x="0" y="437"/>
                        </a:lnTo>
                        <a:lnTo>
                          <a:pt x="220" y="438"/>
                        </a:lnTo>
                        <a:lnTo>
                          <a:pt x="151" y="582"/>
                        </a:lnTo>
                        <a:lnTo>
                          <a:pt x="190" y="581"/>
                        </a:lnTo>
                        <a:lnTo>
                          <a:pt x="162" y="636"/>
                        </a:lnTo>
                        <a:lnTo>
                          <a:pt x="160" y="635"/>
                        </a:lnTo>
                        <a:lnTo>
                          <a:pt x="156" y="606"/>
                        </a:lnTo>
                        <a:lnTo>
                          <a:pt x="125" y="606"/>
                        </a:lnTo>
                        <a:lnTo>
                          <a:pt x="150" y="702"/>
                        </a:lnTo>
                        <a:lnTo>
                          <a:pt x="339" y="364"/>
                        </a:lnTo>
                        <a:lnTo>
                          <a:pt x="119" y="364"/>
                        </a:lnTo>
                        <a:lnTo>
                          <a:pt x="210" y="176"/>
                        </a:lnTo>
                        <a:lnTo>
                          <a:pt x="264" y="177"/>
                        </a:lnTo>
                        <a:lnTo>
                          <a:pt x="252" y="135"/>
                        </a:lnTo>
                        <a:lnTo>
                          <a:pt x="190" y="136"/>
                        </a:lnTo>
                        <a:lnTo>
                          <a:pt x="207" y="106"/>
                        </a:lnTo>
                        <a:lnTo>
                          <a:pt x="246" y="106"/>
                        </a:lnTo>
                        <a:lnTo>
                          <a:pt x="244" y="78"/>
                        </a:lnTo>
                        <a:lnTo>
                          <a:pt x="220" y="77"/>
                        </a:lnTo>
                        <a:lnTo>
                          <a:pt x="231" y="54"/>
                        </a:lnTo>
                        <a:lnTo>
                          <a:pt x="264" y="56"/>
                        </a:lnTo>
                        <a:lnTo>
                          <a:pt x="281" y="18"/>
                        </a:lnTo>
                        <a:lnTo>
                          <a:pt x="227" y="20"/>
                        </a:lnTo>
                        <a:lnTo>
                          <a:pt x="223" y="0"/>
                        </a:lnTo>
                        <a:lnTo>
                          <a:pt x="97" y="178"/>
                        </a:lnTo>
                        <a:lnTo>
                          <a:pt x="132" y="178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round/>
                  </a:ln>
                  <a:effectLst>
                    <a:outerShdw dist="12600" dir="54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7" name=""/>
                  <p:cNvSpPr txBox="1"/>
                  <p:nvPr/>
                </p:nvSpPr>
                <p:spPr>
                  <a:xfrm>
                    <a:off x="202680" y="6277680"/>
                    <a:ext cx="158400" cy="1202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C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368" name=""/>
                  <p:cNvSpPr txBox="1"/>
                  <p:nvPr/>
                </p:nvSpPr>
                <p:spPr>
                  <a:xfrm>
                    <a:off x="535680" y="6287040"/>
                    <a:ext cx="15552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T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</p:grpSp>
          </p:grpSp>
          <p:sp>
            <p:nvSpPr>
              <p:cNvPr id="2369" name=""/>
              <p:cNvSpPr/>
              <p:nvPr/>
            </p:nvSpPr>
            <p:spPr>
              <a:xfrm>
                <a:off x="3475800" y="62913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549360"/>
            <a:ext cx="9905040" cy="6901920"/>
            <a:chOff x="-9360" y="549360"/>
            <a:chExt cx="9905040" cy="6901920"/>
          </a:xfrm>
        </p:grpSpPr>
        <p:sp>
          <p:nvSpPr>
            <p:cNvPr id="52" name=""/>
            <p:cNvSpPr/>
            <p:nvPr/>
          </p:nvSpPr>
          <p:spPr>
            <a:xfrm>
              <a:off x="776160" y="549360"/>
              <a:ext cx="8640720" cy="54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993300"/>
                  </a:solidFill>
                  <a:latin typeface="Arial"/>
                </a:rPr>
                <a:t>OBIECTIVE MAJOR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20880" y="1755720"/>
              <a:ext cx="8424720" cy="338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300000"/>
                </a:lnSpc>
                <a:buClr>
                  <a:srgbClr val="99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ACOPERIRE INTEGRALA PIATA LOCALA DE ENERGIE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0"/>
                </a:lnSpc>
                <a:buClr>
                  <a:srgbClr val="99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FUNCTIONARE SIGURA SI EFICIENTA PENTRU URMATORII 20 DE ANI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0"/>
                </a:lnSpc>
                <a:buClr>
                  <a:srgbClr val="99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RESPECTAREA NORMELOR DE MEDIU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0"/>
                </a:lnSpc>
                <a:buClr>
                  <a:srgbClr val="99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SATISFACTIE CLIENTI SI ANGAJAT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-9360" y="6232680"/>
              <a:ext cx="9905040" cy="1218600"/>
              <a:chOff x="-9360" y="6232680"/>
              <a:chExt cx="9905040" cy="1218600"/>
            </a:xfrm>
          </p:grpSpPr>
          <p:grpSp>
            <p:nvGrpSpPr>
              <p:cNvPr id="55" name=""/>
              <p:cNvGrpSpPr/>
              <p:nvPr/>
            </p:nvGrpSpPr>
            <p:grpSpPr>
              <a:xfrm>
                <a:off x="-9360" y="6232680"/>
                <a:ext cx="9905040" cy="1218600"/>
                <a:chOff x="-9360" y="6232680"/>
                <a:chExt cx="9905040" cy="121860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-9360" y="6232680"/>
                  <a:ext cx="9905040" cy="609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ffcc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2216160" y="6232680"/>
                  <a:ext cx="10936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7560" y="6235560"/>
                  <a:ext cx="2779200" cy="60984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963360" y="6308640"/>
                  <a:ext cx="16027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>
                      <a:solidFill>
                        <a:srgbClr val="339933"/>
                      </a:solidFill>
                      <a:latin typeface="Arial Black"/>
                    </a:rPr>
                    <a:t>CET Govora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8455680" y="6308640"/>
                  <a:ext cx="1311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339933"/>
                      </a:solidFill>
                      <a:latin typeface="Arial"/>
                    </a:rPr>
                    <a:t>Noiembrie 200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1" name=""/>
                <p:cNvGrpSpPr/>
                <p:nvPr/>
              </p:nvGrpSpPr>
              <p:grpSpPr>
                <a:xfrm>
                  <a:off x="100440" y="6270480"/>
                  <a:ext cx="646920" cy="533520"/>
                  <a:chOff x="100440" y="6270480"/>
                  <a:chExt cx="646920" cy="533520"/>
                </a:xfrm>
              </p:grpSpPr>
              <p:sp>
                <p:nvSpPr>
                  <p:cNvPr id="62" name=""/>
                  <p:cNvSpPr/>
                  <p:nvPr/>
                </p:nvSpPr>
                <p:spPr>
                  <a:xfrm>
                    <a:off x="219240" y="6438240"/>
                    <a:ext cx="371520" cy="251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8200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0" dir="0" blurRad="0" rotWithShape="0">
                      <a:srgbClr val="8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 txBox="1"/>
                  <p:nvPr/>
                </p:nvSpPr>
                <p:spPr>
                  <a:xfrm>
                    <a:off x="100440" y="6683400"/>
                    <a:ext cx="25380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Go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64" name=""/>
                  <p:cNvSpPr txBox="1"/>
                  <p:nvPr/>
                </p:nvSpPr>
                <p:spPr>
                  <a:xfrm>
                    <a:off x="440280" y="6710400"/>
                    <a:ext cx="307080" cy="91440"/>
                  </a:xfrm>
                  <a:prstGeom prst="rect">
                    <a:avLst/>
                  </a:prstGeom>
                </p:spPr>
                <p:txBody>
                  <a:bodyPr wrap="none" lIns="90000" rIns="90000" tIns="45000" bIns="450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ora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35800" y="6270480"/>
                    <a:ext cx="341640" cy="531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9" h="702">
                        <a:moveTo>
                          <a:pt x="132" y="178"/>
                        </a:moveTo>
                        <a:lnTo>
                          <a:pt x="0" y="437"/>
                        </a:lnTo>
                        <a:lnTo>
                          <a:pt x="220" y="438"/>
                        </a:lnTo>
                        <a:lnTo>
                          <a:pt x="151" y="582"/>
                        </a:lnTo>
                        <a:lnTo>
                          <a:pt x="190" y="581"/>
                        </a:lnTo>
                        <a:lnTo>
                          <a:pt x="162" y="636"/>
                        </a:lnTo>
                        <a:lnTo>
                          <a:pt x="160" y="635"/>
                        </a:lnTo>
                        <a:lnTo>
                          <a:pt x="156" y="606"/>
                        </a:lnTo>
                        <a:lnTo>
                          <a:pt x="125" y="606"/>
                        </a:lnTo>
                        <a:lnTo>
                          <a:pt x="150" y="702"/>
                        </a:lnTo>
                        <a:lnTo>
                          <a:pt x="339" y="364"/>
                        </a:lnTo>
                        <a:lnTo>
                          <a:pt x="119" y="364"/>
                        </a:lnTo>
                        <a:lnTo>
                          <a:pt x="210" y="176"/>
                        </a:lnTo>
                        <a:lnTo>
                          <a:pt x="264" y="177"/>
                        </a:lnTo>
                        <a:lnTo>
                          <a:pt x="252" y="135"/>
                        </a:lnTo>
                        <a:lnTo>
                          <a:pt x="190" y="136"/>
                        </a:lnTo>
                        <a:lnTo>
                          <a:pt x="207" y="106"/>
                        </a:lnTo>
                        <a:lnTo>
                          <a:pt x="246" y="106"/>
                        </a:lnTo>
                        <a:lnTo>
                          <a:pt x="244" y="78"/>
                        </a:lnTo>
                        <a:lnTo>
                          <a:pt x="220" y="77"/>
                        </a:lnTo>
                        <a:lnTo>
                          <a:pt x="231" y="54"/>
                        </a:lnTo>
                        <a:lnTo>
                          <a:pt x="264" y="56"/>
                        </a:lnTo>
                        <a:lnTo>
                          <a:pt x="281" y="18"/>
                        </a:lnTo>
                        <a:lnTo>
                          <a:pt x="227" y="20"/>
                        </a:lnTo>
                        <a:lnTo>
                          <a:pt x="223" y="0"/>
                        </a:lnTo>
                        <a:lnTo>
                          <a:pt x="97" y="178"/>
                        </a:lnTo>
                        <a:lnTo>
                          <a:pt x="132" y="178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round/>
                  </a:ln>
                  <a:effectLst>
                    <a:outerShdw dist="12600" dir="54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"/>
                  <p:cNvSpPr txBox="1"/>
                  <p:nvPr/>
                </p:nvSpPr>
                <p:spPr>
                  <a:xfrm>
                    <a:off x="202680" y="6277680"/>
                    <a:ext cx="158400" cy="1202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C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67" name=""/>
                  <p:cNvSpPr txBox="1"/>
                  <p:nvPr/>
                </p:nvSpPr>
                <p:spPr>
                  <a:xfrm>
                    <a:off x="535680" y="6287040"/>
                    <a:ext cx="15552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T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</p:grpSp>
          </p:grpSp>
          <p:sp>
            <p:nvSpPr>
              <p:cNvPr id="68" name=""/>
              <p:cNvSpPr/>
              <p:nvPr/>
            </p:nvSpPr>
            <p:spPr>
              <a:xfrm>
                <a:off x="3475800" y="62913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200160" y="189000"/>
            <a:ext cx="9581400" cy="6153120"/>
            <a:chOff x="200160" y="189000"/>
            <a:chExt cx="9581400" cy="6153120"/>
          </a:xfrm>
        </p:grpSpPr>
        <p:sp>
          <p:nvSpPr>
            <p:cNvPr id="70" name=""/>
            <p:cNvSpPr/>
            <p:nvPr/>
          </p:nvSpPr>
          <p:spPr>
            <a:xfrm>
              <a:off x="272880" y="189000"/>
              <a:ext cx="9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Times New Roman"/>
                </a:rPr>
                <a:t>SCHEMA TEHNOLOGICA ACTUALA (INAINTE DE PROGRAMUL DE DEZVOLTAR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200160" y="642960"/>
              <a:ext cx="9581400" cy="5699160"/>
              <a:chOff x="200160" y="642960"/>
              <a:chExt cx="9581400" cy="569916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2185920" y="2290680"/>
                <a:ext cx="531360" cy="805680"/>
                <a:chOff x="2185920" y="2290680"/>
                <a:chExt cx="531360" cy="805680"/>
              </a:xfrm>
            </p:grpSpPr>
            <p:grpSp>
              <p:nvGrpSpPr>
                <p:cNvPr id="73" name=""/>
                <p:cNvGrpSpPr/>
                <p:nvPr/>
              </p:nvGrpSpPr>
              <p:grpSpPr>
                <a:xfrm>
                  <a:off x="2185920" y="2290680"/>
                  <a:ext cx="531360" cy="414000"/>
                  <a:chOff x="2185920" y="2290680"/>
                  <a:chExt cx="531360" cy="41400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2185920" y="229068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205000" y="232200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7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" name=""/>
                <p:cNvGrpSpPr/>
                <p:nvPr/>
              </p:nvGrpSpPr>
              <p:grpSpPr>
                <a:xfrm>
                  <a:off x="2251080" y="2703240"/>
                  <a:ext cx="412560" cy="393120"/>
                  <a:chOff x="2251080" y="2703240"/>
                  <a:chExt cx="412560" cy="393120"/>
                </a:xfrm>
              </p:grpSpPr>
              <p:sp>
                <p:nvSpPr>
                  <p:cNvPr id="77" name=""/>
                  <p:cNvSpPr/>
                  <p:nvPr/>
                </p:nvSpPr>
                <p:spPr>
                  <a:xfrm>
                    <a:off x="2455560" y="270324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 flipH="1">
                    <a:off x="2253960" y="281088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2251080" y="290628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 flipH="1">
                    <a:off x="2449440" y="290628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2458800" y="299016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2" name=""/>
              <p:cNvSpPr/>
              <p:nvPr/>
            </p:nvSpPr>
            <p:spPr>
              <a:xfrm>
                <a:off x="1928880" y="3117960"/>
                <a:ext cx="7183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" name=""/>
              <p:cNvGrpSpPr/>
              <p:nvPr/>
            </p:nvGrpSpPr>
            <p:grpSpPr>
              <a:xfrm>
                <a:off x="2174760" y="1079640"/>
                <a:ext cx="560160" cy="1217520"/>
                <a:chOff x="2174760" y="1079640"/>
                <a:chExt cx="560160" cy="121752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2174760" y="1625760"/>
                  <a:ext cx="21600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286000" y="18939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519280" y="1625760"/>
                  <a:ext cx="21564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630160" y="18939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286000" y="146196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2630160" y="146196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0" name=""/>
                <p:cNvGrpSpPr/>
                <p:nvPr/>
              </p:nvGrpSpPr>
              <p:grpSpPr>
                <a:xfrm>
                  <a:off x="2174760" y="1241640"/>
                  <a:ext cx="216000" cy="215640"/>
                  <a:chOff x="2174760" y="1241640"/>
                  <a:chExt cx="216000" cy="215640"/>
                </a:xfrm>
              </p:grpSpPr>
              <p:sp>
                <p:nvSpPr>
                  <p:cNvPr id="91" name=""/>
                  <p:cNvSpPr/>
                  <p:nvPr/>
                </p:nvSpPr>
                <p:spPr>
                  <a:xfrm>
                    <a:off x="2174760" y="12416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 flipH="1">
                    <a:off x="2220480" y="12985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2319120" y="12985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" name=""/>
                <p:cNvGrpSpPr/>
                <p:nvPr/>
              </p:nvGrpSpPr>
              <p:grpSpPr>
                <a:xfrm>
                  <a:off x="2519280" y="1241640"/>
                  <a:ext cx="215640" cy="215640"/>
                  <a:chOff x="2519280" y="1241640"/>
                  <a:chExt cx="215640" cy="215640"/>
                </a:xfrm>
              </p:grpSpPr>
              <p:sp>
                <p:nvSpPr>
                  <p:cNvPr id="95" name=""/>
                  <p:cNvSpPr/>
                  <p:nvPr/>
                </p:nvSpPr>
                <p:spPr>
                  <a:xfrm>
                    <a:off x="2519280" y="1241640"/>
                    <a:ext cx="21564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 flipH="1">
                    <a:off x="2565000" y="1298520"/>
                    <a:ext cx="2160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2663280" y="12985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" name=""/>
                <p:cNvSpPr/>
                <p:nvPr/>
              </p:nvSpPr>
              <p:spPr>
                <a:xfrm>
                  <a:off x="2286000" y="10796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630160" y="10796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"/>
              <p:cNvSpPr/>
              <p:nvPr/>
            </p:nvSpPr>
            <p:spPr>
              <a:xfrm flipH="1">
                <a:off x="1280880" y="2109960"/>
                <a:ext cx="91260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1911240" y="2109960"/>
                <a:ext cx="264960" cy="360360"/>
                <a:chOff x="1911240" y="2109960"/>
                <a:chExt cx="264960" cy="3603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1917360" y="21099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H="1">
                  <a:off x="1911240" y="24703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3638520" y="2290680"/>
                <a:ext cx="531360" cy="805680"/>
                <a:chOff x="3638520" y="2290680"/>
                <a:chExt cx="531360" cy="805680"/>
              </a:xfrm>
            </p:grpSpPr>
            <p:grpSp>
              <p:nvGrpSpPr>
                <p:cNvPr id="105" name=""/>
                <p:cNvGrpSpPr/>
                <p:nvPr/>
              </p:nvGrpSpPr>
              <p:grpSpPr>
                <a:xfrm>
                  <a:off x="3638520" y="2290680"/>
                  <a:ext cx="531360" cy="414000"/>
                  <a:chOff x="3638520" y="2290680"/>
                  <a:chExt cx="531360" cy="414000"/>
                </a:xfrm>
              </p:grpSpPr>
              <p:sp>
                <p:nvSpPr>
                  <p:cNvPr id="106" name=""/>
                  <p:cNvSpPr/>
                  <p:nvPr/>
                </p:nvSpPr>
                <p:spPr>
                  <a:xfrm>
                    <a:off x="3638520" y="229068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3657600" y="232200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" name=""/>
                <p:cNvGrpSpPr/>
                <p:nvPr/>
              </p:nvGrpSpPr>
              <p:grpSpPr>
                <a:xfrm>
                  <a:off x="3703680" y="2703240"/>
                  <a:ext cx="412560" cy="393120"/>
                  <a:chOff x="3703680" y="2703240"/>
                  <a:chExt cx="412560" cy="39312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>
                    <a:off x="3908160" y="270324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H="1">
                    <a:off x="3706560" y="281088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3703680" y="290628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H="1">
                    <a:off x="3902040" y="290628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3911400" y="299016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4" name=""/>
              <p:cNvGrpSpPr/>
              <p:nvPr/>
            </p:nvGrpSpPr>
            <p:grpSpPr>
              <a:xfrm>
                <a:off x="3627360" y="1079640"/>
                <a:ext cx="560160" cy="1217520"/>
                <a:chOff x="3627360" y="1079640"/>
                <a:chExt cx="560160" cy="12175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3627360" y="1625760"/>
                  <a:ext cx="21600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738600" y="18939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971880" y="1625760"/>
                  <a:ext cx="21564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082760" y="18939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738600" y="146196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082760" y="146196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3627360" y="1241640"/>
                  <a:ext cx="216000" cy="215640"/>
                  <a:chOff x="3627360" y="1241640"/>
                  <a:chExt cx="216000" cy="21564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3627360" y="12416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flipH="1">
                    <a:off x="3673080" y="12985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3771720" y="12985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"/>
                <p:cNvGrpSpPr/>
                <p:nvPr/>
              </p:nvGrpSpPr>
              <p:grpSpPr>
                <a:xfrm>
                  <a:off x="3971880" y="1241640"/>
                  <a:ext cx="215640" cy="215640"/>
                  <a:chOff x="3971880" y="1241640"/>
                  <a:chExt cx="215640" cy="215640"/>
                </a:xfrm>
              </p:grpSpPr>
              <p:sp>
                <p:nvSpPr>
                  <p:cNvPr id="126" name=""/>
                  <p:cNvSpPr/>
                  <p:nvPr/>
                </p:nvSpPr>
                <p:spPr>
                  <a:xfrm>
                    <a:off x="3971880" y="1241640"/>
                    <a:ext cx="21564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 flipH="1">
                    <a:off x="4017600" y="1298520"/>
                    <a:ext cx="2160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4115880" y="12985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" name=""/>
                <p:cNvSpPr/>
                <p:nvPr/>
              </p:nvSpPr>
              <p:spPr>
                <a:xfrm>
                  <a:off x="3738600" y="10796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082760" y="10796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3363840" y="2109960"/>
                <a:ext cx="264960" cy="360360"/>
                <a:chOff x="3363840" y="2109960"/>
                <a:chExt cx="264960" cy="36036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3369960" y="21099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H="1">
                  <a:off x="3363840" y="24703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"/>
              <p:cNvSpPr/>
              <p:nvPr/>
            </p:nvSpPr>
            <p:spPr>
              <a:xfrm flipH="1">
                <a:off x="2342880" y="2109960"/>
                <a:ext cx="2156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2703240" y="2109960"/>
                <a:ext cx="934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3782880" y="2109960"/>
                <a:ext cx="21600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143240" y="2109960"/>
                <a:ext cx="9446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" name=""/>
              <p:cNvGrpSpPr/>
              <p:nvPr/>
            </p:nvGrpSpPr>
            <p:grpSpPr>
              <a:xfrm>
                <a:off x="5354640" y="2290680"/>
                <a:ext cx="531360" cy="805680"/>
                <a:chOff x="5354640" y="2290680"/>
                <a:chExt cx="531360" cy="805680"/>
              </a:xfrm>
            </p:grpSpPr>
            <p:grpSp>
              <p:nvGrpSpPr>
                <p:cNvPr id="139" name=""/>
                <p:cNvGrpSpPr/>
                <p:nvPr/>
              </p:nvGrpSpPr>
              <p:grpSpPr>
                <a:xfrm>
                  <a:off x="5354640" y="2290680"/>
                  <a:ext cx="531360" cy="414000"/>
                  <a:chOff x="5354640" y="2290680"/>
                  <a:chExt cx="531360" cy="41400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>
                    <a:off x="5354640" y="229068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5373720" y="232200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5419800" y="2703240"/>
                  <a:ext cx="412560" cy="393120"/>
                  <a:chOff x="5419800" y="2703240"/>
                  <a:chExt cx="412560" cy="39312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>
                    <a:off x="5624280" y="270324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flipH="1">
                    <a:off x="5422680" y="281088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5419800" y="290628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 flipH="1">
                    <a:off x="5618160" y="290628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5627520" y="299016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8" name=""/>
              <p:cNvGrpSpPr/>
              <p:nvPr/>
            </p:nvGrpSpPr>
            <p:grpSpPr>
              <a:xfrm>
                <a:off x="5343480" y="1079640"/>
                <a:ext cx="560160" cy="1217520"/>
                <a:chOff x="5343480" y="1079640"/>
                <a:chExt cx="560160" cy="12175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5343480" y="1625760"/>
                  <a:ext cx="21600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454720" y="18939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688000" y="1625760"/>
                  <a:ext cx="21564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798880" y="18939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454720" y="146196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798880" y="146196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5" name=""/>
                <p:cNvGrpSpPr/>
                <p:nvPr/>
              </p:nvGrpSpPr>
              <p:grpSpPr>
                <a:xfrm>
                  <a:off x="5343480" y="1241640"/>
                  <a:ext cx="216000" cy="215640"/>
                  <a:chOff x="5343480" y="1241640"/>
                  <a:chExt cx="216000" cy="21564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>
                    <a:off x="5343480" y="12416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flipH="1">
                    <a:off x="5389200" y="12985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5487840" y="12985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5688000" y="1241640"/>
                  <a:ext cx="215640" cy="215640"/>
                  <a:chOff x="5688000" y="1241640"/>
                  <a:chExt cx="215640" cy="21564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5688000" y="1241640"/>
                    <a:ext cx="21564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flipH="1">
                    <a:off x="5733720" y="1298520"/>
                    <a:ext cx="2160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5832000" y="12985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3" name=""/>
                <p:cNvSpPr/>
                <p:nvPr/>
              </p:nvSpPr>
              <p:spPr>
                <a:xfrm>
                  <a:off x="5454720" y="10796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798880" y="10796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5079960" y="2109960"/>
                <a:ext cx="264960" cy="360360"/>
                <a:chOff x="5079960" y="2109960"/>
                <a:chExt cx="264960" cy="36036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5086080" y="21099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H="1">
                  <a:off x="5079960" y="24703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"/>
              <p:cNvSpPr/>
              <p:nvPr/>
            </p:nvSpPr>
            <p:spPr>
              <a:xfrm flipH="1">
                <a:off x="991800" y="1087560"/>
                <a:ext cx="16462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623880" y="900000"/>
                <a:ext cx="360360" cy="360360"/>
                <a:chOff x="623880" y="900000"/>
                <a:chExt cx="360360" cy="36036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696960" y="97308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23880" y="90000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4589640" y="900000"/>
                <a:ext cx="360360" cy="360360"/>
                <a:chOff x="4589640" y="900000"/>
                <a:chExt cx="360360" cy="3603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4662720" y="97308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589640" y="90000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3730680" y="1087560"/>
                <a:ext cx="826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4983120" y="1087560"/>
                <a:ext cx="8272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6859440" y="2290680"/>
                <a:ext cx="531360" cy="805680"/>
                <a:chOff x="6859440" y="2290680"/>
                <a:chExt cx="531360" cy="80568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6859440" y="2290680"/>
                  <a:ext cx="531360" cy="414000"/>
                  <a:chOff x="6859440" y="2290680"/>
                  <a:chExt cx="531360" cy="41400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6859440" y="229068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6878520" y="232200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6924600" y="2703240"/>
                  <a:ext cx="412560" cy="393120"/>
                  <a:chOff x="6924600" y="2703240"/>
                  <a:chExt cx="412560" cy="39312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7129080" y="270324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flipH="1">
                    <a:off x="6927480" y="281088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6924600" y="290628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flipH="1">
                    <a:off x="7122960" y="290628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7132320" y="299016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7" name=""/>
              <p:cNvGrpSpPr/>
              <p:nvPr/>
            </p:nvGrpSpPr>
            <p:grpSpPr>
              <a:xfrm>
                <a:off x="8310600" y="2290680"/>
                <a:ext cx="531360" cy="805680"/>
                <a:chOff x="8310600" y="2290680"/>
                <a:chExt cx="531360" cy="805680"/>
              </a:xfrm>
            </p:grpSpPr>
            <p:grpSp>
              <p:nvGrpSpPr>
                <p:cNvPr id="188" name=""/>
                <p:cNvGrpSpPr/>
                <p:nvPr/>
              </p:nvGrpSpPr>
              <p:grpSpPr>
                <a:xfrm>
                  <a:off x="8310600" y="2290680"/>
                  <a:ext cx="531360" cy="414000"/>
                  <a:chOff x="8310600" y="2290680"/>
                  <a:chExt cx="531360" cy="41400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8310600" y="229068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8329680" y="232200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8375760" y="2703240"/>
                  <a:ext cx="412560" cy="393120"/>
                  <a:chOff x="8375760" y="2703240"/>
                  <a:chExt cx="412560" cy="39312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>
                    <a:off x="8580240" y="270324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flipH="1">
                    <a:off x="8378640" y="281088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8375760" y="290628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flipH="1">
                    <a:off x="8574120" y="290628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8583480" y="299016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7" name=""/>
              <p:cNvGrpSpPr/>
              <p:nvPr/>
            </p:nvGrpSpPr>
            <p:grpSpPr>
              <a:xfrm>
                <a:off x="7670880" y="1547640"/>
                <a:ext cx="360360" cy="360360"/>
                <a:chOff x="7670880" y="1547640"/>
                <a:chExt cx="360360" cy="3603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7743960" y="162072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670880" y="154764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>
                <a:off x="7118280" y="1730520"/>
                <a:ext cx="460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108920" y="1701720"/>
                <a:ext cx="0" cy="576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559720" y="1701720"/>
                <a:ext cx="0" cy="576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1352160" y="4013280"/>
                <a:ext cx="82090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1352160" y="4549680"/>
                <a:ext cx="82090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295280" y="2854440"/>
                <a:ext cx="720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140 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461960" y="375768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35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461960" y="429912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13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1352160" y="5556240"/>
                <a:ext cx="82090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461960" y="529740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6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089240" y="6205680"/>
                <a:ext cx="54723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1352160" y="6205680"/>
                <a:ext cx="23763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719160" y="6060960"/>
                <a:ext cx="359280" cy="269640"/>
                <a:chOff x="3719160" y="6060960"/>
                <a:chExt cx="359280" cy="26964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3719520" y="6060960"/>
                  <a:ext cx="358920" cy="2696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3719160" y="6060960"/>
                  <a:ext cx="358920" cy="2649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1461960" y="5918040"/>
                <a:ext cx="1513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ermoficare urba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8091000" y="1730520"/>
                <a:ext cx="460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72880" y="1811160"/>
                <a:ext cx="935280" cy="32256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3916440" y="3036960"/>
                <a:ext cx="891720" cy="3133800"/>
                <a:chOff x="3916440" y="3036960"/>
                <a:chExt cx="891720" cy="31338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3916440" y="3036960"/>
                  <a:ext cx="891720" cy="3133800"/>
                  <a:chOff x="3916440" y="3036960"/>
                  <a:chExt cx="891720" cy="31338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 flipV="1">
                    <a:off x="4189320" y="36655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3916440" y="3036960"/>
                    <a:ext cx="891720" cy="685440"/>
                    <a:chOff x="3916440" y="3036960"/>
                    <a:chExt cx="891720" cy="68544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4485960" y="35038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4601880" y="34117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24" name=""/>
                    <p:cNvGrpSpPr/>
                    <p:nvPr/>
                  </p:nvGrpSpPr>
                  <p:grpSpPr>
                    <a:xfrm>
                      <a:off x="3916440" y="3036960"/>
                      <a:ext cx="579600" cy="685440"/>
                      <a:chOff x="3916440" y="3036960"/>
                      <a:chExt cx="579600" cy="685440"/>
                    </a:xfrm>
                  </p:grpSpPr>
                  <p:grpSp>
                    <p:nvGrpSpPr>
                      <p:cNvPr id="225" name=""/>
                      <p:cNvGrpSpPr/>
                      <p:nvPr/>
                    </p:nvGrpSpPr>
                    <p:grpSpPr>
                      <a:xfrm>
                        <a:off x="3920760" y="3290760"/>
                        <a:ext cx="575280" cy="431640"/>
                        <a:chOff x="3920760" y="3290760"/>
                        <a:chExt cx="575280" cy="431640"/>
                      </a:xfrm>
                    </p:grpSpPr>
                    <p:sp>
                      <p:nvSpPr>
                        <p:cNvPr id="226" name=""/>
                        <p:cNvSpPr/>
                        <p:nvPr/>
                      </p:nvSpPr>
                      <p:spPr>
                        <a:xfrm flipV="1">
                          <a:off x="3920760" y="33991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3920760" y="32907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>
                          <a:off x="3920760" y="36140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>
                          <a:off x="4496040" y="32911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30" name=""/>
                      <p:cNvSpPr/>
                      <p:nvPr/>
                    </p:nvSpPr>
                    <p:spPr>
                      <a:xfrm>
                        <a:off x="3916440" y="30369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231" name=""/>
                  <p:cNvSpPr/>
                  <p:nvPr/>
                </p:nvSpPr>
                <p:spPr>
                  <a:xfrm>
                    <a:off x="4006800" y="36226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4189320" y="40798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flipV="1">
                    <a:off x="4498920" y="36842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4498920" y="40798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4498920" y="56293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4498920" y="46213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7" name=""/>
                <p:cNvSpPr/>
                <p:nvPr/>
              </p:nvSpPr>
              <p:spPr>
                <a:xfrm>
                  <a:off x="3954600" y="33688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5629320" y="3036960"/>
                <a:ext cx="891720" cy="3133800"/>
                <a:chOff x="5629320" y="3036960"/>
                <a:chExt cx="891720" cy="3133800"/>
              </a:xfrm>
            </p:grpSpPr>
            <p:grpSp>
              <p:nvGrpSpPr>
                <p:cNvPr id="239" name=""/>
                <p:cNvGrpSpPr/>
                <p:nvPr/>
              </p:nvGrpSpPr>
              <p:grpSpPr>
                <a:xfrm>
                  <a:off x="5629320" y="3036960"/>
                  <a:ext cx="891720" cy="3133800"/>
                  <a:chOff x="5629320" y="3036960"/>
                  <a:chExt cx="891720" cy="313380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 flipV="1">
                    <a:off x="5902200" y="36655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5629320" y="3036960"/>
                    <a:ext cx="891720" cy="685440"/>
                    <a:chOff x="5629320" y="3036960"/>
                    <a:chExt cx="891720" cy="68544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198840" y="35038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6314760" y="34117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44" name=""/>
                    <p:cNvGrpSpPr/>
                    <p:nvPr/>
                  </p:nvGrpSpPr>
                  <p:grpSpPr>
                    <a:xfrm>
                      <a:off x="5629320" y="3036960"/>
                      <a:ext cx="579600" cy="685440"/>
                      <a:chOff x="5629320" y="3036960"/>
                      <a:chExt cx="579600" cy="685440"/>
                    </a:xfrm>
                  </p:grpSpPr>
                  <p:grpSp>
                    <p:nvGrpSpPr>
                      <p:cNvPr id="245" name=""/>
                      <p:cNvGrpSpPr/>
                      <p:nvPr/>
                    </p:nvGrpSpPr>
                    <p:grpSpPr>
                      <a:xfrm>
                        <a:off x="5633640" y="3290760"/>
                        <a:ext cx="575280" cy="431640"/>
                        <a:chOff x="5633640" y="3290760"/>
                        <a:chExt cx="575280" cy="431640"/>
                      </a:xfrm>
                    </p:grpSpPr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V="1">
                          <a:off x="5633640" y="33991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V="1">
                          <a:off x="5633640" y="32907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>
                          <a:off x="5633640" y="36140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>
                          <a:off x="6208920" y="32911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50" name=""/>
                      <p:cNvSpPr/>
                      <p:nvPr/>
                    </p:nvSpPr>
                    <p:spPr>
                      <a:xfrm>
                        <a:off x="5629320" y="30369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251" name=""/>
                  <p:cNvSpPr/>
                  <p:nvPr/>
                </p:nvSpPr>
                <p:spPr>
                  <a:xfrm>
                    <a:off x="5719680" y="36226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5902200" y="40798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flipV="1">
                    <a:off x="6211800" y="36842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6211800" y="40798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6211800" y="56293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6211800" y="46213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7" name=""/>
                <p:cNvSpPr/>
                <p:nvPr/>
              </p:nvSpPr>
              <p:spPr>
                <a:xfrm>
                  <a:off x="5673600" y="33688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7128000" y="3036960"/>
                <a:ext cx="1194840" cy="3133800"/>
                <a:chOff x="7128000" y="3036960"/>
                <a:chExt cx="1194840" cy="31338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7128000" y="3036960"/>
                  <a:ext cx="1194840" cy="3133800"/>
                  <a:chOff x="7128000" y="3036960"/>
                  <a:chExt cx="1194840" cy="31338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 flipV="1">
                    <a:off x="7382160" y="36655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1" name=""/>
                  <p:cNvGrpSpPr/>
                  <p:nvPr/>
                </p:nvGrpSpPr>
                <p:grpSpPr>
                  <a:xfrm>
                    <a:off x="7128000" y="3036960"/>
                    <a:ext cx="891720" cy="685440"/>
                    <a:chOff x="7128000" y="3036960"/>
                    <a:chExt cx="891720" cy="685440"/>
                  </a:xfrm>
                </p:grpSpPr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697520" y="35038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813440" y="34117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64" name=""/>
                    <p:cNvGrpSpPr/>
                    <p:nvPr/>
                  </p:nvGrpSpPr>
                  <p:grpSpPr>
                    <a:xfrm>
                      <a:off x="7128000" y="3036960"/>
                      <a:ext cx="579600" cy="685440"/>
                      <a:chOff x="7128000" y="3036960"/>
                      <a:chExt cx="579600" cy="685440"/>
                    </a:xfrm>
                  </p:grpSpPr>
                  <p:grpSp>
                    <p:nvGrpSpPr>
                      <p:cNvPr id="265" name=""/>
                      <p:cNvGrpSpPr/>
                      <p:nvPr/>
                    </p:nvGrpSpPr>
                    <p:grpSpPr>
                      <a:xfrm>
                        <a:off x="7132320" y="3290760"/>
                        <a:ext cx="575280" cy="431640"/>
                        <a:chOff x="7132320" y="3290760"/>
                        <a:chExt cx="575280" cy="431640"/>
                      </a:xfrm>
                    </p:grpSpPr>
                    <p:sp>
                      <p:nvSpPr>
                        <p:cNvPr id="266" name=""/>
                        <p:cNvSpPr/>
                        <p:nvPr/>
                      </p:nvSpPr>
                      <p:spPr>
                        <a:xfrm flipV="1">
                          <a:off x="7132320" y="33991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7" name=""/>
                        <p:cNvSpPr/>
                        <p:nvPr/>
                      </p:nvSpPr>
                      <p:spPr>
                        <a:xfrm flipV="1">
                          <a:off x="7132320" y="32907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8" name=""/>
                        <p:cNvSpPr/>
                        <p:nvPr/>
                      </p:nvSpPr>
                      <p:spPr>
                        <a:xfrm>
                          <a:off x="7132320" y="36140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9" name=""/>
                        <p:cNvSpPr/>
                        <p:nvPr/>
                      </p:nvSpPr>
                      <p:spPr>
                        <a:xfrm>
                          <a:off x="7707600" y="32911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70" name=""/>
                      <p:cNvSpPr/>
                      <p:nvPr/>
                    </p:nvSpPr>
                    <p:spPr>
                      <a:xfrm>
                        <a:off x="7128000" y="30369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271" name=""/>
                  <p:cNvSpPr/>
                  <p:nvPr/>
                </p:nvSpPr>
                <p:spPr>
                  <a:xfrm>
                    <a:off x="7218360" y="36226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7382160" y="40798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7558200" y="36842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7558200" y="40798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7558200" y="56293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7558200" y="46213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7826400" y="3721320"/>
                    <a:ext cx="496440" cy="187200"/>
                    <a:chOff x="7826400" y="3721320"/>
                    <a:chExt cx="496440" cy="18720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7826400" y="3721320"/>
                      <a:ext cx="208080" cy="18720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260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79" name=""/>
                    <p:cNvGrpSpPr/>
                    <p:nvPr/>
                  </p:nvGrpSpPr>
                  <p:grpSpPr>
                    <a:xfrm>
                      <a:off x="7905600" y="3757680"/>
                      <a:ext cx="417240" cy="117360"/>
                      <a:chOff x="7905600" y="3757680"/>
                      <a:chExt cx="417240" cy="117360"/>
                    </a:xfrm>
                  </p:grpSpPr>
                  <p:sp>
                    <p:nvSpPr>
                      <p:cNvPr id="280" name=""/>
                      <p:cNvSpPr/>
                      <p:nvPr/>
                    </p:nvSpPr>
                    <p:spPr>
                      <a:xfrm>
                        <a:off x="7905600" y="3757680"/>
                        <a:ext cx="412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1" name=""/>
                      <p:cNvSpPr/>
                      <p:nvPr/>
                    </p:nvSpPr>
                    <p:spPr>
                      <a:xfrm>
                        <a:off x="7909920" y="3760920"/>
                        <a:ext cx="59760" cy="5508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" name=""/>
                      <p:cNvSpPr/>
                      <p:nvPr/>
                    </p:nvSpPr>
                    <p:spPr>
                      <a:xfrm flipH="1">
                        <a:off x="7909920" y="3820320"/>
                        <a:ext cx="59760" cy="5472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920" bIns="7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" name=""/>
                      <p:cNvSpPr/>
                      <p:nvPr/>
                    </p:nvSpPr>
                    <p:spPr>
                      <a:xfrm>
                        <a:off x="7909920" y="3875040"/>
                        <a:ext cx="4129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284" name=""/>
                  <p:cNvSpPr/>
                  <p:nvPr/>
                </p:nvSpPr>
                <p:spPr>
                  <a:xfrm flipV="1">
                    <a:off x="7710480" y="3709800"/>
                    <a:ext cx="0" cy="1191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7705800" y="3829320"/>
                    <a:ext cx="1191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"/>
                <p:cNvSpPr/>
                <p:nvPr/>
              </p:nvSpPr>
              <p:spPr>
                <a:xfrm>
                  <a:off x="7184880" y="33688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8586720" y="3036960"/>
                <a:ext cx="1194840" cy="3133800"/>
                <a:chOff x="8586720" y="3036960"/>
                <a:chExt cx="1194840" cy="3133800"/>
              </a:xfrm>
            </p:grpSpPr>
            <p:grpSp>
              <p:nvGrpSpPr>
                <p:cNvPr id="288" name=""/>
                <p:cNvGrpSpPr/>
                <p:nvPr/>
              </p:nvGrpSpPr>
              <p:grpSpPr>
                <a:xfrm>
                  <a:off x="8586720" y="3036960"/>
                  <a:ext cx="1194840" cy="3133800"/>
                  <a:chOff x="8586720" y="3036960"/>
                  <a:chExt cx="1194840" cy="313380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 flipV="1">
                    <a:off x="8840880" y="36655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0" name=""/>
                  <p:cNvGrpSpPr/>
                  <p:nvPr/>
                </p:nvGrpSpPr>
                <p:grpSpPr>
                  <a:xfrm>
                    <a:off x="8586720" y="3036960"/>
                    <a:ext cx="891720" cy="685440"/>
                    <a:chOff x="8586720" y="3036960"/>
                    <a:chExt cx="891720" cy="685440"/>
                  </a:xfrm>
                </p:grpSpPr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9156240" y="35038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9272160" y="34117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93" name=""/>
                    <p:cNvGrpSpPr/>
                    <p:nvPr/>
                  </p:nvGrpSpPr>
                  <p:grpSpPr>
                    <a:xfrm>
                      <a:off x="8586720" y="3036960"/>
                      <a:ext cx="579600" cy="685440"/>
                      <a:chOff x="8586720" y="3036960"/>
                      <a:chExt cx="579600" cy="685440"/>
                    </a:xfrm>
                  </p:grpSpPr>
                  <p:grpSp>
                    <p:nvGrpSpPr>
                      <p:cNvPr id="294" name=""/>
                      <p:cNvGrpSpPr/>
                      <p:nvPr/>
                    </p:nvGrpSpPr>
                    <p:grpSpPr>
                      <a:xfrm>
                        <a:off x="8591040" y="3290760"/>
                        <a:ext cx="575280" cy="431640"/>
                        <a:chOff x="8591040" y="3290760"/>
                        <a:chExt cx="575280" cy="431640"/>
                      </a:xfrm>
                    </p:grpSpPr>
                    <p:sp>
                      <p:nvSpPr>
                        <p:cNvPr id="295" name=""/>
                        <p:cNvSpPr/>
                        <p:nvPr/>
                      </p:nvSpPr>
                      <p:spPr>
                        <a:xfrm flipV="1">
                          <a:off x="8591040" y="33991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" name=""/>
                        <p:cNvSpPr/>
                        <p:nvPr/>
                      </p:nvSpPr>
                      <p:spPr>
                        <a:xfrm flipV="1">
                          <a:off x="8591040" y="32907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" name=""/>
                        <p:cNvSpPr/>
                        <p:nvPr/>
                      </p:nvSpPr>
                      <p:spPr>
                        <a:xfrm>
                          <a:off x="8591040" y="36140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8" name=""/>
                        <p:cNvSpPr/>
                        <p:nvPr/>
                      </p:nvSpPr>
                      <p:spPr>
                        <a:xfrm>
                          <a:off x="9166320" y="32911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99" name=""/>
                      <p:cNvSpPr/>
                      <p:nvPr/>
                    </p:nvSpPr>
                    <p:spPr>
                      <a:xfrm>
                        <a:off x="8586720" y="30369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00" name=""/>
                  <p:cNvSpPr/>
                  <p:nvPr/>
                </p:nvSpPr>
                <p:spPr>
                  <a:xfrm>
                    <a:off x="8677080" y="36226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8840880" y="40798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flipV="1">
                    <a:off x="9016920" y="36842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9016920" y="40798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9016920" y="56293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9016920" y="46213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6" name=""/>
                  <p:cNvGrpSpPr/>
                  <p:nvPr/>
                </p:nvGrpSpPr>
                <p:grpSpPr>
                  <a:xfrm>
                    <a:off x="9285120" y="3721320"/>
                    <a:ext cx="496440" cy="187200"/>
                    <a:chOff x="9285120" y="3721320"/>
                    <a:chExt cx="496440" cy="187200"/>
                  </a:xfrm>
                </p:grpSpPr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9285120" y="3721320"/>
                      <a:ext cx="208080" cy="18720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260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8" name=""/>
                    <p:cNvGrpSpPr/>
                    <p:nvPr/>
                  </p:nvGrpSpPr>
                  <p:grpSpPr>
                    <a:xfrm>
                      <a:off x="9364320" y="3757680"/>
                      <a:ext cx="417240" cy="117360"/>
                      <a:chOff x="9364320" y="3757680"/>
                      <a:chExt cx="417240" cy="117360"/>
                    </a:xfrm>
                  </p:grpSpPr>
                  <p:sp>
                    <p:nvSpPr>
                      <p:cNvPr id="309" name=""/>
                      <p:cNvSpPr/>
                      <p:nvPr/>
                    </p:nvSpPr>
                    <p:spPr>
                      <a:xfrm>
                        <a:off x="9364320" y="3757680"/>
                        <a:ext cx="412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0" name=""/>
                      <p:cNvSpPr/>
                      <p:nvPr/>
                    </p:nvSpPr>
                    <p:spPr>
                      <a:xfrm>
                        <a:off x="9368640" y="3760920"/>
                        <a:ext cx="59760" cy="5508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1" name=""/>
                      <p:cNvSpPr/>
                      <p:nvPr/>
                    </p:nvSpPr>
                    <p:spPr>
                      <a:xfrm flipH="1">
                        <a:off x="9368640" y="3820320"/>
                        <a:ext cx="59760" cy="5472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920" bIns="7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2" name=""/>
                      <p:cNvSpPr/>
                      <p:nvPr/>
                    </p:nvSpPr>
                    <p:spPr>
                      <a:xfrm>
                        <a:off x="9368640" y="3875040"/>
                        <a:ext cx="4129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13" name=""/>
                  <p:cNvSpPr/>
                  <p:nvPr/>
                </p:nvSpPr>
                <p:spPr>
                  <a:xfrm flipV="1">
                    <a:off x="9169200" y="3709800"/>
                    <a:ext cx="0" cy="1191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9164520" y="3829320"/>
                    <a:ext cx="1191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5" name=""/>
                <p:cNvSpPr/>
                <p:nvPr/>
              </p:nvSpPr>
              <p:spPr>
                <a:xfrm>
                  <a:off x="8624880" y="33688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6" name=""/>
              <p:cNvSpPr/>
              <p:nvPr/>
            </p:nvSpPr>
            <p:spPr>
              <a:xfrm>
                <a:off x="200160" y="1506600"/>
                <a:ext cx="1871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Depozit zgura si cenu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87520" y="642960"/>
                <a:ext cx="5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521240" y="6429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583400" y="13161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6200000">
                <a:off x="99360" y="4559400"/>
                <a:ext cx="2095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3300"/>
                    </a:solidFill>
                    <a:latin typeface="Times New Roman"/>
                  </a:rPr>
                  <a:t>Consumatorii industriali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3249720" y="6083280"/>
                <a:ext cx="258480" cy="258840"/>
                <a:chOff x="3249720" y="6083280"/>
                <a:chExt cx="258480" cy="25884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249720" y="6083280"/>
                  <a:ext cx="258480" cy="258840"/>
                </a:xfrm>
                <a:prstGeom prst="ellipse">
                  <a:avLst/>
                </a:prstGeom>
                <a:solidFill>
                  <a:srgbClr val="ffcc99"/>
                </a:solidFill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H="1">
                  <a:off x="3297240" y="6214320"/>
                  <a:ext cx="155880" cy="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272880" y="166680"/>
            <a:ext cx="9566280" cy="6357600"/>
            <a:chOff x="272880" y="166680"/>
            <a:chExt cx="9566280" cy="6357600"/>
          </a:xfrm>
        </p:grpSpPr>
        <p:sp>
          <p:nvSpPr>
            <p:cNvPr id="325" name=""/>
            <p:cNvSpPr/>
            <p:nvPr/>
          </p:nvSpPr>
          <p:spPr>
            <a:xfrm>
              <a:off x="272880" y="166680"/>
              <a:ext cx="9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Times New Roman"/>
                </a:rPr>
                <a:t>SCHEMA TEHNOLOGICA LA SFARSITUL ANULUI 200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393840" y="809640"/>
              <a:ext cx="9445320" cy="5714640"/>
              <a:chOff x="393840" y="809640"/>
              <a:chExt cx="9445320" cy="5714640"/>
            </a:xfrm>
          </p:grpSpPr>
          <p:grpSp>
            <p:nvGrpSpPr>
              <p:cNvPr id="327" name=""/>
              <p:cNvGrpSpPr/>
              <p:nvPr/>
            </p:nvGrpSpPr>
            <p:grpSpPr>
              <a:xfrm>
                <a:off x="2401920" y="2484360"/>
                <a:ext cx="531360" cy="805680"/>
                <a:chOff x="2401920" y="2484360"/>
                <a:chExt cx="531360" cy="805680"/>
              </a:xfrm>
            </p:grpSpPr>
            <p:grpSp>
              <p:nvGrpSpPr>
                <p:cNvPr id="328" name=""/>
                <p:cNvGrpSpPr/>
                <p:nvPr/>
              </p:nvGrpSpPr>
              <p:grpSpPr>
                <a:xfrm>
                  <a:off x="2401920" y="2484360"/>
                  <a:ext cx="531360" cy="414000"/>
                  <a:chOff x="2401920" y="2484360"/>
                  <a:chExt cx="531360" cy="414000"/>
                </a:xfrm>
              </p:grpSpPr>
              <p:sp>
                <p:nvSpPr>
                  <p:cNvPr id="329" name=""/>
                  <p:cNvSpPr/>
                  <p:nvPr/>
                </p:nvSpPr>
                <p:spPr>
                  <a:xfrm>
                    <a:off x="2401920" y="248436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2421000" y="251568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7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1" name=""/>
                <p:cNvGrpSpPr/>
                <p:nvPr/>
              </p:nvGrpSpPr>
              <p:grpSpPr>
                <a:xfrm>
                  <a:off x="2467080" y="2896920"/>
                  <a:ext cx="412560" cy="393120"/>
                  <a:chOff x="2467080" y="2896920"/>
                  <a:chExt cx="412560" cy="39312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>
                    <a:off x="2671560" y="289692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>
                    <a:off x="2469960" y="300456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467080" y="309996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 flipH="1">
                    <a:off x="2665440" y="309996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2674800" y="318384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7" name=""/>
              <p:cNvSpPr/>
              <p:nvPr/>
            </p:nvSpPr>
            <p:spPr>
              <a:xfrm>
                <a:off x="1208160" y="3311640"/>
                <a:ext cx="81201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8" name=""/>
              <p:cNvGrpSpPr/>
              <p:nvPr/>
            </p:nvGrpSpPr>
            <p:grpSpPr>
              <a:xfrm>
                <a:off x="2390760" y="1273320"/>
                <a:ext cx="560160" cy="1217520"/>
                <a:chOff x="2390760" y="1273320"/>
                <a:chExt cx="560160" cy="121752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2390760" y="1819440"/>
                  <a:ext cx="21600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502000" y="208764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2735280" y="1819440"/>
                  <a:ext cx="21564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2846160" y="208764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502000" y="16556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846160" y="16556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5" name=""/>
                <p:cNvGrpSpPr/>
                <p:nvPr/>
              </p:nvGrpSpPr>
              <p:grpSpPr>
                <a:xfrm>
                  <a:off x="2390760" y="1435320"/>
                  <a:ext cx="216000" cy="215640"/>
                  <a:chOff x="2390760" y="1435320"/>
                  <a:chExt cx="216000" cy="21564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2390760" y="143532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H="1">
                    <a:off x="2436480" y="149220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2535120" y="149220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2735280" y="1435320"/>
                  <a:ext cx="215640" cy="215640"/>
                  <a:chOff x="2735280" y="1435320"/>
                  <a:chExt cx="215640" cy="21564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2735280" y="1435320"/>
                    <a:ext cx="21564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flipH="1">
                    <a:off x="2781000" y="1492200"/>
                    <a:ext cx="2160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2879280" y="149220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" name=""/>
                <p:cNvSpPr/>
                <p:nvPr/>
              </p:nvSpPr>
              <p:spPr>
                <a:xfrm>
                  <a:off x="2502000" y="127332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846160" y="127332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5" name=""/>
              <p:cNvSpPr/>
              <p:nvPr/>
            </p:nvSpPr>
            <p:spPr>
              <a:xfrm flipH="1">
                <a:off x="1496880" y="2303640"/>
                <a:ext cx="9129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6" name=""/>
              <p:cNvGrpSpPr/>
              <p:nvPr/>
            </p:nvGrpSpPr>
            <p:grpSpPr>
              <a:xfrm>
                <a:off x="2127240" y="2303640"/>
                <a:ext cx="264960" cy="360360"/>
                <a:chOff x="2127240" y="2303640"/>
                <a:chExt cx="264960" cy="36036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2133360" y="230364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H="1">
                  <a:off x="2127240" y="266400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3854520" y="2484360"/>
                <a:ext cx="531360" cy="805680"/>
                <a:chOff x="3854520" y="2484360"/>
                <a:chExt cx="531360" cy="805680"/>
              </a:xfrm>
            </p:grpSpPr>
            <p:grpSp>
              <p:nvGrpSpPr>
                <p:cNvPr id="360" name=""/>
                <p:cNvGrpSpPr/>
                <p:nvPr/>
              </p:nvGrpSpPr>
              <p:grpSpPr>
                <a:xfrm>
                  <a:off x="3854520" y="2484360"/>
                  <a:ext cx="531360" cy="414000"/>
                  <a:chOff x="3854520" y="2484360"/>
                  <a:chExt cx="531360" cy="41400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>
                    <a:off x="3854520" y="248436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3873600" y="251568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3" name=""/>
                <p:cNvGrpSpPr/>
                <p:nvPr/>
              </p:nvGrpSpPr>
              <p:grpSpPr>
                <a:xfrm>
                  <a:off x="3919680" y="2896920"/>
                  <a:ext cx="412560" cy="393120"/>
                  <a:chOff x="3919680" y="2896920"/>
                  <a:chExt cx="412560" cy="39312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>
                    <a:off x="4124160" y="289692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 flipH="1">
                    <a:off x="3922560" y="300456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3919680" y="309996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flipH="1">
                    <a:off x="4118040" y="309996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4127400" y="318384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9" name=""/>
              <p:cNvSpPr/>
              <p:nvPr/>
            </p:nvSpPr>
            <p:spPr>
              <a:xfrm>
                <a:off x="3843360" y="181944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954600" y="208764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187880" y="181944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299120" y="208764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954600" y="16556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299120" y="16556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5" name=""/>
              <p:cNvGrpSpPr/>
              <p:nvPr/>
            </p:nvGrpSpPr>
            <p:grpSpPr>
              <a:xfrm>
                <a:off x="3843360" y="1434960"/>
                <a:ext cx="216000" cy="215640"/>
                <a:chOff x="3843360" y="1434960"/>
                <a:chExt cx="216000" cy="21564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843360" y="143496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H="1">
                  <a:off x="3889080" y="149184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3987720" y="149184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4187880" y="1434960"/>
                <a:ext cx="216000" cy="215640"/>
                <a:chOff x="4187880" y="1434960"/>
                <a:chExt cx="216000" cy="21564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4187880" y="143496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H="1">
                  <a:off x="4233600" y="149184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4332240" y="149184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"/>
              <p:cNvSpPr/>
              <p:nvPr/>
            </p:nvSpPr>
            <p:spPr>
              <a:xfrm>
                <a:off x="3954600" y="12733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299120" y="12733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5" name=""/>
              <p:cNvGrpSpPr/>
              <p:nvPr/>
            </p:nvGrpSpPr>
            <p:grpSpPr>
              <a:xfrm>
                <a:off x="3579840" y="2303640"/>
                <a:ext cx="264960" cy="360360"/>
                <a:chOff x="3579840" y="2303640"/>
                <a:chExt cx="264960" cy="36036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3585960" y="230364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H="1">
                  <a:off x="3579840" y="266400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8" name=""/>
              <p:cNvSpPr/>
              <p:nvPr/>
            </p:nvSpPr>
            <p:spPr>
              <a:xfrm flipH="1">
                <a:off x="2558880" y="2303640"/>
                <a:ext cx="21600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2919240" y="2303640"/>
                <a:ext cx="9352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3998880" y="2303640"/>
                <a:ext cx="21600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4359240" y="2303640"/>
                <a:ext cx="9446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2" name=""/>
              <p:cNvGrpSpPr/>
              <p:nvPr/>
            </p:nvGrpSpPr>
            <p:grpSpPr>
              <a:xfrm>
                <a:off x="5570640" y="2484360"/>
                <a:ext cx="531360" cy="805680"/>
                <a:chOff x="5570640" y="2484360"/>
                <a:chExt cx="531360" cy="805680"/>
              </a:xfrm>
            </p:grpSpPr>
            <p:grpSp>
              <p:nvGrpSpPr>
                <p:cNvPr id="393" name=""/>
                <p:cNvGrpSpPr/>
                <p:nvPr/>
              </p:nvGrpSpPr>
              <p:grpSpPr>
                <a:xfrm>
                  <a:off x="5570640" y="2484360"/>
                  <a:ext cx="531360" cy="414000"/>
                  <a:chOff x="5570640" y="2484360"/>
                  <a:chExt cx="531360" cy="414000"/>
                </a:xfrm>
              </p:grpSpPr>
              <p:sp>
                <p:nvSpPr>
                  <p:cNvPr id="394" name=""/>
                  <p:cNvSpPr/>
                  <p:nvPr/>
                </p:nvSpPr>
                <p:spPr>
                  <a:xfrm>
                    <a:off x="5570640" y="248436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5589720" y="251568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"/>
                <p:cNvGrpSpPr/>
                <p:nvPr/>
              </p:nvGrpSpPr>
              <p:grpSpPr>
                <a:xfrm>
                  <a:off x="5635800" y="2896920"/>
                  <a:ext cx="412560" cy="393120"/>
                  <a:chOff x="5635800" y="2896920"/>
                  <a:chExt cx="412560" cy="393120"/>
                </a:xfrm>
              </p:grpSpPr>
              <p:sp>
                <p:nvSpPr>
                  <p:cNvPr id="397" name=""/>
                  <p:cNvSpPr/>
                  <p:nvPr/>
                </p:nvSpPr>
                <p:spPr>
                  <a:xfrm>
                    <a:off x="5840280" y="289692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flipH="1">
                    <a:off x="5638680" y="300456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5635800" y="309996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flipH="1">
                    <a:off x="5834160" y="309996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5843520" y="318384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2" name=""/>
              <p:cNvGrpSpPr/>
              <p:nvPr/>
            </p:nvGrpSpPr>
            <p:grpSpPr>
              <a:xfrm>
                <a:off x="5559480" y="1273320"/>
                <a:ext cx="560160" cy="1217520"/>
                <a:chOff x="5559480" y="1273320"/>
                <a:chExt cx="560160" cy="12175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5559480" y="1819440"/>
                  <a:ext cx="21600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670720" y="208764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5904000" y="1819440"/>
                  <a:ext cx="21564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014880" y="208764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670720" y="16556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014880" y="16556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9" name=""/>
                <p:cNvGrpSpPr/>
                <p:nvPr/>
              </p:nvGrpSpPr>
              <p:grpSpPr>
                <a:xfrm>
                  <a:off x="5559480" y="1435320"/>
                  <a:ext cx="216000" cy="215640"/>
                  <a:chOff x="5559480" y="1435320"/>
                  <a:chExt cx="216000" cy="21564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5559480" y="143532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flipH="1">
                    <a:off x="5605200" y="149220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5703840" y="149220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5904000" y="1435320"/>
                  <a:ext cx="215640" cy="215640"/>
                  <a:chOff x="5904000" y="1435320"/>
                  <a:chExt cx="215640" cy="21564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>
                    <a:off x="5904000" y="1435320"/>
                    <a:ext cx="21564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H="1">
                    <a:off x="5949720" y="1492200"/>
                    <a:ext cx="2160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6048000" y="149220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7" name=""/>
                <p:cNvSpPr/>
                <p:nvPr/>
              </p:nvSpPr>
              <p:spPr>
                <a:xfrm>
                  <a:off x="5670720" y="127332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6014880" y="127332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5295960" y="2303640"/>
                <a:ext cx="264960" cy="360360"/>
                <a:chOff x="5295960" y="2303640"/>
                <a:chExt cx="264960" cy="36036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5302080" y="230364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H="1">
                  <a:off x="5295960" y="266400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4805280" y="1093680"/>
                <a:ext cx="360360" cy="360360"/>
                <a:chOff x="4805280" y="1093680"/>
                <a:chExt cx="360360" cy="36036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4878360" y="116676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805280" y="109368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"/>
              <p:cNvSpPr/>
              <p:nvPr/>
            </p:nvSpPr>
            <p:spPr>
              <a:xfrm>
                <a:off x="3946680" y="1281240"/>
                <a:ext cx="826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5198760" y="1281240"/>
                <a:ext cx="826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"/>
              <p:cNvGrpSpPr/>
              <p:nvPr/>
            </p:nvGrpSpPr>
            <p:grpSpPr>
              <a:xfrm>
                <a:off x="7075440" y="2484360"/>
                <a:ext cx="531360" cy="805680"/>
                <a:chOff x="7075440" y="2484360"/>
                <a:chExt cx="531360" cy="805680"/>
              </a:xfrm>
            </p:grpSpPr>
            <p:grpSp>
              <p:nvGrpSpPr>
                <p:cNvPr id="428" name=""/>
                <p:cNvGrpSpPr/>
                <p:nvPr/>
              </p:nvGrpSpPr>
              <p:grpSpPr>
                <a:xfrm>
                  <a:off x="7075440" y="2484360"/>
                  <a:ext cx="531360" cy="414000"/>
                  <a:chOff x="7075440" y="2484360"/>
                  <a:chExt cx="531360" cy="41400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7075440" y="248436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7094520" y="251568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7140600" y="2896920"/>
                  <a:ext cx="412560" cy="393120"/>
                  <a:chOff x="7140600" y="2896920"/>
                  <a:chExt cx="412560" cy="39312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>
                    <a:off x="7345080" y="289692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>
                    <a:off x="7143480" y="300456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7140600" y="309996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H="1">
                    <a:off x="7338960" y="309996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7348320" y="318384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7" name=""/>
              <p:cNvGrpSpPr/>
              <p:nvPr/>
            </p:nvGrpSpPr>
            <p:grpSpPr>
              <a:xfrm>
                <a:off x="8526600" y="2484360"/>
                <a:ext cx="531360" cy="805680"/>
                <a:chOff x="8526600" y="2484360"/>
                <a:chExt cx="531360" cy="805680"/>
              </a:xfrm>
            </p:grpSpPr>
            <p:grpSp>
              <p:nvGrpSpPr>
                <p:cNvPr id="438" name=""/>
                <p:cNvGrpSpPr/>
                <p:nvPr/>
              </p:nvGrpSpPr>
              <p:grpSpPr>
                <a:xfrm>
                  <a:off x="8526600" y="2484360"/>
                  <a:ext cx="531360" cy="414000"/>
                  <a:chOff x="8526600" y="2484360"/>
                  <a:chExt cx="531360" cy="41400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>
                    <a:off x="8526600" y="248436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8545680" y="251568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1" name=""/>
                <p:cNvGrpSpPr/>
                <p:nvPr/>
              </p:nvGrpSpPr>
              <p:grpSpPr>
                <a:xfrm>
                  <a:off x="8591760" y="2896920"/>
                  <a:ext cx="412560" cy="393120"/>
                  <a:chOff x="8591760" y="2896920"/>
                  <a:chExt cx="412560" cy="39312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8796240" y="289692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flipH="1">
                    <a:off x="8594640" y="300456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8591760" y="309996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>
                    <a:off x="8790120" y="309996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8799480" y="318384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7" name=""/>
              <p:cNvGrpSpPr/>
              <p:nvPr/>
            </p:nvGrpSpPr>
            <p:grpSpPr>
              <a:xfrm>
                <a:off x="7886880" y="1741320"/>
                <a:ext cx="360360" cy="360360"/>
                <a:chOff x="7886880" y="1741320"/>
                <a:chExt cx="360360" cy="36036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7959960" y="181440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7886880" y="174132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0" name=""/>
              <p:cNvSpPr/>
              <p:nvPr/>
            </p:nvSpPr>
            <p:spPr>
              <a:xfrm>
                <a:off x="7334280" y="1924200"/>
                <a:ext cx="460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324560" y="1895400"/>
                <a:ext cx="0" cy="576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775720" y="1895400"/>
                <a:ext cx="0" cy="576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992160" y="4206960"/>
                <a:ext cx="87850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920880" y="4743360"/>
                <a:ext cx="88563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136520" y="3048120"/>
                <a:ext cx="720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140 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150920" y="39513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35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150920" y="449280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13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992160" y="5749920"/>
                <a:ext cx="87850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150920" y="549108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6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305240" y="6399360"/>
                <a:ext cx="547200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992160" y="6399360"/>
                <a:ext cx="29527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2" name=""/>
              <p:cNvGrpSpPr/>
              <p:nvPr/>
            </p:nvGrpSpPr>
            <p:grpSpPr>
              <a:xfrm>
                <a:off x="3935520" y="6254640"/>
                <a:ext cx="358560" cy="269640"/>
                <a:chOff x="3935520" y="6254640"/>
                <a:chExt cx="358560" cy="26964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3935520" y="6254640"/>
                  <a:ext cx="358560" cy="2696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H="1">
                  <a:off x="3935520" y="6254640"/>
                  <a:ext cx="358560" cy="2649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5" name=""/>
              <p:cNvSpPr/>
              <p:nvPr/>
            </p:nvSpPr>
            <p:spPr>
              <a:xfrm>
                <a:off x="1150920" y="6111720"/>
                <a:ext cx="1513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ermoficare urba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8307000" y="1924200"/>
                <a:ext cx="460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88880" y="2004840"/>
                <a:ext cx="935280" cy="32256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8" name=""/>
              <p:cNvGrpSpPr/>
              <p:nvPr/>
            </p:nvGrpSpPr>
            <p:grpSpPr>
              <a:xfrm>
                <a:off x="4132440" y="3230640"/>
                <a:ext cx="891720" cy="3133800"/>
                <a:chOff x="4132440" y="3230640"/>
                <a:chExt cx="891720" cy="3133800"/>
              </a:xfrm>
            </p:grpSpPr>
            <p:grpSp>
              <p:nvGrpSpPr>
                <p:cNvPr id="469" name=""/>
                <p:cNvGrpSpPr/>
                <p:nvPr/>
              </p:nvGrpSpPr>
              <p:grpSpPr>
                <a:xfrm>
                  <a:off x="4132440" y="3230640"/>
                  <a:ext cx="891720" cy="3133800"/>
                  <a:chOff x="4132440" y="3230640"/>
                  <a:chExt cx="891720" cy="313380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 flipV="1">
                    <a:off x="4405320" y="385920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71" name=""/>
                  <p:cNvGrpSpPr/>
                  <p:nvPr/>
                </p:nvGrpSpPr>
                <p:grpSpPr>
                  <a:xfrm>
                    <a:off x="4132440" y="3230640"/>
                    <a:ext cx="891720" cy="685440"/>
                    <a:chOff x="4132440" y="3230640"/>
                    <a:chExt cx="891720" cy="685440"/>
                  </a:xfrm>
                </p:grpSpPr>
                <p:sp>
                  <p:nvSpPr>
                    <p:cNvPr id="472" name=""/>
                    <p:cNvSpPr/>
                    <p:nvPr/>
                  </p:nvSpPr>
                  <p:spPr>
                    <a:xfrm>
                      <a:off x="4701960" y="369756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>
                      <a:off x="4817880" y="360540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74" name=""/>
                    <p:cNvGrpSpPr/>
                    <p:nvPr/>
                  </p:nvGrpSpPr>
                  <p:grpSpPr>
                    <a:xfrm>
                      <a:off x="4132440" y="3230640"/>
                      <a:ext cx="579600" cy="685440"/>
                      <a:chOff x="4132440" y="3230640"/>
                      <a:chExt cx="579600" cy="685440"/>
                    </a:xfrm>
                  </p:grpSpPr>
                  <p:grpSp>
                    <p:nvGrpSpPr>
                      <p:cNvPr id="475" name=""/>
                      <p:cNvGrpSpPr/>
                      <p:nvPr/>
                    </p:nvGrpSpPr>
                    <p:grpSpPr>
                      <a:xfrm>
                        <a:off x="4136760" y="3484440"/>
                        <a:ext cx="575280" cy="431640"/>
                        <a:chOff x="4136760" y="3484440"/>
                        <a:chExt cx="575280" cy="431640"/>
                      </a:xfrm>
                    </p:grpSpPr>
                    <p:sp>
                      <p:nvSpPr>
                        <p:cNvPr id="476" name=""/>
                        <p:cNvSpPr/>
                        <p:nvPr/>
                      </p:nvSpPr>
                      <p:spPr>
                        <a:xfrm flipV="1">
                          <a:off x="4136760" y="359280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7" name=""/>
                        <p:cNvSpPr/>
                        <p:nvPr/>
                      </p:nvSpPr>
                      <p:spPr>
                        <a:xfrm flipV="1">
                          <a:off x="4136760" y="34844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8" name=""/>
                        <p:cNvSpPr/>
                        <p:nvPr/>
                      </p:nvSpPr>
                      <p:spPr>
                        <a:xfrm>
                          <a:off x="4136760" y="380772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9" name=""/>
                        <p:cNvSpPr/>
                        <p:nvPr/>
                      </p:nvSpPr>
                      <p:spPr>
                        <a:xfrm>
                          <a:off x="4712040" y="348480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80" name=""/>
                      <p:cNvSpPr/>
                      <p:nvPr/>
                    </p:nvSpPr>
                    <p:spPr>
                      <a:xfrm>
                        <a:off x="4132440" y="323064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81" name=""/>
                  <p:cNvSpPr/>
                  <p:nvPr/>
                </p:nvSpPr>
                <p:spPr>
                  <a:xfrm>
                    <a:off x="4222800" y="381636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4405320" y="427356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flipV="1">
                    <a:off x="4714920" y="387792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4714920" y="427356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4714920" y="582300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4714920" y="481500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7" name=""/>
                <p:cNvSpPr/>
                <p:nvPr/>
              </p:nvSpPr>
              <p:spPr>
                <a:xfrm>
                  <a:off x="4170600" y="356256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5845320" y="3230640"/>
                <a:ext cx="891720" cy="3133800"/>
                <a:chOff x="5845320" y="3230640"/>
                <a:chExt cx="891720" cy="3133800"/>
              </a:xfrm>
            </p:grpSpPr>
            <p:grpSp>
              <p:nvGrpSpPr>
                <p:cNvPr id="489" name=""/>
                <p:cNvGrpSpPr/>
                <p:nvPr/>
              </p:nvGrpSpPr>
              <p:grpSpPr>
                <a:xfrm>
                  <a:off x="5845320" y="3230640"/>
                  <a:ext cx="891720" cy="3133800"/>
                  <a:chOff x="5845320" y="3230640"/>
                  <a:chExt cx="891720" cy="3133800"/>
                </a:xfrm>
              </p:grpSpPr>
              <p:sp>
                <p:nvSpPr>
                  <p:cNvPr id="490" name=""/>
                  <p:cNvSpPr/>
                  <p:nvPr/>
                </p:nvSpPr>
                <p:spPr>
                  <a:xfrm flipV="1">
                    <a:off x="6118200" y="385920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91" name=""/>
                  <p:cNvGrpSpPr/>
                  <p:nvPr/>
                </p:nvGrpSpPr>
                <p:grpSpPr>
                  <a:xfrm>
                    <a:off x="5845320" y="3230640"/>
                    <a:ext cx="891720" cy="685440"/>
                    <a:chOff x="5845320" y="3230640"/>
                    <a:chExt cx="891720" cy="685440"/>
                  </a:xfrm>
                </p:grpSpPr>
                <p:sp>
                  <p:nvSpPr>
                    <p:cNvPr id="492" name=""/>
                    <p:cNvSpPr/>
                    <p:nvPr/>
                  </p:nvSpPr>
                  <p:spPr>
                    <a:xfrm>
                      <a:off x="6414840" y="369756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3" name=""/>
                    <p:cNvSpPr/>
                    <p:nvPr/>
                  </p:nvSpPr>
                  <p:spPr>
                    <a:xfrm>
                      <a:off x="6530760" y="360540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94" name=""/>
                    <p:cNvGrpSpPr/>
                    <p:nvPr/>
                  </p:nvGrpSpPr>
                  <p:grpSpPr>
                    <a:xfrm>
                      <a:off x="5845320" y="3230640"/>
                      <a:ext cx="579600" cy="685440"/>
                      <a:chOff x="5845320" y="3230640"/>
                      <a:chExt cx="579600" cy="685440"/>
                    </a:xfrm>
                  </p:grpSpPr>
                  <p:grpSp>
                    <p:nvGrpSpPr>
                      <p:cNvPr id="495" name=""/>
                      <p:cNvGrpSpPr/>
                      <p:nvPr/>
                    </p:nvGrpSpPr>
                    <p:grpSpPr>
                      <a:xfrm>
                        <a:off x="5849640" y="3484440"/>
                        <a:ext cx="575280" cy="431640"/>
                        <a:chOff x="5849640" y="3484440"/>
                        <a:chExt cx="575280" cy="431640"/>
                      </a:xfrm>
                    </p:grpSpPr>
                    <p:sp>
                      <p:nvSpPr>
                        <p:cNvPr id="496" name=""/>
                        <p:cNvSpPr/>
                        <p:nvPr/>
                      </p:nvSpPr>
                      <p:spPr>
                        <a:xfrm flipV="1">
                          <a:off x="5849640" y="359280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7" name=""/>
                        <p:cNvSpPr/>
                        <p:nvPr/>
                      </p:nvSpPr>
                      <p:spPr>
                        <a:xfrm flipV="1">
                          <a:off x="5849640" y="34844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8" name=""/>
                        <p:cNvSpPr/>
                        <p:nvPr/>
                      </p:nvSpPr>
                      <p:spPr>
                        <a:xfrm>
                          <a:off x="5849640" y="380772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9" name=""/>
                        <p:cNvSpPr/>
                        <p:nvPr/>
                      </p:nvSpPr>
                      <p:spPr>
                        <a:xfrm>
                          <a:off x="6424920" y="348480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500" name=""/>
                      <p:cNvSpPr/>
                      <p:nvPr/>
                    </p:nvSpPr>
                    <p:spPr>
                      <a:xfrm>
                        <a:off x="5845320" y="323064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501" name=""/>
                  <p:cNvSpPr/>
                  <p:nvPr/>
                </p:nvSpPr>
                <p:spPr>
                  <a:xfrm>
                    <a:off x="5935680" y="381636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6118200" y="427356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 flipV="1">
                    <a:off x="6427800" y="387792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6427800" y="427356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6427800" y="582300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6427800" y="481500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7" name=""/>
                <p:cNvSpPr/>
                <p:nvPr/>
              </p:nvSpPr>
              <p:spPr>
                <a:xfrm>
                  <a:off x="5889600" y="356256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7343640" y="3230640"/>
                <a:ext cx="1194840" cy="3133800"/>
                <a:chOff x="7343640" y="3230640"/>
                <a:chExt cx="1194840" cy="3133800"/>
              </a:xfrm>
            </p:grpSpPr>
            <p:grpSp>
              <p:nvGrpSpPr>
                <p:cNvPr id="509" name=""/>
                <p:cNvGrpSpPr/>
                <p:nvPr/>
              </p:nvGrpSpPr>
              <p:grpSpPr>
                <a:xfrm>
                  <a:off x="7343640" y="3230640"/>
                  <a:ext cx="1194840" cy="3133800"/>
                  <a:chOff x="7343640" y="3230640"/>
                  <a:chExt cx="1194840" cy="3133800"/>
                </a:xfrm>
              </p:grpSpPr>
              <p:sp>
                <p:nvSpPr>
                  <p:cNvPr id="510" name=""/>
                  <p:cNvSpPr/>
                  <p:nvPr/>
                </p:nvSpPr>
                <p:spPr>
                  <a:xfrm flipV="1">
                    <a:off x="7597800" y="385920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11" name=""/>
                  <p:cNvGrpSpPr/>
                  <p:nvPr/>
                </p:nvGrpSpPr>
                <p:grpSpPr>
                  <a:xfrm>
                    <a:off x="7343640" y="3230640"/>
                    <a:ext cx="891720" cy="685440"/>
                    <a:chOff x="7343640" y="3230640"/>
                    <a:chExt cx="891720" cy="685440"/>
                  </a:xfrm>
                </p:grpSpPr>
                <p:sp>
                  <p:nvSpPr>
                    <p:cNvPr id="512" name=""/>
                    <p:cNvSpPr/>
                    <p:nvPr/>
                  </p:nvSpPr>
                  <p:spPr>
                    <a:xfrm>
                      <a:off x="7913160" y="369756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>
                      <a:off x="8029080" y="360540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14" name=""/>
                    <p:cNvGrpSpPr/>
                    <p:nvPr/>
                  </p:nvGrpSpPr>
                  <p:grpSpPr>
                    <a:xfrm>
                      <a:off x="7343640" y="3230640"/>
                      <a:ext cx="579600" cy="685440"/>
                      <a:chOff x="7343640" y="3230640"/>
                      <a:chExt cx="579600" cy="685440"/>
                    </a:xfrm>
                  </p:grpSpPr>
                  <p:grpSp>
                    <p:nvGrpSpPr>
                      <p:cNvPr id="515" name=""/>
                      <p:cNvGrpSpPr/>
                      <p:nvPr/>
                    </p:nvGrpSpPr>
                    <p:grpSpPr>
                      <a:xfrm>
                        <a:off x="7347960" y="3484440"/>
                        <a:ext cx="575280" cy="431640"/>
                        <a:chOff x="7347960" y="3484440"/>
                        <a:chExt cx="575280" cy="431640"/>
                      </a:xfrm>
                    </p:grpSpPr>
                    <p:sp>
                      <p:nvSpPr>
                        <p:cNvPr id="516" name=""/>
                        <p:cNvSpPr/>
                        <p:nvPr/>
                      </p:nvSpPr>
                      <p:spPr>
                        <a:xfrm flipV="1">
                          <a:off x="7347960" y="359280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7" name=""/>
                        <p:cNvSpPr/>
                        <p:nvPr/>
                      </p:nvSpPr>
                      <p:spPr>
                        <a:xfrm flipV="1">
                          <a:off x="7347960" y="34844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8" name=""/>
                        <p:cNvSpPr/>
                        <p:nvPr/>
                      </p:nvSpPr>
                      <p:spPr>
                        <a:xfrm>
                          <a:off x="7347960" y="380772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9" name=""/>
                        <p:cNvSpPr/>
                        <p:nvPr/>
                      </p:nvSpPr>
                      <p:spPr>
                        <a:xfrm>
                          <a:off x="7923240" y="348480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520" name=""/>
                      <p:cNvSpPr/>
                      <p:nvPr/>
                    </p:nvSpPr>
                    <p:spPr>
                      <a:xfrm>
                        <a:off x="7343640" y="323064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521" name=""/>
                  <p:cNvSpPr/>
                  <p:nvPr/>
                </p:nvSpPr>
                <p:spPr>
                  <a:xfrm>
                    <a:off x="7434000" y="381636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7597800" y="427356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flipV="1">
                    <a:off x="7773840" y="387792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7773840" y="427356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7773840" y="582300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7773840" y="481500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27" name=""/>
                  <p:cNvGrpSpPr/>
                  <p:nvPr/>
                </p:nvGrpSpPr>
                <p:grpSpPr>
                  <a:xfrm>
                    <a:off x="8042040" y="3915000"/>
                    <a:ext cx="496440" cy="187200"/>
                    <a:chOff x="8042040" y="3915000"/>
                    <a:chExt cx="496440" cy="187200"/>
                  </a:xfrm>
                </p:grpSpPr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8042040" y="3915000"/>
                      <a:ext cx="208080" cy="18720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260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29" name=""/>
                    <p:cNvGrpSpPr/>
                    <p:nvPr/>
                  </p:nvGrpSpPr>
                  <p:grpSpPr>
                    <a:xfrm>
                      <a:off x="8121240" y="3951360"/>
                      <a:ext cx="417240" cy="117360"/>
                      <a:chOff x="8121240" y="3951360"/>
                      <a:chExt cx="417240" cy="117360"/>
                    </a:xfrm>
                  </p:grpSpPr>
                  <p:sp>
                    <p:nvSpPr>
                      <p:cNvPr id="530" name=""/>
                      <p:cNvSpPr/>
                      <p:nvPr/>
                    </p:nvSpPr>
                    <p:spPr>
                      <a:xfrm>
                        <a:off x="8121240" y="3951360"/>
                        <a:ext cx="412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1" name=""/>
                      <p:cNvSpPr/>
                      <p:nvPr/>
                    </p:nvSpPr>
                    <p:spPr>
                      <a:xfrm>
                        <a:off x="8125560" y="3954600"/>
                        <a:ext cx="59760" cy="5508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2" name=""/>
                      <p:cNvSpPr/>
                      <p:nvPr/>
                    </p:nvSpPr>
                    <p:spPr>
                      <a:xfrm flipH="1">
                        <a:off x="8125560" y="4014000"/>
                        <a:ext cx="59760" cy="5472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920" bIns="7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"/>
                      <p:cNvSpPr/>
                      <p:nvPr/>
                    </p:nvSpPr>
                    <p:spPr>
                      <a:xfrm>
                        <a:off x="8125560" y="4068720"/>
                        <a:ext cx="4129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534" name=""/>
                  <p:cNvSpPr/>
                  <p:nvPr/>
                </p:nvSpPr>
                <p:spPr>
                  <a:xfrm flipV="1">
                    <a:off x="7926120" y="3903480"/>
                    <a:ext cx="0" cy="1191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7921440" y="4023000"/>
                    <a:ext cx="1191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6" name=""/>
                <p:cNvSpPr/>
                <p:nvPr/>
              </p:nvSpPr>
              <p:spPr>
                <a:xfrm>
                  <a:off x="7400520" y="356256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7" name=""/>
              <p:cNvSpPr/>
              <p:nvPr/>
            </p:nvSpPr>
            <p:spPr>
              <a:xfrm>
                <a:off x="8840880" y="356220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04640" y="1700280"/>
                <a:ext cx="1308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Depozit cenu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737240" y="836640"/>
                <a:ext cx="5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799400" y="150984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1" name=""/>
              <p:cNvGrpSpPr/>
              <p:nvPr/>
            </p:nvGrpSpPr>
            <p:grpSpPr>
              <a:xfrm>
                <a:off x="1496880" y="3284640"/>
                <a:ext cx="671760" cy="882720"/>
                <a:chOff x="1496880" y="3284640"/>
                <a:chExt cx="671760" cy="88272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1855800" y="3697200"/>
                  <a:ext cx="10332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1962000" y="3605040"/>
                  <a:ext cx="206640" cy="190800"/>
                </a:xfrm>
                <a:prstGeom prst="ellipse">
                  <a:avLst/>
                </a:prstGeom>
                <a:solidFill>
                  <a:srgbClr val="ff7c8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4" name=""/>
                <p:cNvGrpSpPr/>
                <p:nvPr/>
              </p:nvGrpSpPr>
              <p:grpSpPr>
                <a:xfrm>
                  <a:off x="1496880" y="3484080"/>
                  <a:ext cx="365040" cy="432000"/>
                  <a:chOff x="1496880" y="3484080"/>
                  <a:chExt cx="365040" cy="432000"/>
                </a:xfrm>
              </p:grpSpPr>
              <p:sp>
                <p:nvSpPr>
                  <p:cNvPr id="545" name=""/>
                  <p:cNvSpPr/>
                  <p:nvPr/>
                </p:nvSpPr>
                <p:spPr>
                  <a:xfrm flipV="1">
                    <a:off x="1496880" y="3592440"/>
                    <a:ext cx="0" cy="2142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 flipV="1">
                    <a:off x="1496880" y="3484080"/>
                    <a:ext cx="365040" cy="108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1496880" y="3807360"/>
                    <a:ext cx="365040" cy="108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1861920" y="3484440"/>
                    <a:ext cx="0" cy="43164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9" name=""/>
                <p:cNvSpPr/>
                <p:nvPr/>
              </p:nvSpPr>
              <p:spPr>
                <a:xfrm>
                  <a:off x="1496880" y="3284640"/>
                  <a:ext cx="0" cy="3301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863720" y="3816360"/>
                  <a:ext cx="0" cy="3510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"/>
              <p:cNvSpPr/>
              <p:nvPr/>
            </p:nvSpPr>
            <p:spPr>
              <a:xfrm>
                <a:off x="1438200" y="356220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2" name=""/>
              <p:cNvGrpSpPr/>
              <p:nvPr/>
            </p:nvGrpSpPr>
            <p:grpSpPr>
              <a:xfrm>
                <a:off x="6792840" y="4757760"/>
                <a:ext cx="751680" cy="975240"/>
                <a:chOff x="6792840" y="4757760"/>
                <a:chExt cx="751680" cy="975240"/>
              </a:xfrm>
            </p:grpSpPr>
            <p:grpSp>
              <p:nvGrpSpPr>
                <p:cNvPr id="553" name=""/>
                <p:cNvGrpSpPr/>
                <p:nvPr/>
              </p:nvGrpSpPr>
              <p:grpSpPr>
                <a:xfrm>
                  <a:off x="6873480" y="4757760"/>
                  <a:ext cx="671040" cy="975240"/>
                  <a:chOff x="6873480" y="4757760"/>
                  <a:chExt cx="671040" cy="975240"/>
                </a:xfrm>
              </p:grpSpPr>
              <p:sp>
                <p:nvSpPr>
                  <p:cNvPr id="554" name=""/>
                  <p:cNvSpPr/>
                  <p:nvPr/>
                </p:nvSpPr>
                <p:spPr>
                  <a:xfrm>
                    <a:off x="7232040" y="5213880"/>
                    <a:ext cx="10296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7338240" y="5111640"/>
                    <a:ext cx="206280" cy="2106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56" name=""/>
                  <p:cNvGrpSpPr/>
                  <p:nvPr/>
                </p:nvGrpSpPr>
                <p:grpSpPr>
                  <a:xfrm>
                    <a:off x="6873480" y="4978080"/>
                    <a:ext cx="364680" cy="477360"/>
                    <a:chOff x="6873480" y="4978080"/>
                    <a:chExt cx="364680" cy="477360"/>
                  </a:xfrm>
                </p:grpSpPr>
                <p:sp>
                  <p:nvSpPr>
                    <p:cNvPr id="557" name=""/>
                    <p:cNvSpPr/>
                    <p:nvPr/>
                  </p:nvSpPr>
                  <p:spPr>
                    <a:xfrm flipV="1">
                      <a:off x="6873480" y="5098320"/>
                      <a:ext cx="0" cy="236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8" name=""/>
                    <p:cNvSpPr/>
                    <p:nvPr/>
                  </p:nvSpPr>
                  <p:spPr>
                    <a:xfrm flipV="1">
                      <a:off x="6873480" y="4978080"/>
                      <a:ext cx="364680" cy="119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"/>
                    <p:cNvSpPr/>
                    <p:nvPr/>
                  </p:nvSpPr>
                  <p:spPr>
                    <a:xfrm>
                      <a:off x="6873480" y="5335560"/>
                      <a:ext cx="364680" cy="119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>
                      <a:off x="7238160" y="4978440"/>
                      <a:ext cx="0" cy="47700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61" name=""/>
                  <p:cNvSpPr/>
                  <p:nvPr/>
                </p:nvSpPr>
                <p:spPr>
                  <a:xfrm>
                    <a:off x="6873480" y="4757760"/>
                    <a:ext cx="0" cy="36468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7239960" y="5345280"/>
                    <a:ext cx="0" cy="3877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3" name=""/>
                <p:cNvSpPr/>
                <p:nvPr/>
              </p:nvSpPr>
              <p:spPr>
                <a:xfrm>
                  <a:off x="6792840" y="5064840"/>
                  <a:ext cx="502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9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4" name=""/>
              <p:cNvSpPr/>
              <p:nvPr/>
            </p:nvSpPr>
            <p:spPr>
              <a:xfrm flipH="1">
                <a:off x="1196640" y="1254240"/>
                <a:ext cx="16462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5" name=""/>
              <p:cNvGrpSpPr/>
              <p:nvPr/>
            </p:nvGrpSpPr>
            <p:grpSpPr>
              <a:xfrm>
                <a:off x="828720" y="1066680"/>
                <a:ext cx="360360" cy="360360"/>
                <a:chOff x="828720" y="1066680"/>
                <a:chExt cx="360360" cy="36036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901800" y="113976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828720" y="106668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8" name=""/>
              <p:cNvSpPr/>
              <p:nvPr/>
            </p:nvSpPr>
            <p:spPr>
              <a:xfrm>
                <a:off x="792000" y="80964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88880" y="2365200"/>
                <a:ext cx="935280" cy="32256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93840" y="2647800"/>
                <a:ext cx="1871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00"/>
                    </a:solidFill>
                    <a:latin typeface="Times New Roman"/>
                  </a:rPr>
                  <a:t>Depozite noi de cenu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1" name=""/>
              <p:cNvGrpSpPr/>
              <p:nvPr/>
            </p:nvGrpSpPr>
            <p:grpSpPr>
              <a:xfrm>
                <a:off x="8793000" y="3230640"/>
                <a:ext cx="1046160" cy="3133800"/>
                <a:chOff x="8793000" y="3230640"/>
                <a:chExt cx="1046160" cy="3133800"/>
              </a:xfrm>
            </p:grpSpPr>
            <p:sp>
              <p:nvSpPr>
                <p:cNvPr id="572" name=""/>
                <p:cNvSpPr/>
                <p:nvPr/>
              </p:nvSpPr>
              <p:spPr>
                <a:xfrm flipV="1">
                  <a:off x="9046800" y="3859200"/>
                  <a:ext cx="0" cy="2700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73" name=""/>
                <p:cNvGrpSpPr/>
                <p:nvPr/>
              </p:nvGrpSpPr>
              <p:grpSpPr>
                <a:xfrm>
                  <a:off x="8793000" y="3230640"/>
                  <a:ext cx="891720" cy="685440"/>
                  <a:chOff x="8793000" y="3230640"/>
                  <a:chExt cx="891720" cy="685440"/>
                </a:xfrm>
              </p:grpSpPr>
              <p:sp>
                <p:nvSpPr>
                  <p:cNvPr id="574" name=""/>
                  <p:cNvSpPr/>
                  <p:nvPr/>
                </p:nvSpPr>
                <p:spPr>
                  <a:xfrm>
                    <a:off x="9362520" y="3697560"/>
                    <a:ext cx="102960" cy="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9478440" y="3605400"/>
                    <a:ext cx="206280" cy="1904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76" name=""/>
                  <p:cNvGrpSpPr/>
                  <p:nvPr/>
                </p:nvGrpSpPr>
                <p:grpSpPr>
                  <a:xfrm>
                    <a:off x="8793000" y="3230640"/>
                    <a:ext cx="579600" cy="685440"/>
                    <a:chOff x="8793000" y="3230640"/>
                    <a:chExt cx="579600" cy="685440"/>
                  </a:xfrm>
                </p:grpSpPr>
                <p:grpSp>
                  <p:nvGrpSpPr>
                    <p:cNvPr id="577" name=""/>
                    <p:cNvGrpSpPr/>
                    <p:nvPr/>
                  </p:nvGrpSpPr>
                  <p:grpSpPr>
                    <a:xfrm>
                      <a:off x="8797320" y="3484440"/>
                      <a:ext cx="575280" cy="431640"/>
                      <a:chOff x="8797320" y="3484440"/>
                      <a:chExt cx="575280" cy="431640"/>
                    </a:xfrm>
                  </p:grpSpPr>
                  <p:sp>
                    <p:nvSpPr>
                      <p:cNvPr id="578" name=""/>
                      <p:cNvSpPr/>
                      <p:nvPr/>
                    </p:nvSpPr>
                    <p:spPr>
                      <a:xfrm flipV="1">
                        <a:off x="8797320" y="3592800"/>
                        <a:ext cx="0" cy="21420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9" name=""/>
                      <p:cNvSpPr/>
                      <p:nvPr/>
                    </p:nvSpPr>
                    <p:spPr>
                      <a:xfrm flipV="1">
                        <a:off x="8797320" y="3484440"/>
                        <a:ext cx="575280" cy="10836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0" name=""/>
                      <p:cNvSpPr/>
                      <p:nvPr/>
                    </p:nvSpPr>
                    <p:spPr>
                      <a:xfrm>
                        <a:off x="8797320" y="3807720"/>
                        <a:ext cx="575280" cy="10836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1" name=""/>
                      <p:cNvSpPr/>
                      <p:nvPr/>
                    </p:nvSpPr>
                    <p:spPr>
                      <a:xfrm>
                        <a:off x="9372600" y="3484800"/>
                        <a:ext cx="0" cy="43128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82" name=""/>
                    <p:cNvSpPr/>
                    <p:nvPr/>
                  </p:nvSpPr>
                  <p:spPr>
                    <a:xfrm>
                      <a:off x="8793000" y="3230640"/>
                      <a:ext cx="0" cy="38412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83" name=""/>
                <p:cNvSpPr/>
                <p:nvPr/>
              </p:nvSpPr>
              <p:spPr>
                <a:xfrm>
                  <a:off x="8883360" y="3816360"/>
                  <a:ext cx="0" cy="3510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9046800" y="4273560"/>
                  <a:ext cx="0" cy="3967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V="1">
                  <a:off x="9223200" y="3877920"/>
                  <a:ext cx="0" cy="2509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9223200" y="4273560"/>
                  <a:ext cx="0" cy="3967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9223200" y="5823000"/>
                  <a:ext cx="0" cy="5414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9223200" y="4815000"/>
                  <a:ext cx="0" cy="8636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9" name=""/>
                <p:cNvGrpSpPr/>
                <p:nvPr/>
              </p:nvGrpSpPr>
              <p:grpSpPr>
                <a:xfrm>
                  <a:off x="8831160" y="3562200"/>
                  <a:ext cx="1008000" cy="540000"/>
                  <a:chOff x="8831160" y="3562200"/>
                  <a:chExt cx="1008000" cy="540000"/>
                </a:xfrm>
              </p:grpSpPr>
              <p:grpSp>
                <p:nvGrpSpPr>
                  <p:cNvPr id="590" name=""/>
                  <p:cNvGrpSpPr/>
                  <p:nvPr/>
                </p:nvGrpSpPr>
                <p:grpSpPr>
                  <a:xfrm>
                    <a:off x="9370800" y="3903840"/>
                    <a:ext cx="468360" cy="198360"/>
                    <a:chOff x="9370800" y="3903840"/>
                    <a:chExt cx="468360" cy="198360"/>
                  </a:xfrm>
                </p:grpSpPr>
                <p:grpSp>
                  <p:nvGrpSpPr>
                    <p:cNvPr id="591" name=""/>
                    <p:cNvGrpSpPr/>
                    <p:nvPr/>
                  </p:nvGrpSpPr>
                  <p:grpSpPr>
                    <a:xfrm>
                      <a:off x="9491400" y="3914640"/>
                      <a:ext cx="347760" cy="187560"/>
                      <a:chOff x="9491400" y="3914640"/>
                      <a:chExt cx="347760" cy="187560"/>
                    </a:xfrm>
                  </p:grpSpPr>
                  <p:sp>
                    <p:nvSpPr>
                      <p:cNvPr id="592" name=""/>
                      <p:cNvSpPr/>
                      <p:nvPr/>
                    </p:nvSpPr>
                    <p:spPr>
                      <a:xfrm>
                        <a:off x="9491400" y="3914640"/>
                        <a:ext cx="208080" cy="187560"/>
                      </a:xfrm>
                      <a:prstGeom prst="ellipse">
                        <a:avLst/>
                      </a:prstGeom>
                      <a:solidFill>
                        <a:srgbClr val="ffcc99"/>
                      </a:solidFill>
                      <a:ln w="1260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93" name=""/>
                      <p:cNvGrpSpPr/>
                      <p:nvPr/>
                    </p:nvGrpSpPr>
                    <p:grpSpPr>
                      <a:xfrm>
                        <a:off x="9570960" y="3951360"/>
                        <a:ext cx="268200" cy="117360"/>
                        <a:chOff x="9570960" y="3951360"/>
                        <a:chExt cx="268200" cy="117360"/>
                      </a:xfrm>
                    </p:grpSpPr>
                    <p:sp>
                      <p:nvSpPr>
                        <p:cNvPr id="594" name=""/>
                        <p:cNvSpPr/>
                        <p:nvPr/>
                      </p:nvSpPr>
                      <p:spPr>
                        <a:xfrm>
                          <a:off x="9570960" y="3951360"/>
                          <a:ext cx="2682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9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5" name=""/>
                        <p:cNvSpPr/>
                        <p:nvPr/>
                      </p:nvSpPr>
                      <p:spPr>
                        <a:xfrm>
                          <a:off x="9575640" y="3954600"/>
                          <a:ext cx="60120" cy="55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9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6" name=""/>
                        <p:cNvSpPr/>
                        <p:nvPr/>
                      </p:nvSpPr>
                      <p:spPr>
                        <a:xfrm flipH="1">
                          <a:off x="9575280" y="4013280"/>
                          <a:ext cx="60120" cy="55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9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7" name=""/>
                        <p:cNvSpPr/>
                        <p:nvPr/>
                      </p:nvSpPr>
                      <p:spPr>
                        <a:xfrm>
                          <a:off x="9575640" y="4068720"/>
                          <a:ext cx="2635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99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98" name=""/>
                    <p:cNvGrpSpPr/>
                    <p:nvPr/>
                  </p:nvGrpSpPr>
                  <p:grpSpPr>
                    <a:xfrm>
                      <a:off x="9370800" y="3903840"/>
                      <a:ext cx="119160" cy="118800"/>
                      <a:chOff x="9370800" y="3903840"/>
                      <a:chExt cx="119160" cy="118800"/>
                    </a:xfrm>
                  </p:grpSpPr>
                  <p:sp>
                    <p:nvSpPr>
                      <p:cNvPr id="599" name=""/>
                      <p:cNvSpPr/>
                      <p:nvPr/>
                    </p:nvSpPr>
                    <p:spPr>
                      <a:xfrm flipV="1">
                        <a:off x="9375480" y="3903840"/>
                        <a:ext cx="0" cy="11880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0" name=""/>
                      <p:cNvSpPr/>
                      <p:nvPr/>
                    </p:nvSpPr>
                    <p:spPr>
                      <a:xfrm>
                        <a:off x="9370800" y="4022640"/>
                        <a:ext cx="11916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601" name=""/>
                  <p:cNvSpPr/>
                  <p:nvPr/>
                </p:nvSpPr>
                <p:spPr>
                  <a:xfrm>
                    <a:off x="8831160" y="3562200"/>
                    <a:ext cx="503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TA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02" name=""/>
              <p:cNvSpPr/>
              <p:nvPr/>
            </p:nvSpPr>
            <p:spPr>
              <a:xfrm rot="16200000">
                <a:off x="-356400" y="4690440"/>
                <a:ext cx="2189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3300"/>
                    </a:solidFill>
                    <a:latin typeface="Times New Roman"/>
                  </a:rPr>
                  <a:t>Consumatorii industriali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1496880" y="2411280"/>
                <a:ext cx="91296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2558880" y="2401920"/>
                <a:ext cx="21600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2919240" y="2401920"/>
                <a:ext cx="93528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3998880" y="2401920"/>
                <a:ext cx="21600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4359240" y="2401920"/>
                <a:ext cx="94464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" name=""/>
              <p:cNvGrpSpPr/>
              <p:nvPr/>
            </p:nvGrpSpPr>
            <p:grpSpPr>
              <a:xfrm>
                <a:off x="3335400" y="6261120"/>
                <a:ext cx="258840" cy="258840"/>
                <a:chOff x="3335400" y="6261120"/>
                <a:chExt cx="258840" cy="25884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3335400" y="6261120"/>
                  <a:ext cx="258840" cy="258840"/>
                </a:xfrm>
                <a:prstGeom prst="ellipse">
                  <a:avLst/>
                </a:prstGeom>
                <a:solidFill>
                  <a:srgbClr val="ff7c80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flipH="1">
                  <a:off x="3383280" y="6392160"/>
                  <a:ext cx="15624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11" name=""/>
          <p:cNvSpPr/>
          <p:nvPr/>
        </p:nvSpPr>
        <p:spPr>
          <a:xfrm>
            <a:off x="849240" y="3500280"/>
            <a:ext cx="432000" cy="142920"/>
          </a:xfrm>
          <a:prstGeom prst="line">
            <a:avLst/>
          </a:prstGeom>
          <a:ln w="316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248520" y="5013360"/>
            <a:ext cx="431640" cy="142920"/>
          </a:xfrm>
          <a:prstGeom prst="line">
            <a:avLst/>
          </a:prstGeom>
          <a:ln w="316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865600" y="5950080"/>
            <a:ext cx="431640" cy="142920"/>
          </a:xfrm>
          <a:prstGeom prst="line">
            <a:avLst/>
          </a:prstGeom>
          <a:ln w="316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00160" y="2565360"/>
            <a:ext cx="503280" cy="0"/>
          </a:xfrm>
          <a:prstGeom prst="line">
            <a:avLst/>
          </a:prstGeom>
          <a:ln w="316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97240" y="1773360"/>
            <a:ext cx="431640" cy="142920"/>
          </a:xfrm>
          <a:prstGeom prst="line">
            <a:avLst/>
          </a:prstGeom>
          <a:ln w="316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72880" y="2205000"/>
            <a:ext cx="1295640" cy="647640"/>
          </a:xfrm>
          <a:prstGeom prst="ellipse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98920" y="1681200"/>
            <a:ext cx="1079280" cy="576360"/>
          </a:xfrm>
          <a:prstGeom prst="ellipse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136520" y="3300480"/>
            <a:ext cx="1295640" cy="8636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735280" y="6002280"/>
            <a:ext cx="1150920" cy="6476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465960" y="4797360"/>
            <a:ext cx="1295280" cy="8636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272880" y="166680"/>
            <a:ext cx="9563400" cy="6411600"/>
            <a:chOff x="272880" y="166680"/>
            <a:chExt cx="9563400" cy="6411600"/>
          </a:xfrm>
        </p:grpSpPr>
        <p:sp>
          <p:nvSpPr>
            <p:cNvPr id="622" name=""/>
            <p:cNvSpPr/>
            <p:nvPr/>
          </p:nvSpPr>
          <p:spPr>
            <a:xfrm>
              <a:off x="272880" y="166680"/>
              <a:ext cx="9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Times New Roman"/>
                </a:rPr>
                <a:t>SCHEMA TEHNOLOGICA LA SFARSITUL ANULUI 20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390600" y="857160"/>
              <a:ext cx="9445680" cy="5721120"/>
              <a:chOff x="390600" y="857160"/>
              <a:chExt cx="9445680" cy="5721120"/>
            </a:xfrm>
          </p:grpSpPr>
          <p:sp>
            <p:nvSpPr>
              <p:cNvPr id="624" name=""/>
              <p:cNvSpPr/>
              <p:nvPr/>
            </p:nvSpPr>
            <p:spPr>
              <a:xfrm>
                <a:off x="1204920" y="3359160"/>
                <a:ext cx="81201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49876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84328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49876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84328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9" name=""/>
              <p:cNvGrpSpPr/>
              <p:nvPr/>
            </p:nvGrpSpPr>
            <p:grpSpPr>
              <a:xfrm>
                <a:off x="2387520" y="1482840"/>
                <a:ext cx="216000" cy="215640"/>
                <a:chOff x="2387520" y="1482840"/>
                <a:chExt cx="216000" cy="21564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238752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H="1">
                  <a:off x="243324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253188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2732040" y="1482840"/>
                <a:ext cx="216000" cy="215640"/>
                <a:chOff x="2732040" y="1482840"/>
                <a:chExt cx="216000" cy="21564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273204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flipH="1">
                  <a:off x="277776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287640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"/>
              <p:cNvSpPr/>
              <p:nvPr/>
            </p:nvSpPr>
            <p:spPr>
              <a:xfrm>
                <a:off x="249876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84328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>
                <a:off x="1493640" y="2351160"/>
                <a:ext cx="91260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0" name=""/>
              <p:cNvGrpSpPr/>
              <p:nvPr/>
            </p:nvGrpSpPr>
            <p:grpSpPr>
              <a:xfrm>
                <a:off x="3851280" y="2532240"/>
                <a:ext cx="531360" cy="805680"/>
                <a:chOff x="3851280" y="2532240"/>
                <a:chExt cx="531360" cy="805680"/>
              </a:xfrm>
            </p:grpSpPr>
            <p:grpSp>
              <p:nvGrpSpPr>
                <p:cNvPr id="641" name=""/>
                <p:cNvGrpSpPr/>
                <p:nvPr/>
              </p:nvGrpSpPr>
              <p:grpSpPr>
                <a:xfrm>
                  <a:off x="3851280" y="2532240"/>
                  <a:ext cx="531360" cy="414000"/>
                  <a:chOff x="3851280" y="2532240"/>
                  <a:chExt cx="531360" cy="414000"/>
                </a:xfrm>
              </p:grpSpPr>
              <p:sp>
                <p:nvSpPr>
                  <p:cNvPr id="642" name=""/>
                  <p:cNvSpPr/>
                  <p:nvPr/>
                </p:nvSpPr>
                <p:spPr>
                  <a:xfrm>
                    <a:off x="3851280" y="253224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3870360" y="256356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4" name=""/>
                <p:cNvGrpSpPr/>
                <p:nvPr/>
              </p:nvGrpSpPr>
              <p:grpSpPr>
                <a:xfrm>
                  <a:off x="3916440" y="2944800"/>
                  <a:ext cx="412560" cy="393120"/>
                  <a:chOff x="3916440" y="2944800"/>
                  <a:chExt cx="412560" cy="39312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4120920" y="294480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 flipH="1">
                    <a:off x="3919320" y="305244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3916440" y="314784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flipH="1">
                    <a:off x="4114800" y="314784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4124160" y="323172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0" name=""/>
              <p:cNvSpPr/>
              <p:nvPr/>
            </p:nvSpPr>
            <p:spPr>
              <a:xfrm>
                <a:off x="384012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95136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18464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29588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95136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29588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6" name=""/>
              <p:cNvGrpSpPr/>
              <p:nvPr/>
            </p:nvGrpSpPr>
            <p:grpSpPr>
              <a:xfrm>
                <a:off x="3840120" y="1482840"/>
                <a:ext cx="216000" cy="215640"/>
                <a:chOff x="3840120" y="1482840"/>
                <a:chExt cx="216000" cy="21564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384012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H="1">
                  <a:off x="388584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398448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0" name=""/>
              <p:cNvGrpSpPr/>
              <p:nvPr/>
            </p:nvGrpSpPr>
            <p:grpSpPr>
              <a:xfrm>
                <a:off x="4184640" y="1482840"/>
                <a:ext cx="216000" cy="215640"/>
                <a:chOff x="4184640" y="1482840"/>
                <a:chExt cx="216000" cy="21564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418464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flipH="1">
                  <a:off x="423036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32900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4" name=""/>
              <p:cNvSpPr/>
              <p:nvPr/>
            </p:nvSpPr>
            <p:spPr>
              <a:xfrm>
                <a:off x="395136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29588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6" name=""/>
              <p:cNvGrpSpPr/>
              <p:nvPr/>
            </p:nvGrpSpPr>
            <p:grpSpPr>
              <a:xfrm>
                <a:off x="3576600" y="2351160"/>
                <a:ext cx="264960" cy="360360"/>
                <a:chOff x="3576600" y="2351160"/>
                <a:chExt cx="264960" cy="36036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3582720" y="23511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 flipH="1">
                  <a:off x="3576600" y="27115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2124000" y="2351160"/>
                <a:ext cx="806400" cy="987480"/>
                <a:chOff x="2124000" y="2351160"/>
                <a:chExt cx="806400" cy="987480"/>
              </a:xfrm>
            </p:grpSpPr>
            <p:grpSp>
              <p:nvGrpSpPr>
                <p:cNvPr id="670" name=""/>
                <p:cNvGrpSpPr/>
                <p:nvPr/>
              </p:nvGrpSpPr>
              <p:grpSpPr>
                <a:xfrm>
                  <a:off x="2398680" y="2531880"/>
                  <a:ext cx="531720" cy="414360"/>
                  <a:chOff x="2398680" y="2531880"/>
                  <a:chExt cx="531720" cy="414360"/>
                </a:xfrm>
              </p:grpSpPr>
              <p:sp>
                <p:nvSpPr>
                  <p:cNvPr id="671" name=""/>
                  <p:cNvSpPr/>
                  <p:nvPr/>
                </p:nvSpPr>
                <p:spPr>
                  <a:xfrm>
                    <a:off x="2398680" y="2531880"/>
                    <a:ext cx="531720" cy="414360"/>
                  </a:xfrm>
                  <a:prstGeom prst="rect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2414520" y="256392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C7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3" name=""/>
                <p:cNvGrpSpPr/>
                <p:nvPr/>
              </p:nvGrpSpPr>
              <p:grpSpPr>
                <a:xfrm>
                  <a:off x="2463840" y="2944800"/>
                  <a:ext cx="412560" cy="393840"/>
                  <a:chOff x="2463840" y="2944800"/>
                  <a:chExt cx="412560" cy="393840"/>
                </a:xfrm>
              </p:grpSpPr>
              <p:sp>
                <p:nvSpPr>
                  <p:cNvPr id="674" name=""/>
                  <p:cNvSpPr/>
                  <p:nvPr/>
                </p:nvSpPr>
                <p:spPr>
                  <a:xfrm>
                    <a:off x="2668320" y="2944800"/>
                    <a:ext cx="0" cy="1177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 flipH="1">
                    <a:off x="2466720" y="3052800"/>
                    <a:ext cx="204480" cy="954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2463840" y="314820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 flipH="1">
                    <a:off x="2662200" y="3148200"/>
                    <a:ext cx="207360" cy="936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2671560" y="3232080"/>
                    <a:ext cx="0" cy="1065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9" name=""/>
                <p:cNvGrpSpPr/>
                <p:nvPr/>
              </p:nvGrpSpPr>
              <p:grpSpPr>
                <a:xfrm>
                  <a:off x="2124000" y="2351160"/>
                  <a:ext cx="264960" cy="360360"/>
                  <a:chOff x="2124000" y="2351160"/>
                  <a:chExt cx="264960" cy="360360"/>
                </a:xfrm>
              </p:grpSpPr>
              <p:sp>
                <p:nvSpPr>
                  <p:cNvPr id="680" name=""/>
                  <p:cNvSpPr/>
                  <p:nvPr/>
                </p:nvSpPr>
                <p:spPr>
                  <a:xfrm>
                    <a:off x="2130120" y="2351160"/>
                    <a:ext cx="0" cy="360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 flipH="1">
                    <a:off x="2124000" y="2711520"/>
                    <a:ext cx="2649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2" name=""/>
                <p:cNvSpPr/>
                <p:nvPr/>
              </p:nvSpPr>
              <p:spPr>
                <a:xfrm flipH="1">
                  <a:off x="2555640" y="2351160"/>
                  <a:ext cx="215640" cy="0"/>
                </a:xfrm>
                <a:prstGeom prst="line">
                  <a:avLst/>
                </a:prstGeom>
                <a:ln w="507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3" name=""/>
              <p:cNvSpPr/>
              <p:nvPr/>
            </p:nvSpPr>
            <p:spPr>
              <a:xfrm flipH="1">
                <a:off x="2916000" y="2351160"/>
                <a:ext cx="934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>
                <a:off x="3995640" y="2351160"/>
                <a:ext cx="21600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>
                <a:off x="4356000" y="2351160"/>
                <a:ext cx="9446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6" name=""/>
              <p:cNvGrpSpPr/>
              <p:nvPr/>
            </p:nvGrpSpPr>
            <p:grpSpPr>
              <a:xfrm>
                <a:off x="5567400" y="2532240"/>
                <a:ext cx="531360" cy="805680"/>
                <a:chOff x="5567400" y="2532240"/>
                <a:chExt cx="531360" cy="805680"/>
              </a:xfrm>
            </p:grpSpPr>
            <p:grpSp>
              <p:nvGrpSpPr>
                <p:cNvPr id="687" name=""/>
                <p:cNvGrpSpPr/>
                <p:nvPr/>
              </p:nvGrpSpPr>
              <p:grpSpPr>
                <a:xfrm>
                  <a:off x="5567400" y="2532240"/>
                  <a:ext cx="531360" cy="414000"/>
                  <a:chOff x="5567400" y="2532240"/>
                  <a:chExt cx="531360" cy="414000"/>
                </a:xfrm>
              </p:grpSpPr>
              <p:sp>
                <p:nvSpPr>
                  <p:cNvPr id="688" name=""/>
                  <p:cNvSpPr/>
                  <p:nvPr/>
                </p:nvSpPr>
                <p:spPr>
                  <a:xfrm>
                    <a:off x="5567400" y="253224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5586480" y="256356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0" name=""/>
                <p:cNvGrpSpPr/>
                <p:nvPr/>
              </p:nvGrpSpPr>
              <p:grpSpPr>
                <a:xfrm>
                  <a:off x="5632560" y="2944800"/>
                  <a:ext cx="412560" cy="393120"/>
                  <a:chOff x="5632560" y="2944800"/>
                  <a:chExt cx="412560" cy="393120"/>
                </a:xfrm>
              </p:grpSpPr>
              <p:sp>
                <p:nvSpPr>
                  <p:cNvPr id="691" name=""/>
                  <p:cNvSpPr/>
                  <p:nvPr/>
                </p:nvSpPr>
                <p:spPr>
                  <a:xfrm>
                    <a:off x="5837040" y="294480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 flipH="1">
                    <a:off x="5635440" y="305244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5632560" y="314784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 flipH="1">
                    <a:off x="5830920" y="314784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5840280" y="323172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6" name=""/>
              <p:cNvGrpSpPr/>
              <p:nvPr/>
            </p:nvGrpSpPr>
            <p:grpSpPr>
              <a:xfrm>
                <a:off x="5556240" y="1320840"/>
                <a:ext cx="560160" cy="1217520"/>
                <a:chOff x="5556240" y="1320840"/>
                <a:chExt cx="560160" cy="121752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5556240" y="1866960"/>
                  <a:ext cx="21600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667480" y="21351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900760" y="1866960"/>
                  <a:ext cx="21564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6011640" y="21351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667480" y="170316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6011640" y="170316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3" name=""/>
                <p:cNvGrpSpPr/>
                <p:nvPr/>
              </p:nvGrpSpPr>
              <p:grpSpPr>
                <a:xfrm>
                  <a:off x="5556240" y="1482840"/>
                  <a:ext cx="216000" cy="215640"/>
                  <a:chOff x="5556240" y="1482840"/>
                  <a:chExt cx="216000" cy="215640"/>
                </a:xfrm>
              </p:grpSpPr>
              <p:sp>
                <p:nvSpPr>
                  <p:cNvPr id="704" name=""/>
                  <p:cNvSpPr/>
                  <p:nvPr/>
                </p:nvSpPr>
                <p:spPr>
                  <a:xfrm>
                    <a:off x="5556240" y="14828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 flipH="1">
                    <a:off x="5601960" y="15397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5700600" y="15397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7" name=""/>
                <p:cNvGrpSpPr/>
                <p:nvPr/>
              </p:nvGrpSpPr>
              <p:grpSpPr>
                <a:xfrm>
                  <a:off x="5900760" y="1482840"/>
                  <a:ext cx="215640" cy="215640"/>
                  <a:chOff x="5900760" y="1482840"/>
                  <a:chExt cx="215640" cy="215640"/>
                </a:xfrm>
              </p:grpSpPr>
              <p:sp>
                <p:nvSpPr>
                  <p:cNvPr id="708" name=""/>
                  <p:cNvSpPr/>
                  <p:nvPr/>
                </p:nvSpPr>
                <p:spPr>
                  <a:xfrm>
                    <a:off x="5900760" y="1482840"/>
                    <a:ext cx="21564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 flipH="1">
                    <a:off x="5946480" y="1539720"/>
                    <a:ext cx="2160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6044760" y="15397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1" name=""/>
                <p:cNvSpPr/>
                <p:nvPr/>
              </p:nvSpPr>
              <p:spPr>
                <a:xfrm>
                  <a:off x="5667480" y="13208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6011640" y="13208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3" name=""/>
              <p:cNvGrpSpPr/>
              <p:nvPr/>
            </p:nvGrpSpPr>
            <p:grpSpPr>
              <a:xfrm>
                <a:off x="5292720" y="2351160"/>
                <a:ext cx="264960" cy="360360"/>
                <a:chOff x="5292720" y="2351160"/>
                <a:chExt cx="264960" cy="36036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5298840" y="23511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 flipH="1">
                  <a:off x="5292720" y="27115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6" name=""/>
              <p:cNvGrpSpPr/>
              <p:nvPr/>
            </p:nvGrpSpPr>
            <p:grpSpPr>
              <a:xfrm>
                <a:off x="4802040" y="1141560"/>
                <a:ext cx="360360" cy="360360"/>
                <a:chOff x="4802040" y="1141560"/>
                <a:chExt cx="360360" cy="360360"/>
              </a:xfrm>
            </p:grpSpPr>
            <p:sp>
              <p:nvSpPr>
                <p:cNvPr id="717" name=""/>
                <p:cNvSpPr/>
                <p:nvPr/>
              </p:nvSpPr>
              <p:spPr>
                <a:xfrm>
                  <a:off x="4875120" y="121464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4802040" y="114156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9" name=""/>
              <p:cNvSpPr/>
              <p:nvPr/>
            </p:nvSpPr>
            <p:spPr>
              <a:xfrm>
                <a:off x="3943440" y="1328760"/>
                <a:ext cx="826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5195520" y="1328760"/>
                <a:ext cx="826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1" name=""/>
              <p:cNvGrpSpPr/>
              <p:nvPr/>
            </p:nvGrpSpPr>
            <p:grpSpPr>
              <a:xfrm>
                <a:off x="7072200" y="2532240"/>
                <a:ext cx="531360" cy="805680"/>
                <a:chOff x="7072200" y="2532240"/>
                <a:chExt cx="531360" cy="805680"/>
              </a:xfrm>
            </p:grpSpPr>
            <p:grpSp>
              <p:nvGrpSpPr>
                <p:cNvPr id="722" name=""/>
                <p:cNvGrpSpPr/>
                <p:nvPr/>
              </p:nvGrpSpPr>
              <p:grpSpPr>
                <a:xfrm>
                  <a:off x="7072200" y="2532240"/>
                  <a:ext cx="531360" cy="414000"/>
                  <a:chOff x="7072200" y="2532240"/>
                  <a:chExt cx="531360" cy="414000"/>
                </a:xfrm>
              </p:grpSpPr>
              <p:sp>
                <p:nvSpPr>
                  <p:cNvPr id="723" name=""/>
                  <p:cNvSpPr/>
                  <p:nvPr/>
                </p:nvSpPr>
                <p:spPr>
                  <a:xfrm>
                    <a:off x="7072200" y="253224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7091280" y="256356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5" name=""/>
                <p:cNvGrpSpPr/>
                <p:nvPr/>
              </p:nvGrpSpPr>
              <p:grpSpPr>
                <a:xfrm>
                  <a:off x="7137360" y="2944800"/>
                  <a:ext cx="412560" cy="393120"/>
                  <a:chOff x="7137360" y="2944800"/>
                  <a:chExt cx="412560" cy="393120"/>
                </a:xfrm>
              </p:grpSpPr>
              <p:sp>
                <p:nvSpPr>
                  <p:cNvPr id="726" name=""/>
                  <p:cNvSpPr/>
                  <p:nvPr/>
                </p:nvSpPr>
                <p:spPr>
                  <a:xfrm>
                    <a:off x="7341840" y="294480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 flipH="1">
                    <a:off x="7140240" y="305244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7137360" y="314784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 flipH="1">
                    <a:off x="7335720" y="314784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7345080" y="323172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1" name=""/>
              <p:cNvGrpSpPr/>
              <p:nvPr/>
            </p:nvGrpSpPr>
            <p:grpSpPr>
              <a:xfrm>
                <a:off x="8523360" y="2532240"/>
                <a:ext cx="531360" cy="805680"/>
                <a:chOff x="8523360" y="2532240"/>
                <a:chExt cx="531360" cy="805680"/>
              </a:xfrm>
            </p:grpSpPr>
            <p:grpSp>
              <p:nvGrpSpPr>
                <p:cNvPr id="732" name=""/>
                <p:cNvGrpSpPr/>
                <p:nvPr/>
              </p:nvGrpSpPr>
              <p:grpSpPr>
                <a:xfrm>
                  <a:off x="8523360" y="2532240"/>
                  <a:ext cx="531360" cy="414000"/>
                  <a:chOff x="8523360" y="2532240"/>
                  <a:chExt cx="531360" cy="414000"/>
                </a:xfrm>
              </p:grpSpPr>
              <p:sp>
                <p:nvSpPr>
                  <p:cNvPr id="733" name=""/>
                  <p:cNvSpPr/>
                  <p:nvPr/>
                </p:nvSpPr>
                <p:spPr>
                  <a:xfrm>
                    <a:off x="8523360" y="253224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8542440" y="256356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5" name=""/>
                <p:cNvGrpSpPr/>
                <p:nvPr/>
              </p:nvGrpSpPr>
              <p:grpSpPr>
                <a:xfrm>
                  <a:off x="8588520" y="2944800"/>
                  <a:ext cx="412560" cy="393120"/>
                  <a:chOff x="8588520" y="2944800"/>
                  <a:chExt cx="412560" cy="393120"/>
                </a:xfrm>
              </p:grpSpPr>
              <p:sp>
                <p:nvSpPr>
                  <p:cNvPr id="736" name=""/>
                  <p:cNvSpPr/>
                  <p:nvPr/>
                </p:nvSpPr>
                <p:spPr>
                  <a:xfrm>
                    <a:off x="8793000" y="294480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 flipH="1">
                    <a:off x="8591400" y="305244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8588520" y="314784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 flipH="1">
                    <a:off x="8786880" y="314784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8796240" y="323172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1" name=""/>
              <p:cNvGrpSpPr/>
              <p:nvPr/>
            </p:nvGrpSpPr>
            <p:grpSpPr>
              <a:xfrm>
                <a:off x="7883640" y="1789200"/>
                <a:ext cx="360360" cy="360360"/>
                <a:chOff x="7883640" y="1789200"/>
                <a:chExt cx="360360" cy="36036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7956720" y="186228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7883640" y="178920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4" name=""/>
              <p:cNvSpPr/>
              <p:nvPr/>
            </p:nvSpPr>
            <p:spPr>
              <a:xfrm>
                <a:off x="7331040" y="1971720"/>
                <a:ext cx="460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321680" y="1943280"/>
                <a:ext cx="0" cy="5760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8772480" y="1943280"/>
                <a:ext cx="0" cy="5760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988920" y="4254480"/>
                <a:ext cx="8785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917640" y="4791240"/>
                <a:ext cx="88567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133640" y="3095640"/>
                <a:ext cx="720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140 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147680" y="399888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35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147680" y="454032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13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988920" y="5797440"/>
                <a:ext cx="8785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147680" y="55389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6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302000" y="6446880"/>
                <a:ext cx="54723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988920" y="6446880"/>
                <a:ext cx="2952720" cy="0"/>
              </a:xfrm>
              <a:prstGeom prst="line">
                <a:avLst/>
              </a:prstGeom>
              <a:ln w="50760">
                <a:solidFill>
                  <a:srgbClr val="9933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6" name=""/>
              <p:cNvGrpSpPr/>
              <p:nvPr/>
            </p:nvGrpSpPr>
            <p:grpSpPr>
              <a:xfrm>
                <a:off x="3944520" y="6308640"/>
                <a:ext cx="359280" cy="269640"/>
                <a:chOff x="3944520" y="6308640"/>
                <a:chExt cx="359280" cy="26964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3944880" y="6308640"/>
                  <a:ext cx="358920" cy="269640"/>
                </a:xfrm>
                <a:prstGeom prst="rect">
                  <a:avLst/>
                </a:prstGeom>
                <a:solidFill>
                  <a:srgbClr val="ff7c80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flipH="1">
                  <a:off x="3944520" y="6308640"/>
                  <a:ext cx="358920" cy="26496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9" name=""/>
              <p:cNvSpPr/>
              <p:nvPr/>
            </p:nvSpPr>
            <p:spPr>
              <a:xfrm>
                <a:off x="1147680" y="6159600"/>
                <a:ext cx="1513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ermoficare urba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8303760" y="1971720"/>
                <a:ext cx="460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485640" y="2052720"/>
                <a:ext cx="935280" cy="32220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2" name=""/>
              <p:cNvGrpSpPr/>
              <p:nvPr/>
            </p:nvGrpSpPr>
            <p:grpSpPr>
              <a:xfrm>
                <a:off x="4129200" y="3278160"/>
                <a:ext cx="891720" cy="3133800"/>
                <a:chOff x="4129200" y="3278160"/>
                <a:chExt cx="891720" cy="3133800"/>
              </a:xfrm>
            </p:grpSpPr>
            <p:grpSp>
              <p:nvGrpSpPr>
                <p:cNvPr id="763" name=""/>
                <p:cNvGrpSpPr/>
                <p:nvPr/>
              </p:nvGrpSpPr>
              <p:grpSpPr>
                <a:xfrm>
                  <a:off x="4129200" y="3278160"/>
                  <a:ext cx="891720" cy="3133800"/>
                  <a:chOff x="4129200" y="3278160"/>
                  <a:chExt cx="891720" cy="3133800"/>
                </a:xfrm>
              </p:grpSpPr>
              <p:sp>
                <p:nvSpPr>
                  <p:cNvPr id="764" name=""/>
                  <p:cNvSpPr/>
                  <p:nvPr/>
                </p:nvSpPr>
                <p:spPr>
                  <a:xfrm flipV="1">
                    <a:off x="4402080" y="39067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65" name=""/>
                  <p:cNvGrpSpPr/>
                  <p:nvPr/>
                </p:nvGrpSpPr>
                <p:grpSpPr>
                  <a:xfrm>
                    <a:off x="4129200" y="3278160"/>
                    <a:ext cx="891720" cy="685440"/>
                    <a:chOff x="4129200" y="3278160"/>
                    <a:chExt cx="891720" cy="685440"/>
                  </a:xfrm>
                </p:grpSpPr>
                <p:sp>
                  <p:nvSpPr>
                    <p:cNvPr id="766" name=""/>
                    <p:cNvSpPr/>
                    <p:nvPr/>
                  </p:nvSpPr>
                  <p:spPr>
                    <a:xfrm>
                      <a:off x="4698720" y="37450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"/>
                    <p:cNvSpPr/>
                    <p:nvPr/>
                  </p:nvSpPr>
                  <p:spPr>
                    <a:xfrm>
                      <a:off x="4814640" y="36529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68" name=""/>
                    <p:cNvGrpSpPr/>
                    <p:nvPr/>
                  </p:nvGrpSpPr>
                  <p:grpSpPr>
                    <a:xfrm>
                      <a:off x="4129200" y="3278160"/>
                      <a:ext cx="579600" cy="685440"/>
                      <a:chOff x="4129200" y="3278160"/>
                      <a:chExt cx="579600" cy="685440"/>
                    </a:xfrm>
                  </p:grpSpPr>
                  <p:grpSp>
                    <p:nvGrpSpPr>
                      <p:cNvPr id="769" name=""/>
                      <p:cNvGrpSpPr/>
                      <p:nvPr/>
                    </p:nvGrpSpPr>
                    <p:grpSpPr>
                      <a:xfrm>
                        <a:off x="4133520" y="3531960"/>
                        <a:ext cx="575280" cy="431640"/>
                        <a:chOff x="4133520" y="3531960"/>
                        <a:chExt cx="575280" cy="431640"/>
                      </a:xfrm>
                    </p:grpSpPr>
                    <p:sp>
                      <p:nvSpPr>
                        <p:cNvPr id="770" name=""/>
                        <p:cNvSpPr/>
                        <p:nvPr/>
                      </p:nvSpPr>
                      <p:spPr>
                        <a:xfrm flipV="1">
                          <a:off x="4133520" y="36403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1" name=""/>
                        <p:cNvSpPr/>
                        <p:nvPr/>
                      </p:nvSpPr>
                      <p:spPr>
                        <a:xfrm flipV="1">
                          <a:off x="4133520" y="35319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2" name=""/>
                        <p:cNvSpPr/>
                        <p:nvPr/>
                      </p:nvSpPr>
                      <p:spPr>
                        <a:xfrm>
                          <a:off x="4133520" y="38552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3" name=""/>
                        <p:cNvSpPr/>
                        <p:nvPr/>
                      </p:nvSpPr>
                      <p:spPr>
                        <a:xfrm>
                          <a:off x="4708800" y="35323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774" name=""/>
                      <p:cNvSpPr/>
                      <p:nvPr/>
                    </p:nvSpPr>
                    <p:spPr>
                      <a:xfrm>
                        <a:off x="4129200" y="32781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775" name=""/>
                  <p:cNvSpPr/>
                  <p:nvPr/>
                </p:nvSpPr>
                <p:spPr>
                  <a:xfrm>
                    <a:off x="4219560" y="38638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440208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 flipV="1">
                    <a:off x="4711680" y="39254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471168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4711680" y="58705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4711680" y="48625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1" name=""/>
                <p:cNvSpPr/>
                <p:nvPr/>
              </p:nvSpPr>
              <p:spPr>
                <a:xfrm>
                  <a:off x="416736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2" name=""/>
              <p:cNvGrpSpPr/>
              <p:nvPr/>
            </p:nvGrpSpPr>
            <p:grpSpPr>
              <a:xfrm>
                <a:off x="5842080" y="3278160"/>
                <a:ext cx="891720" cy="3133800"/>
                <a:chOff x="5842080" y="3278160"/>
                <a:chExt cx="891720" cy="3133800"/>
              </a:xfrm>
            </p:grpSpPr>
            <p:grpSp>
              <p:nvGrpSpPr>
                <p:cNvPr id="783" name=""/>
                <p:cNvGrpSpPr/>
                <p:nvPr/>
              </p:nvGrpSpPr>
              <p:grpSpPr>
                <a:xfrm>
                  <a:off x="5842080" y="3278160"/>
                  <a:ext cx="891720" cy="3133800"/>
                  <a:chOff x="5842080" y="3278160"/>
                  <a:chExt cx="891720" cy="3133800"/>
                </a:xfrm>
              </p:grpSpPr>
              <p:sp>
                <p:nvSpPr>
                  <p:cNvPr id="784" name=""/>
                  <p:cNvSpPr/>
                  <p:nvPr/>
                </p:nvSpPr>
                <p:spPr>
                  <a:xfrm flipV="1">
                    <a:off x="6114960" y="39067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85" name=""/>
                  <p:cNvGrpSpPr/>
                  <p:nvPr/>
                </p:nvGrpSpPr>
                <p:grpSpPr>
                  <a:xfrm>
                    <a:off x="5842080" y="3278160"/>
                    <a:ext cx="891720" cy="685440"/>
                    <a:chOff x="5842080" y="3278160"/>
                    <a:chExt cx="891720" cy="685440"/>
                  </a:xfrm>
                </p:grpSpPr>
                <p:sp>
                  <p:nvSpPr>
                    <p:cNvPr id="786" name=""/>
                    <p:cNvSpPr/>
                    <p:nvPr/>
                  </p:nvSpPr>
                  <p:spPr>
                    <a:xfrm>
                      <a:off x="6411600" y="37450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"/>
                    <p:cNvSpPr/>
                    <p:nvPr/>
                  </p:nvSpPr>
                  <p:spPr>
                    <a:xfrm>
                      <a:off x="6527520" y="36529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88" name=""/>
                    <p:cNvGrpSpPr/>
                    <p:nvPr/>
                  </p:nvGrpSpPr>
                  <p:grpSpPr>
                    <a:xfrm>
                      <a:off x="5842080" y="3278160"/>
                      <a:ext cx="579600" cy="685440"/>
                      <a:chOff x="5842080" y="3278160"/>
                      <a:chExt cx="579600" cy="685440"/>
                    </a:xfrm>
                  </p:grpSpPr>
                  <p:grpSp>
                    <p:nvGrpSpPr>
                      <p:cNvPr id="789" name=""/>
                      <p:cNvGrpSpPr/>
                      <p:nvPr/>
                    </p:nvGrpSpPr>
                    <p:grpSpPr>
                      <a:xfrm>
                        <a:off x="5846400" y="3531960"/>
                        <a:ext cx="575280" cy="431640"/>
                        <a:chOff x="5846400" y="3531960"/>
                        <a:chExt cx="575280" cy="431640"/>
                      </a:xfrm>
                    </p:grpSpPr>
                    <p:sp>
                      <p:nvSpPr>
                        <p:cNvPr id="790" name=""/>
                        <p:cNvSpPr/>
                        <p:nvPr/>
                      </p:nvSpPr>
                      <p:spPr>
                        <a:xfrm flipV="1">
                          <a:off x="5846400" y="36403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1" name=""/>
                        <p:cNvSpPr/>
                        <p:nvPr/>
                      </p:nvSpPr>
                      <p:spPr>
                        <a:xfrm flipV="1">
                          <a:off x="5846400" y="35319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2" name=""/>
                        <p:cNvSpPr/>
                        <p:nvPr/>
                      </p:nvSpPr>
                      <p:spPr>
                        <a:xfrm>
                          <a:off x="5846400" y="38552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3" name=""/>
                        <p:cNvSpPr/>
                        <p:nvPr/>
                      </p:nvSpPr>
                      <p:spPr>
                        <a:xfrm>
                          <a:off x="6421680" y="35323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794" name=""/>
                      <p:cNvSpPr/>
                      <p:nvPr/>
                    </p:nvSpPr>
                    <p:spPr>
                      <a:xfrm>
                        <a:off x="5842080" y="32781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795" name=""/>
                  <p:cNvSpPr/>
                  <p:nvPr/>
                </p:nvSpPr>
                <p:spPr>
                  <a:xfrm>
                    <a:off x="5932440" y="38638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611496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 flipV="1">
                    <a:off x="6424560" y="39254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642456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6424560" y="58705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6424560" y="48625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1" name=""/>
                <p:cNvSpPr/>
                <p:nvPr/>
              </p:nvSpPr>
              <p:spPr>
                <a:xfrm>
                  <a:off x="588636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7340760" y="3278160"/>
                <a:ext cx="1194840" cy="3133800"/>
                <a:chOff x="7340760" y="3278160"/>
                <a:chExt cx="1194840" cy="3133800"/>
              </a:xfrm>
            </p:grpSpPr>
            <p:grpSp>
              <p:nvGrpSpPr>
                <p:cNvPr id="803" name=""/>
                <p:cNvGrpSpPr/>
                <p:nvPr/>
              </p:nvGrpSpPr>
              <p:grpSpPr>
                <a:xfrm>
                  <a:off x="7340760" y="3278160"/>
                  <a:ext cx="1194840" cy="3133800"/>
                  <a:chOff x="7340760" y="3278160"/>
                  <a:chExt cx="1194840" cy="3133800"/>
                </a:xfrm>
              </p:grpSpPr>
              <p:sp>
                <p:nvSpPr>
                  <p:cNvPr id="804" name=""/>
                  <p:cNvSpPr/>
                  <p:nvPr/>
                </p:nvSpPr>
                <p:spPr>
                  <a:xfrm flipV="1">
                    <a:off x="7594920" y="39067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05" name=""/>
                  <p:cNvGrpSpPr/>
                  <p:nvPr/>
                </p:nvGrpSpPr>
                <p:grpSpPr>
                  <a:xfrm>
                    <a:off x="7340760" y="3278160"/>
                    <a:ext cx="891720" cy="685440"/>
                    <a:chOff x="7340760" y="3278160"/>
                    <a:chExt cx="891720" cy="685440"/>
                  </a:xfrm>
                </p:grpSpPr>
                <p:sp>
                  <p:nvSpPr>
                    <p:cNvPr id="806" name=""/>
                    <p:cNvSpPr/>
                    <p:nvPr/>
                  </p:nvSpPr>
                  <p:spPr>
                    <a:xfrm>
                      <a:off x="7910280" y="37450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"/>
                    <p:cNvSpPr/>
                    <p:nvPr/>
                  </p:nvSpPr>
                  <p:spPr>
                    <a:xfrm>
                      <a:off x="8026200" y="36529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08" name=""/>
                    <p:cNvGrpSpPr/>
                    <p:nvPr/>
                  </p:nvGrpSpPr>
                  <p:grpSpPr>
                    <a:xfrm>
                      <a:off x="7340760" y="3278160"/>
                      <a:ext cx="579600" cy="685440"/>
                      <a:chOff x="7340760" y="3278160"/>
                      <a:chExt cx="579600" cy="685440"/>
                    </a:xfrm>
                  </p:grpSpPr>
                  <p:grpSp>
                    <p:nvGrpSpPr>
                      <p:cNvPr id="809" name=""/>
                      <p:cNvGrpSpPr/>
                      <p:nvPr/>
                    </p:nvGrpSpPr>
                    <p:grpSpPr>
                      <a:xfrm>
                        <a:off x="7345080" y="3531960"/>
                        <a:ext cx="575280" cy="431640"/>
                        <a:chOff x="7345080" y="3531960"/>
                        <a:chExt cx="575280" cy="431640"/>
                      </a:xfrm>
                    </p:grpSpPr>
                    <p:sp>
                      <p:nvSpPr>
                        <p:cNvPr id="810" name=""/>
                        <p:cNvSpPr/>
                        <p:nvPr/>
                      </p:nvSpPr>
                      <p:spPr>
                        <a:xfrm flipV="1">
                          <a:off x="7345080" y="36403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1" name=""/>
                        <p:cNvSpPr/>
                        <p:nvPr/>
                      </p:nvSpPr>
                      <p:spPr>
                        <a:xfrm flipV="1">
                          <a:off x="7345080" y="35319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2" name=""/>
                        <p:cNvSpPr/>
                        <p:nvPr/>
                      </p:nvSpPr>
                      <p:spPr>
                        <a:xfrm>
                          <a:off x="7345080" y="38552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3" name=""/>
                        <p:cNvSpPr/>
                        <p:nvPr/>
                      </p:nvSpPr>
                      <p:spPr>
                        <a:xfrm>
                          <a:off x="7920360" y="35323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14" name=""/>
                      <p:cNvSpPr/>
                      <p:nvPr/>
                    </p:nvSpPr>
                    <p:spPr>
                      <a:xfrm>
                        <a:off x="7340760" y="32781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815" name=""/>
                  <p:cNvSpPr/>
                  <p:nvPr/>
                </p:nvSpPr>
                <p:spPr>
                  <a:xfrm>
                    <a:off x="7431120" y="38638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759492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 flipV="1">
                    <a:off x="7770960" y="39254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777096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7770960" y="58705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7770960" y="48625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21" name=""/>
                  <p:cNvGrpSpPr/>
                  <p:nvPr/>
                </p:nvGrpSpPr>
                <p:grpSpPr>
                  <a:xfrm>
                    <a:off x="8039160" y="3962520"/>
                    <a:ext cx="496440" cy="187200"/>
                    <a:chOff x="8039160" y="3962520"/>
                    <a:chExt cx="496440" cy="187200"/>
                  </a:xfrm>
                </p:grpSpPr>
                <p:sp>
                  <p:nvSpPr>
                    <p:cNvPr id="822" name=""/>
                    <p:cNvSpPr/>
                    <p:nvPr/>
                  </p:nvSpPr>
                  <p:spPr>
                    <a:xfrm>
                      <a:off x="8039160" y="3962520"/>
                      <a:ext cx="208080" cy="18720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260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23" name=""/>
                    <p:cNvGrpSpPr/>
                    <p:nvPr/>
                  </p:nvGrpSpPr>
                  <p:grpSpPr>
                    <a:xfrm>
                      <a:off x="8118360" y="3998880"/>
                      <a:ext cx="417240" cy="117360"/>
                      <a:chOff x="8118360" y="3998880"/>
                      <a:chExt cx="417240" cy="117360"/>
                    </a:xfrm>
                  </p:grpSpPr>
                  <p:sp>
                    <p:nvSpPr>
                      <p:cNvPr id="824" name=""/>
                      <p:cNvSpPr/>
                      <p:nvPr/>
                    </p:nvSpPr>
                    <p:spPr>
                      <a:xfrm>
                        <a:off x="8118360" y="3998880"/>
                        <a:ext cx="412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5" name=""/>
                      <p:cNvSpPr/>
                      <p:nvPr/>
                    </p:nvSpPr>
                    <p:spPr>
                      <a:xfrm>
                        <a:off x="8122680" y="4002120"/>
                        <a:ext cx="59760" cy="5508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6" name=""/>
                      <p:cNvSpPr/>
                      <p:nvPr/>
                    </p:nvSpPr>
                    <p:spPr>
                      <a:xfrm flipH="1">
                        <a:off x="8122680" y="4061520"/>
                        <a:ext cx="59760" cy="5472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920" bIns="7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7" name=""/>
                      <p:cNvSpPr/>
                      <p:nvPr/>
                    </p:nvSpPr>
                    <p:spPr>
                      <a:xfrm>
                        <a:off x="8122680" y="4116240"/>
                        <a:ext cx="4129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828" name=""/>
                  <p:cNvSpPr/>
                  <p:nvPr/>
                </p:nvSpPr>
                <p:spPr>
                  <a:xfrm flipV="1">
                    <a:off x="7923240" y="3951000"/>
                    <a:ext cx="0" cy="1191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7918560" y="4070520"/>
                    <a:ext cx="1191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"/>
                <p:cNvSpPr/>
                <p:nvPr/>
              </p:nvSpPr>
              <p:spPr>
                <a:xfrm>
                  <a:off x="739764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"/>
              <p:cNvSpPr/>
              <p:nvPr/>
            </p:nvSpPr>
            <p:spPr>
              <a:xfrm>
                <a:off x="8837640" y="361008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01760" y="1747800"/>
                <a:ext cx="1382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Depozit de cenu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4734000" y="8841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796160" y="15573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"/>
              <p:cNvGrpSpPr/>
              <p:nvPr/>
            </p:nvGrpSpPr>
            <p:grpSpPr>
              <a:xfrm>
                <a:off x="1494000" y="3332160"/>
                <a:ext cx="671040" cy="882720"/>
                <a:chOff x="1494000" y="3332160"/>
                <a:chExt cx="671040" cy="88272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1852560" y="3744720"/>
                  <a:ext cx="10296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1958760" y="3652560"/>
                  <a:ext cx="206280" cy="190800"/>
                </a:xfrm>
                <a:prstGeom prst="ellipse">
                  <a:avLst/>
                </a:prstGeom>
                <a:solidFill>
                  <a:srgbClr val="ff7c8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38" name=""/>
                <p:cNvGrpSpPr/>
                <p:nvPr/>
              </p:nvGrpSpPr>
              <p:grpSpPr>
                <a:xfrm>
                  <a:off x="1494000" y="3531600"/>
                  <a:ext cx="364680" cy="432000"/>
                  <a:chOff x="1494000" y="3531600"/>
                  <a:chExt cx="364680" cy="432000"/>
                </a:xfrm>
              </p:grpSpPr>
              <p:sp>
                <p:nvSpPr>
                  <p:cNvPr id="839" name=""/>
                  <p:cNvSpPr/>
                  <p:nvPr/>
                </p:nvSpPr>
                <p:spPr>
                  <a:xfrm flipV="1">
                    <a:off x="1494000" y="3639960"/>
                    <a:ext cx="0" cy="2142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 flipV="1">
                    <a:off x="1494000" y="3531600"/>
                    <a:ext cx="364680" cy="108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1494000" y="3854880"/>
                    <a:ext cx="364680" cy="108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1858680" y="3531960"/>
                    <a:ext cx="0" cy="43164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43" name=""/>
                <p:cNvSpPr/>
                <p:nvPr/>
              </p:nvSpPr>
              <p:spPr>
                <a:xfrm>
                  <a:off x="1494000" y="3332160"/>
                  <a:ext cx="0" cy="3301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1860480" y="3863880"/>
                  <a:ext cx="0" cy="3510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5" name=""/>
              <p:cNvSpPr/>
              <p:nvPr/>
            </p:nvSpPr>
            <p:spPr>
              <a:xfrm>
                <a:off x="1434960" y="361008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6" name=""/>
              <p:cNvGrpSpPr/>
              <p:nvPr/>
            </p:nvGrpSpPr>
            <p:grpSpPr>
              <a:xfrm>
                <a:off x="6789600" y="4805280"/>
                <a:ext cx="752760" cy="975240"/>
                <a:chOff x="6789600" y="4805280"/>
                <a:chExt cx="752760" cy="975240"/>
              </a:xfrm>
            </p:grpSpPr>
            <p:grpSp>
              <p:nvGrpSpPr>
                <p:cNvPr id="847" name=""/>
                <p:cNvGrpSpPr/>
                <p:nvPr/>
              </p:nvGrpSpPr>
              <p:grpSpPr>
                <a:xfrm>
                  <a:off x="6870600" y="4805280"/>
                  <a:ext cx="671760" cy="975240"/>
                  <a:chOff x="6870600" y="4805280"/>
                  <a:chExt cx="671760" cy="975240"/>
                </a:xfrm>
              </p:grpSpPr>
              <p:sp>
                <p:nvSpPr>
                  <p:cNvPr id="848" name=""/>
                  <p:cNvSpPr/>
                  <p:nvPr/>
                </p:nvSpPr>
                <p:spPr>
                  <a:xfrm>
                    <a:off x="7229520" y="5261400"/>
                    <a:ext cx="10332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7335720" y="5159160"/>
                    <a:ext cx="206640" cy="2106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50" name=""/>
                  <p:cNvGrpSpPr/>
                  <p:nvPr/>
                </p:nvGrpSpPr>
                <p:grpSpPr>
                  <a:xfrm>
                    <a:off x="6870600" y="5025600"/>
                    <a:ext cx="365040" cy="477360"/>
                    <a:chOff x="6870600" y="5025600"/>
                    <a:chExt cx="365040" cy="477360"/>
                  </a:xfrm>
                </p:grpSpPr>
                <p:sp>
                  <p:nvSpPr>
                    <p:cNvPr id="851" name=""/>
                    <p:cNvSpPr/>
                    <p:nvPr/>
                  </p:nvSpPr>
                  <p:spPr>
                    <a:xfrm flipV="1">
                      <a:off x="6870600" y="5145840"/>
                      <a:ext cx="0" cy="236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2" name=""/>
                    <p:cNvSpPr/>
                    <p:nvPr/>
                  </p:nvSpPr>
                  <p:spPr>
                    <a:xfrm flipV="1">
                      <a:off x="6870600" y="5025600"/>
                      <a:ext cx="365040" cy="119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3" name=""/>
                    <p:cNvSpPr/>
                    <p:nvPr/>
                  </p:nvSpPr>
                  <p:spPr>
                    <a:xfrm>
                      <a:off x="6870600" y="5383080"/>
                      <a:ext cx="365040" cy="119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4" name=""/>
                    <p:cNvSpPr/>
                    <p:nvPr/>
                  </p:nvSpPr>
                  <p:spPr>
                    <a:xfrm>
                      <a:off x="7235640" y="5025960"/>
                      <a:ext cx="0" cy="47700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5" name=""/>
                  <p:cNvSpPr/>
                  <p:nvPr/>
                </p:nvSpPr>
                <p:spPr>
                  <a:xfrm>
                    <a:off x="6870600" y="4805280"/>
                    <a:ext cx="0" cy="36468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7237440" y="5392800"/>
                    <a:ext cx="0" cy="3877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7" name=""/>
                <p:cNvSpPr/>
                <p:nvPr/>
              </p:nvSpPr>
              <p:spPr>
                <a:xfrm>
                  <a:off x="6789600" y="511236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9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8" name=""/>
              <p:cNvSpPr/>
              <p:nvPr/>
            </p:nvSpPr>
            <p:spPr>
              <a:xfrm flipH="1">
                <a:off x="1193400" y="1301760"/>
                <a:ext cx="16462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9" name=""/>
              <p:cNvGrpSpPr/>
              <p:nvPr/>
            </p:nvGrpSpPr>
            <p:grpSpPr>
              <a:xfrm>
                <a:off x="825480" y="1114560"/>
                <a:ext cx="360360" cy="360360"/>
                <a:chOff x="825480" y="1114560"/>
                <a:chExt cx="360360" cy="36036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898560" y="118764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825480" y="111456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2" name=""/>
              <p:cNvSpPr/>
              <p:nvPr/>
            </p:nvSpPr>
            <p:spPr>
              <a:xfrm>
                <a:off x="789120" y="857160"/>
                <a:ext cx="5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85640" y="2413080"/>
                <a:ext cx="935280" cy="32220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90600" y="2695680"/>
                <a:ext cx="168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00"/>
                    </a:solidFill>
                    <a:latin typeface="Times New Roman"/>
                  </a:rPr>
                  <a:t>Depozite noi de cenu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5" name=""/>
              <p:cNvGrpSpPr/>
              <p:nvPr/>
            </p:nvGrpSpPr>
            <p:grpSpPr>
              <a:xfrm>
                <a:off x="8790120" y="3278160"/>
                <a:ext cx="1046160" cy="3133800"/>
                <a:chOff x="8790120" y="3278160"/>
                <a:chExt cx="1046160" cy="3133800"/>
              </a:xfrm>
            </p:grpSpPr>
            <p:sp>
              <p:nvSpPr>
                <p:cNvPr id="866" name=""/>
                <p:cNvSpPr/>
                <p:nvPr/>
              </p:nvSpPr>
              <p:spPr>
                <a:xfrm flipV="1">
                  <a:off x="9043920" y="3906720"/>
                  <a:ext cx="0" cy="2700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7" name=""/>
                <p:cNvGrpSpPr/>
                <p:nvPr/>
              </p:nvGrpSpPr>
              <p:grpSpPr>
                <a:xfrm>
                  <a:off x="8790120" y="3278160"/>
                  <a:ext cx="891720" cy="685440"/>
                  <a:chOff x="8790120" y="3278160"/>
                  <a:chExt cx="891720" cy="685440"/>
                </a:xfrm>
              </p:grpSpPr>
              <p:sp>
                <p:nvSpPr>
                  <p:cNvPr id="868" name=""/>
                  <p:cNvSpPr/>
                  <p:nvPr/>
                </p:nvSpPr>
                <p:spPr>
                  <a:xfrm>
                    <a:off x="9359640" y="3745080"/>
                    <a:ext cx="102960" cy="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9475560" y="3652920"/>
                    <a:ext cx="206280" cy="1904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70" name=""/>
                  <p:cNvGrpSpPr/>
                  <p:nvPr/>
                </p:nvGrpSpPr>
                <p:grpSpPr>
                  <a:xfrm>
                    <a:off x="8790120" y="3278160"/>
                    <a:ext cx="579600" cy="685440"/>
                    <a:chOff x="8790120" y="3278160"/>
                    <a:chExt cx="579600" cy="685440"/>
                  </a:xfrm>
                </p:grpSpPr>
                <p:grpSp>
                  <p:nvGrpSpPr>
                    <p:cNvPr id="871" name=""/>
                    <p:cNvGrpSpPr/>
                    <p:nvPr/>
                  </p:nvGrpSpPr>
                  <p:grpSpPr>
                    <a:xfrm>
                      <a:off x="8794440" y="3531960"/>
                      <a:ext cx="575280" cy="431640"/>
                      <a:chOff x="8794440" y="3531960"/>
                      <a:chExt cx="575280" cy="431640"/>
                    </a:xfrm>
                  </p:grpSpPr>
                  <p:sp>
                    <p:nvSpPr>
                      <p:cNvPr id="872" name=""/>
                      <p:cNvSpPr/>
                      <p:nvPr/>
                    </p:nvSpPr>
                    <p:spPr>
                      <a:xfrm flipV="1">
                        <a:off x="8794440" y="3640320"/>
                        <a:ext cx="0" cy="21420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3" name=""/>
                      <p:cNvSpPr/>
                      <p:nvPr/>
                    </p:nvSpPr>
                    <p:spPr>
                      <a:xfrm flipV="1">
                        <a:off x="8794440" y="3531960"/>
                        <a:ext cx="575280" cy="10836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4" name=""/>
                      <p:cNvSpPr/>
                      <p:nvPr/>
                    </p:nvSpPr>
                    <p:spPr>
                      <a:xfrm>
                        <a:off x="8794440" y="3855240"/>
                        <a:ext cx="575280" cy="10836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5" name=""/>
                      <p:cNvSpPr/>
                      <p:nvPr/>
                    </p:nvSpPr>
                    <p:spPr>
                      <a:xfrm>
                        <a:off x="9369720" y="3532320"/>
                        <a:ext cx="0" cy="43128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76" name=""/>
                    <p:cNvSpPr/>
                    <p:nvPr/>
                  </p:nvSpPr>
                  <p:spPr>
                    <a:xfrm>
                      <a:off x="8790120" y="3278160"/>
                      <a:ext cx="0" cy="38412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77" name=""/>
                <p:cNvSpPr/>
                <p:nvPr/>
              </p:nvSpPr>
              <p:spPr>
                <a:xfrm>
                  <a:off x="8880480" y="3863880"/>
                  <a:ext cx="0" cy="3510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9043920" y="4321080"/>
                  <a:ext cx="0" cy="3967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V="1">
                  <a:off x="9220320" y="3925440"/>
                  <a:ext cx="0" cy="2509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9220320" y="4321080"/>
                  <a:ext cx="0" cy="3967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9220320" y="5870520"/>
                  <a:ext cx="0" cy="5414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9220320" y="4862520"/>
                  <a:ext cx="0" cy="8636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83" name=""/>
                <p:cNvGrpSpPr/>
                <p:nvPr/>
              </p:nvGrpSpPr>
              <p:grpSpPr>
                <a:xfrm>
                  <a:off x="8828280" y="3609720"/>
                  <a:ext cx="1008000" cy="540000"/>
                  <a:chOff x="8828280" y="3609720"/>
                  <a:chExt cx="1008000" cy="540000"/>
                </a:xfrm>
              </p:grpSpPr>
              <p:grpSp>
                <p:nvGrpSpPr>
                  <p:cNvPr id="884" name=""/>
                  <p:cNvGrpSpPr/>
                  <p:nvPr/>
                </p:nvGrpSpPr>
                <p:grpSpPr>
                  <a:xfrm>
                    <a:off x="9367920" y="3951360"/>
                    <a:ext cx="468360" cy="198360"/>
                    <a:chOff x="9367920" y="3951360"/>
                    <a:chExt cx="468360" cy="198360"/>
                  </a:xfrm>
                </p:grpSpPr>
                <p:grpSp>
                  <p:nvGrpSpPr>
                    <p:cNvPr id="885" name=""/>
                    <p:cNvGrpSpPr/>
                    <p:nvPr/>
                  </p:nvGrpSpPr>
                  <p:grpSpPr>
                    <a:xfrm>
                      <a:off x="9488520" y="3962160"/>
                      <a:ext cx="347760" cy="187560"/>
                      <a:chOff x="9488520" y="3962160"/>
                      <a:chExt cx="347760" cy="187560"/>
                    </a:xfrm>
                  </p:grpSpPr>
                  <p:sp>
                    <p:nvSpPr>
                      <p:cNvPr id="886" name=""/>
                      <p:cNvSpPr/>
                      <p:nvPr/>
                    </p:nvSpPr>
                    <p:spPr>
                      <a:xfrm>
                        <a:off x="9488520" y="3962160"/>
                        <a:ext cx="208080" cy="187560"/>
                      </a:xfrm>
                      <a:prstGeom prst="ellipse">
                        <a:avLst/>
                      </a:prstGeom>
                      <a:solidFill>
                        <a:srgbClr val="ffcc99"/>
                      </a:solidFill>
                      <a:ln w="1260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87" name=""/>
                      <p:cNvGrpSpPr/>
                      <p:nvPr/>
                    </p:nvGrpSpPr>
                    <p:grpSpPr>
                      <a:xfrm>
                        <a:off x="9568080" y="3998880"/>
                        <a:ext cx="268200" cy="117360"/>
                        <a:chOff x="9568080" y="3998880"/>
                        <a:chExt cx="268200" cy="117360"/>
                      </a:xfrm>
                    </p:grpSpPr>
                    <p:sp>
                      <p:nvSpPr>
                        <p:cNvPr id="888" name=""/>
                        <p:cNvSpPr/>
                        <p:nvPr/>
                      </p:nvSpPr>
                      <p:spPr>
                        <a:xfrm>
                          <a:off x="9568080" y="3998880"/>
                          <a:ext cx="2682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9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9" name=""/>
                        <p:cNvSpPr/>
                        <p:nvPr/>
                      </p:nvSpPr>
                      <p:spPr>
                        <a:xfrm>
                          <a:off x="9572760" y="4002120"/>
                          <a:ext cx="60120" cy="55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9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0" name=""/>
                        <p:cNvSpPr/>
                        <p:nvPr/>
                      </p:nvSpPr>
                      <p:spPr>
                        <a:xfrm flipH="1">
                          <a:off x="9572400" y="4060800"/>
                          <a:ext cx="60120" cy="55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9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1" name=""/>
                        <p:cNvSpPr/>
                        <p:nvPr/>
                      </p:nvSpPr>
                      <p:spPr>
                        <a:xfrm>
                          <a:off x="9572760" y="4116240"/>
                          <a:ext cx="2635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99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92" name=""/>
                    <p:cNvGrpSpPr/>
                    <p:nvPr/>
                  </p:nvGrpSpPr>
                  <p:grpSpPr>
                    <a:xfrm>
                      <a:off x="9367920" y="3951360"/>
                      <a:ext cx="119160" cy="118800"/>
                      <a:chOff x="9367920" y="3951360"/>
                      <a:chExt cx="119160" cy="118800"/>
                    </a:xfrm>
                  </p:grpSpPr>
                  <p:sp>
                    <p:nvSpPr>
                      <p:cNvPr id="893" name=""/>
                      <p:cNvSpPr/>
                      <p:nvPr/>
                    </p:nvSpPr>
                    <p:spPr>
                      <a:xfrm flipV="1">
                        <a:off x="9372600" y="3951360"/>
                        <a:ext cx="0" cy="11880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94" name=""/>
                      <p:cNvSpPr/>
                      <p:nvPr/>
                    </p:nvSpPr>
                    <p:spPr>
                      <a:xfrm>
                        <a:off x="9367920" y="4070160"/>
                        <a:ext cx="11916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895" name=""/>
                  <p:cNvSpPr/>
                  <p:nvPr/>
                </p:nvSpPr>
                <p:spPr>
                  <a:xfrm>
                    <a:off x="8828280" y="3609720"/>
                    <a:ext cx="503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TA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96" name=""/>
              <p:cNvSpPr/>
              <p:nvPr/>
            </p:nvSpPr>
            <p:spPr>
              <a:xfrm rot="16200000">
                <a:off x="-357120" y="4768920"/>
                <a:ext cx="216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3300"/>
                    </a:solidFill>
                    <a:latin typeface="Times New Roman"/>
                  </a:rPr>
                  <a:t>Consumatorii industriali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39544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73996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H="1">
                <a:off x="1496880" y="2449440"/>
                <a:ext cx="91296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2558880" y="2440080"/>
                <a:ext cx="21600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>
                <a:off x="2919240" y="2440080"/>
                <a:ext cx="93528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>
                <a:off x="3998880" y="2440080"/>
                <a:ext cx="21600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>
                <a:off x="4359240" y="2440080"/>
                <a:ext cx="94464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"/>
              <p:cNvGrpSpPr/>
              <p:nvPr/>
            </p:nvGrpSpPr>
            <p:grpSpPr>
              <a:xfrm>
                <a:off x="3325680" y="6308640"/>
                <a:ext cx="258840" cy="258840"/>
                <a:chOff x="3325680" y="6308640"/>
                <a:chExt cx="258840" cy="25884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3325680" y="6308640"/>
                  <a:ext cx="258840" cy="258840"/>
                </a:xfrm>
                <a:prstGeom prst="ellipse">
                  <a:avLst/>
                </a:prstGeom>
                <a:solidFill>
                  <a:srgbClr val="ff7c80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 flipH="1">
                  <a:off x="3373560" y="6439680"/>
                  <a:ext cx="15624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07" name=""/>
          <p:cNvSpPr/>
          <p:nvPr/>
        </p:nvSpPr>
        <p:spPr>
          <a:xfrm>
            <a:off x="1784520" y="1811160"/>
            <a:ext cx="431640" cy="142920"/>
          </a:xfrm>
          <a:prstGeom prst="line">
            <a:avLst/>
          </a:prstGeom>
          <a:ln w="316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085840" y="1719360"/>
            <a:ext cx="1079640" cy="576000"/>
          </a:xfrm>
          <a:prstGeom prst="ellipse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863880" y="5997600"/>
            <a:ext cx="331920" cy="123840"/>
          </a:xfrm>
          <a:prstGeom prst="line">
            <a:avLst/>
          </a:prstGeom>
          <a:ln w="316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733920" y="6118200"/>
            <a:ext cx="882360" cy="5605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081240" y="2943360"/>
            <a:ext cx="432000" cy="142920"/>
          </a:xfrm>
          <a:prstGeom prst="line">
            <a:avLst/>
          </a:prstGeom>
          <a:ln w="316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001960" y="2440080"/>
            <a:ext cx="1295280" cy="6476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3" name=""/>
          <p:cNvGrpSpPr/>
          <p:nvPr/>
        </p:nvGrpSpPr>
        <p:grpSpPr>
          <a:xfrm>
            <a:off x="220680" y="166680"/>
            <a:ext cx="10415160" cy="6411600"/>
            <a:chOff x="220680" y="166680"/>
            <a:chExt cx="10415160" cy="6411600"/>
          </a:xfrm>
        </p:grpSpPr>
        <p:sp>
          <p:nvSpPr>
            <p:cNvPr id="914" name=""/>
            <p:cNvSpPr/>
            <p:nvPr/>
          </p:nvSpPr>
          <p:spPr>
            <a:xfrm>
              <a:off x="272880" y="166680"/>
              <a:ext cx="9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Times New Roman"/>
                </a:rPr>
                <a:t>SCHEMA TEHNOLOGICA LA SFARSITUL ANULUI 200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"/>
            <p:cNvGrpSpPr/>
            <p:nvPr/>
          </p:nvGrpSpPr>
          <p:grpSpPr>
            <a:xfrm>
              <a:off x="220680" y="543960"/>
              <a:ext cx="10415160" cy="6034320"/>
              <a:chOff x="220680" y="543960"/>
              <a:chExt cx="10415160" cy="6034320"/>
            </a:xfrm>
          </p:grpSpPr>
          <p:sp>
            <p:nvSpPr>
              <p:cNvPr id="916" name=""/>
              <p:cNvSpPr/>
              <p:nvPr/>
            </p:nvSpPr>
            <p:spPr>
              <a:xfrm>
                <a:off x="1204920" y="3359160"/>
                <a:ext cx="81201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49876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84328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49876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284328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"/>
              <p:cNvGrpSpPr/>
              <p:nvPr/>
            </p:nvGrpSpPr>
            <p:grpSpPr>
              <a:xfrm>
                <a:off x="2387520" y="1482840"/>
                <a:ext cx="216000" cy="215640"/>
                <a:chOff x="2387520" y="1482840"/>
                <a:chExt cx="216000" cy="215640"/>
              </a:xfrm>
            </p:grpSpPr>
            <p:sp>
              <p:nvSpPr>
                <p:cNvPr id="922" name=""/>
                <p:cNvSpPr/>
                <p:nvPr/>
              </p:nvSpPr>
              <p:spPr>
                <a:xfrm>
                  <a:off x="238752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 flipH="1">
                  <a:off x="243324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253188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2732040" y="1482840"/>
                <a:ext cx="216000" cy="215640"/>
                <a:chOff x="2732040" y="1482840"/>
                <a:chExt cx="216000" cy="21564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273204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 flipH="1">
                  <a:off x="277776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287640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9" name=""/>
              <p:cNvSpPr/>
              <p:nvPr/>
            </p:nvSpPr>
            <p:spPr>
              <a:xfrm>
                <a:off x="249876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284328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84012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95136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418464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29588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95136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29588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7" name=""/>
              <p:cNvGrpSpPr/>
              <p:nvPr/>
            </p:nvGrpSpPr>
            <p:grpSpPr>
              <a:xfrm>
                <a:off x="3840120" y="1482840"/>
                <a:ext cx="216000" cy="215640"/>
                <a:chOff x="3840120" y="1482840"/>
                <a:chExt cx="216000" cy="215640"/>
              </a:xfrm>
            </p:grpSpPr>
            <p:sp>
              <p:nvSpPr>
                <p:cNvPr id="938" name=""/>
                <p:cNvSpPr/>
                <p:nvPr/>
              </p:nvSpPr>
              <p:spPr>
                <a:xfrm>
                  <a:off x="384012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 flipH="1">
                  <a:off x="388584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398448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1" name=""/>
              <p:cNvGrpSpPr/>
              <p:nvPr/>
            </p:nvGrpSpPr>
            <p:grpSpPr>
              <a:xfrm>
                <a:off x="4184640" y="1482840"/>
                <a:ext cx="216000" cy="215640"/>
                <a:chOff x="4184640" y="1482840"/>
                <a:chExt cx="216000" cy="215640"/>
              </a:xfrm>
            </p:grpSpPr>
            <p:sp>
              <p:nvSpPr>
                <p:cNvPr id="942" name=""/>
                <p:cNvSpPr/>
                <p:nvPr/>
              </p:nvSpPr>
              <p:spPr>
                <a:xfrm>
                  <a:off x="418464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flipH="1">
                  <a:off x="423036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432900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5" name=""/>
              <p:cNvSpPr/>
              <p:nvPr/>
            </p:nvSpPr>
            <p:spPr>
              <a:xfrm>
                <a:off x="395136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429588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7" name=""/>
              <p:cNvGrpSpPr/>
              <p:nvPr/>
            </p:nvGrpSpPr>
            <p:grpSpPr>
              <a:xfrm>
                <a:off x="5567400" y="2532240"/>
                <a:ext cx="531360" cy="805680"/>
                <a:chOff x="5567400" y="2532240"/>
                <a:chExt cx="531360" cy="805680"/>
              </a:xfrm>
            </p:grpSpPr>
            <p:grpSp>
              <p:nvGrpSpPr>
                <p:cNvPr id="948" name=""/>
                <p:cNvGrpSpPr/>
                <p:nvPr/>
              </p:nvGrpSpPr>
              <p:grpSpPr>
                <a:xfrm>
                  <a:off x="5567400" y="2532240"/>
                  <a:ext cx="531360" cy="414000"/>
                  <a:chOff x="5567400" y="2532240"/>
                  <a:chExt cx="531360" cy="414000"/>
                </a:xfrm>
              </p:grpSpPr>
              <p:sp>
                <p:nvSpPr>
                  <p:cNvPr id="949" name=""/>
                  <p:cNvSpPr/>
                  <p:nvPr/>
                </p:nvSpPr>
                <p:spPr>
                  <a:xfrm>
                    <a:off x="5567400" y="253224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5586480" y="256356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1" name=""/>
                <p:cNvGrpSpPr/>
                <p:nvPr/>
              </p:nvGrpSpPr>
              <p:grpSpPr>
                <a:xfrm>
                  <a:off x="5632560" y="2944800"/>
                  <a:ext cx="412560" cy="393120"/>
                  <a:chOff x="5632560" y="2944800"/>
                  <a:chExt cx="412560" cy="393120"/>
                </a:xfrm>
              </p:grpSpPr>
              <p:sp>
                <p:nvSpPr>
                  <p:cNvPr id="952" name=""/>
                  <p:cNvSpPr/>
                  <p:nvPr/>
                </p:nvSpPr>
                <p:spPr>
                  <a:xfrm>
                    <a:off x="5837040" y="294480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 flipH="1">
                    <a:off x="5635440" y="305244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5632560" y="314784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 flipH="1">
                    <a:off x="5830920" y="314784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5840280" y="323172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7" name=""/>
              <p:cNvGrpSpPr/>
              <p:nvPr/>
            </p:nvGrpSpPr>
            <p:grpSpPr>
              <a:xfrm>
                <a:off x="5556240" y="1320840"/>
                <a:ext cx="560160" cy="1217520"/>
                <a:chOff x="5556240" y="1320840"/>
                <a:chExt cx="560160" cy="121752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5556240" y="1866960"/>
                  <a:ext cx="21600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5667480" y="21351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5900760" y="1866960"/>
                  <a:ext cx="21564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6011640" y="21351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667480" y="170316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6011640" y="170316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64" name=""/>
                <p:cNvGrpSpPr/>
                <p:nvPr/>
              </p:nvGrpSpPr>
              <p:grpSpPr>
                <a:xfrm>
                  <a:off x="5556240" y="1482840"/>
                  <a:ext cx="216000" cy="215640"/>
                  <a:chOff x="5556240" y="1482840"/>
                  <a:chExt cx="216000" cy="215640"/>
                </a:xfrm>
              </p:grpSpPr>
              <p:sp>
                <p:nvSpPr>
                  <p:cNvPr id="965" name=""/>
                  <p:cNvSpPr/>
                  <p:nvPr/>
                </p:nvSpPr>
                <p:spPr>
                  <a:xfrm>
                    <a:off x="5556240" y="14828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 flipH="1">
                    <a:off x="5601960" y="15397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5700600" y="15397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8" name=""/>
                <p:cNvGrpSpPr/>
                <p:nvPr/>
              </p:nvGrpSpPr>
              <p:grpSpPr>
                <a:xfrm>
                  <a:off x="5900760" y="1482840"/>
                  <a:ext cx="215640" cy="215640"/>
                  <a:chOff x="5900760" y="1482840"/>
                  <a:chExt cx="215640" cy="215640"/>
                </a:xfrm>
              </p:grpSpPr>
              <p:sp>
                <p:nvSpPr>
                  <p:cNvPr id="969" name=""/>
                  <p:cNvSpPr/>
                  <p:nvPr/>
                </p:nvSpPr>
                <p:spPr>
                  <a:xfrm>
                    <a:off x="5900760" y="1482840"/>
                    <a:ext cx="21564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 flipH="1">
                    <a:off x="5946480" y="1539720"/>
                    <a:ext cx="2160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6044760" y="15397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2" name=""/>
                <p:cNvSpPr/>
                <p:nvPr/>
              </p:nvSpPr>
              <p:spPr>
                <a:xfrm>
                  <a:off x="5667480" y="13208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6011640" y="13208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4" name=""/>
              <p:cNvGrpSpPr/>
              <p:nvPr/>
            </p:nvGrpSpPr>
            <p:grpSpPr>
              <a:xfrm>
                <a:off x="5292720" y="2351160"/>
                <a:ext cx="264960" cy="360360"/>
                <a:chOff x="5292720" y="2351160"/>
                <a:chExt cx="264960" cy="36036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5298840" y="23511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 flipH="1">
                  <a:off x="5292720" y="27115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4802040" y="1141560"/>
                <a:ext cx="360360" cy="360360"/>
                <a:chOff x="4802040" y="1141560"/>
                <a:chExt cx="360360" cy="36036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4875120" y="121464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4802040" y="114156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0" name=""/>
              <p:cNvSpPr/>
              <p:nvPr/>
            </p:nvSpPr>
            <p:spPr>
              <a:xfrm>
                <a:off x="3943440" y="1328760"/>
                <a:ext cx="826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H="1">
                <a:off x="5195520" y="1328760"/>
                <a:ext cx="826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2" name=""/>
              <p:cNvGrpSpPr/>
              <p:nvPr/>
            </p:nvGrpSpPr>
            <p:grpSpPr>
              <a:xfrm>
                <a:off x="7196040" y="2532240"/>
                <a:ext cx="531360" cy="805680"/>
                <a:chOff x="7196040" y="2532240"/>
                <a:chExt cx="531360" cy="805680"/>
              </a:xfrm>
            </p:grpSpPr>
            <p:grpSp>
              <p:nvGrpSpPr>
                <p:cNvPr id="983" name=""/>
                <p:cNvGrpSpPr/>
                <p:nvPr/>
              </p:nvGrpSpPr>
              <p:grpSpPr>
                <a:xfrm>
                  <a:off x="7196040" y="2532240"/>
                  <a:ext cx="531360" cy="414000"/>
                  <a:chOff x="7196040" y="2532240"/>
                  <a:chExt cx="531360" cy="414000"/>
                </a:xfrm>
              </p:grpSpPr>
              <p:sp>
                <p:nvSpPr>
                  <p:cNvPr id="984" name=""/>
                  <p:cNvSpPr/>
                  <p:nvPr/>
                </p:nvSpPr>
                <p:spPr>
                  <a:xfrm>
                    <a:off x="7196040" y="253224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7215120" y="256356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6" name=""/>
                <p:cNvGrpSpPr/>
                <p:nvPr/>
              </p:nvGrpSpPr>
              <p:grpSpPr>
                <a:xfrm>
                  <a:off x="7261200" y="2944800"/>
                  <a:ext cx="412560" cy="393120"/>
                  <a:chOff x="7261200" y="2944800"/>
                  <a:chExt cx="412560" cy="393120"/>
                </a:xfrm>
              </p:grpSpPr>
              <p:sp>
                <p:nvSpPr>
                  <p:cNvPr id="987" name=""/>
                  <p:cNvSpPr/>
                  <p:nvPr/>
                </p:nvSpPr>
                <p:spPr>
                  <a:xfrm>
                    <a:off x="7465680" y="294480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 flipH="1">
                    <a:off x="7264080" y="305244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7261200" y="314784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 flipH="1">
                    <a:off x="7459560" y="314784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7468920" y="323172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92" name=""/>
              <p:cNvGrpSpPr/>
              <p:nvPr/>
            </p:nvGrpSpPr>
            <p:grpSpPr>
              <a:xfrm>
                <a:off x="8007480" y="1789200"/>
                <a:ext cx="360360" cy="360360"/>
                <a:chOff x="8007480" y="1789200"/>
                <a:chExt cx="360360" cy="360360"/>
              </a:xfrm>
            </p:grpSpPr>
            <p:sp>
              <p:nvSpPr>
                <p:cNvPr id="993" name=""/>
                <p:cNvSpPr/>
                <p:nvPr/>
              </p:nvSpPr>
              <p:spPr>
                <a:xfrm>
                  <a:off x="8080560" y="186228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8007480" y="178920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5" name=""/>
              <p:cNvSpPr/>
              <p:nvPr/>
            </p:nvSpPr>
            <p:spPr>
              <a:xfrm>
                <a:off x="7454880" y="1971720"/>
                <a:ext cx="460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7445520" y="1943280"/>
                <a:ext cx="0" cy="5760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988920" y="4254480"/>
                <a:ext cx="8785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917640" y="4791240"/>
                <a:ext cx="88567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133640" y="3095640"/>
                <a:ext cx="720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140 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147680" y="399888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35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147680" y="454032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13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988920" y="5797440"/>
                <a:ext cx="8785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147680" y="55389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6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4302000" y="6446880"/>
                <a:ext cx="54723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988920" y="6446880"/>
                <a:ext cx="2952720" cy="0"/>
              </a:xfrm>
              <a:prstGeom prst="line">
                <a:avLst/>
              </a:prstGeom>
              <a:ln w="50760">
                <a:solidFill>
                  <a:srgbClr val="9933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6" name=""/>
              <p:cNvGrpSpPr/>
              <p:nvPr/>
            </p:nvGrpSpPr>
            <p:grpSpPr>
              <a:xfrm>
                <a:off x="3944520" y="6308640"/>
                <a:ext cx="359280" cy="269640"/>
                <a:chOff x="3944520" y="6308640"/>
                <a:chExt cx="359280" cy="269640"/>
              </a:xfrm>
            </p:grpSpPr>
            <p:sp>
              <p:nvSpPr>
                <p:cNvPr id="1007" name=""/>
                <p:cNvSpPr/>
                <p:nvPr/>
              </p:nvSpPr>
              <p:spPr>
                <a:xfrm>
                  <a:off x="3944880" y="6308640"/>
                  <a:ext cx="358920" cy="269640"/>
                </a:xfrm>
                <a:prstGeom prst="rect">
                  <a:avLst/>
                </a:prstGeom>
                <a:solidFill>
                  <a:srgbClr val="ff7c80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 flipH="1">
                  <a:off x="3944520" y="6308640"/>
                  <a:ext cx="358920" cy="26496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9" name=""/>
              <p:cNvSpPr/>
              <p:nvPr/>
            </p:nvSpPr>
            <p:spPr>
              <a:xfrm>
                <a:off x="1147680" y="6159600"/>
                <a:ext cx="1513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ermoficare urba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485640" y="1957320"/>
                <a:ext cx="935280" cy="32220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"/>
              <p:cNvGrpSpPr/>
              <p:nvPr/>
            </p:nvGrpSpPr>
            <p:grpSpPr>
              <a:xfrm>
                <a:off x="4129200" y="3278160"/>
                <a:ext cx="891720" cy="3133800"/>
                <a:chOff x="4129200" y="3278160"/>
                <a:chExt cx="891720" cy="3133800"/>
              </a:xfrm>
            </p:grpSpPr>
            <p:grpSp>
              <p:nvGrpSpPr>
                <p:cNvPr id="1012" name=""/>
                <p:cNvGrpSpPr/>
                <p:nvPr/>
              </p:nvGrpSpPr>
              <p:grpSpPr>
                <a:xfrm>
                  <a:off x="4129200" y="3278160"/>
                  <a:ext cx="891720" cy="3133800"/>
                  <a:chOff x="4129200" y="3278160"/>
                  <a:chExt cx="891720" cy="3133800"/>
                </a:xfrm>
              </p:grpSpPr>
              <p:sp>
                <p:nvSpPr>
                  <p:cNvPr id="1013" name=""/>
                  <p:cNvSpPr/>
                  <p:nvPr/>
                </p:nvSpPr>
                <p:spPr>
                  <a:xfrm flipV="1">
                    <a:off x="4402080" y="39067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14" name=""/>
                  <p:cNvGrpSpPr/>
                  <p:nvPr/>
                </p:nvGrpSpPr>
                <p:grpSpPr>
                  <a:xfrm>
                    <a:off x="4129200" y="3278160"/>
                    <a:ext cx="891720" cy="685440"/>
                    <a:chOff x="4129200" y="3278160"/>
                    <a:chExt cx="891720" cy="685440"/>
                  </a:xfrm>
                </p:grpSpPr>
                <p:sp>
                  <p:nvSpPr>
                    <p:cNvPr id="1015" name=""/>
                    <p:cNvSpPr/>
                    <p:nvPr/>
                  </p:nvSpPr>
                  <p:spPr>
                    <a:xfrm>
                      <a:off x="4698720" y="37450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6" name=""/>
                    <p:cNvSpPr/>
                    <p:nvPr/>
                  </p:nvSpPr>
                  <p:spPr>
                    <a:xfrm>
                      <a:off x="4814640" y="36529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17" name=""/>
                    <p:cNvGrpSpPr/>
                    <p:nvPr/>
                  </p:nvGrpSpPr>
                  <p:grpSpPr>
                    <a:xfrm>
                      <a:off x="4129200" y="3278160"/>
                      <a:ext cx="579600" cy="685440"/>
                      <a:chOff x="4129200" y="3278160"/>
                      <a:chExt cx="579600" cy="685440"/>
                    </a:xfrm>
                  </p:grpSpPr>
                  <p:grpSp>
                    <p:nvGrpSpPr>
                      <p:cNvPr id="1018" name=""/>
                      <p:cNvGrpSpPr/>
                      <p:nvPr/>
                    </p:nvGrpSpPr>
                    <p:grpSpPr>
                      <a:xfrm>
                        <a:off x="4133520" y="3531960"/>
                        <a:ext cx="575280" cy="431640"/>
                        <a:chOff x="4133520" y="3531960"/>
                        <a:chExt cx="575280" cy="431640"/>
                      </a:xfrm>
                    </p:grpSpPr>
                    <p:sp>
                      <p:nvSpPr>
                        <p:cNvPr id="1019" name=""/>
                        <p:cNvSpPr/>
                        <p:nvPr/>
                      </p:nvSpPr>
                      <p:spPr>
                        <a:xfrm flipV="1">
                          <a:off x="4133520" y="36403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0" name=""/>
                        <p:cNvSpPr/>
                        <p:nvPr/>
                      </p:nvSpPr>
                      <p:spPr>
                        <a:xfrm flipV="1">
                          <a:off x="4133520" y="35319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1" name=""/>
                        <p:cNvSpPr/>
                        <p:nvPr/>
                      </p:nvSpPr>
                      <p:spPr>
                        <a:xfrm>
                          <a:off x="4133520" y="38552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2" name=""/>
                        <p:cNvSpPr/>
                        <p:nvPr/>
                      </p:nvSpPr>
                      <p:spPr>
                        <a:xfrm>
                          <a:off x="4708800" y="35323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023" name=""/>
                      <p:cNvSpPr/>
                      <p:nvPr/>
                    </p:nvSpPr>
                    <p:spPr>
                      <a:xfrm>
                        <a:off x="4129200" y="32781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024" name=""/>
                  <p:cNvSpPr/>
                  <p:nvPr/>
                </p:nvSpPr>
                <p:spPr>
                  <a:xfrm>
                    <a:off x="4219560" y="38638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440208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 flipV="1">
                    <a:off x="4711680" y="39254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471168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4711680" y="58705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4711680" y="48625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0" name=""/>
                <p:cNvSpPr/>
                <p:nvPr/>
              </p:nvSpPr>
              <p:spPr>
                <a:xfrm>
                  <a:off x="416736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1" name=""/>
              <p:cNvGrpSpPr/>
              <p:nvPr/>
            </p:nvGrpSpPr>
            <p:grpSpPr>
              <a:xfrm>
                <a:off x="5842080" y="3278160"/>
                <a:ext cx="891720" cy="3133800"/>
                <a:chOff x="5842080" y="3278160"/>
                <a:chExt cx="891720" cy="3133800"/>
              </a:xfrm>
            </p:grpSpPr>
            <p:grpSp>
              <p:nvGrpSpPr>
                <p:cNvPr id="1032" name=""/>
                <p:cNvGrpSpPr/>
                <p:nvPr/>
              </p:nvGrpSpPr>
              <p:grpSpPr>
                <a:xfrm>
                  <a:off x="5842080" y="3278160"/>
                  <a:ext cx="891720" cy="3133800"/>
                  <a:chOff x="5842080" y="3278160"/>
                  <a:chExt cx="891720" cy="3133800"/>
                </a:xfrm>
              </p:grpSpPr>
              <p:sp>
                <p:nvSpPr>
                  <p:cNvPr id="1033" name=""/>
                  <p:cNvSpPr/>
                  <p:nvPr/>
                </p:nvSpPr>
                <p:spPr>
                  <a:xfrm flipV="1">
                    <a:off x="6114960" y="39067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34" name=""/>
                  <p:cNvGrpSpPr/>
                  <p:nvPr/>
                </p:nvGrpSpPr>
                <p:grpSpPr>
                  <a:xfrm>
                    <a:off x="5842080" y="3278160"/>
                    <a:ext cx="891720" cy="685440"/>
                    <a:chOff x="5842080" y="3278160"/>
                    <a:chExt cx="891720" cy="685440"/>
                  </a:xfrm>
                </p:grpSpPr>
                <p:sp>
                  <p:nvSpPr>
                    <p:cNvPr id="1035" name=""/>
                    <p:cNvSpPr/>
                    <p:nvPr/>
                  </p:nvSpPr>
                  <p:spPr>
                    <a:xfrm>
                      <a:off x="6411600" y="37450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6" name=""/>
                    <p:cNvSpPr/>
                    <p:nvPr/>
                  </p:nvSpPr>
                  <p:spPr>
                    <a:xfrm>
                      <a:off x="6527520" y="36529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37" name=""/>
                    <p:cNvGrpSpPr/>
                    <p:nvPr/>
                  </p:nvGrpSpPr>
                  <p:grpSpPr>
                    <a:xfrm>
                      <a:off x="5842080" y="3278160"/>
                      <a:ext cx="579600" cy="685440"/>
                      <a:chOff x="5842080" y="3278160"/>
                      <a:chExt cx="579600" cy="685440"/>
                    </a:xfrm>
                  </p:grpSpPr>
                  <p:grpSp>
                    <p:nvGrpSpPr>
                      <p:cNvPr id="1038" name=""/>
                      <p:cNvGrpSpPr/>
                      <p:nvPr/>
                    </p:nvGrpSpPr>
                    <p:grpSpPr>
                      <a:xfrm>
                        <a:off x="5846400" y="3531960"/>
                        <a:ext cx="575280" cy="431640"/>
                        <a:chOff x="5846400" y="3531960"/>
                        <a:chExt cx="575280" cy="431640"/>
                      </a:xfrm>
                    </p:grpSpPr>
                    <p:sp>
                      <p:nvSpPr>
                        <p:cNvPr id="1039" name=""/>
                        <p:cNvSpPr/>
                        <p:nvPr/>
                      </p:nvSpPr>
                      <p:spPr>
                        <a:xfrm flipV="1">
                          <a:off x="5846400" y="36403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0" name=""/>
                        <p:cNvSpPr/>
                        <p:nvPr/>
                      </p:nvSpPr>
                      <p:spPr>
                        <a:xfrm flipV="1">
                          <a:off x="5846400" y="35319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1" name=""/>
                        <p:cNvSpPr/>
                        <p:nvPr/>
                      </p:nvSpPr>
                      <p:spPr>
                        <a:xfrm>
                          <a:off x="5846400" y="38552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2" name=""/>
                        <p:cNvSpPr/>
                        <p:nvPr/>
                      </p:nvSpPr>
                      <p:spPr>
                        <a:xfrm>
                          <a:off x="6421680" y="35323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043" name=""/>
                      <p:cNvSpPr/>
                      <p:nvPr/>
                    </p:nvSpPr>
                    <p:spPr>
                      <a:xfrm>
                        <a:off x="5842080" y="32781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044" name=""/>
                  <p:cNvSpPr/>
                  <p:nvPr/>
                </p:nvSpPr>
                <p:spPr>
                  <a:xfrm>
                    <a:off x="5932440" y="38638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611496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 flipV="1">
                    <a:off x="6424560" y="39254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642456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6424560" y="58705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6424560" y="48625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0" name=""/>
                <p:cNvSpPr/>
                <p:nvPr/>
              </p:nvSpPr>
              <p:spPr>
                <a:xfrm>
                  <a:off x="588636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1" name=""/>
              <p:cNvGrpSpPr/>
              <p:nvPr/>
            </p:nvGrpSpPr>
            <p:grpSpPr>
              <a:xfrm>
                <a:off x="7464600" y="3278160"/>
                <a:ext cx="1194840" cy="3133800"/>
                <a:chOff x="7464600" y="3278160"/>
                <a:chExt cx="1194840" cy="3133800"/>
              </a:xfrm>
            </p:grpSpPr>
            <p:grpSp>
              <p:nvGrpSpPr>
                <p:cNvPr id="1052" name=""/>
                <p:cNvGrpSpPr/>
                <p:nvPr/>
              </p:nvGrpSpPr>
              <p:grpSpPr>
                <a:xfrm>
                  <a:off x="7464600" y="3278160"/>
                  <a:ext cx="1194840" cy="3133800"/>
                  <a:chOff x="7464600" y="3278160"/>
                  <a:chExt cx="1194840" cy="3133800"/>
                </a:xfrm>
              </p:grpSpPr>
              <p:sp>
                <p:nvSpPr>
                  <p:cNvPr id="1053" name=""/>
                  <p:cNvSpPr/>
                  <p:nvPr/>
                </p:nvSpPr>
                <p:spPr>
                  <a:xfrm flipV="1">
                    <a:off x="7718760" y="39067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54" name=""/>
                  <p:cNvGrpSpPr/>
                  <p:nvPr/>
                </p:nvGrpSpPr>
                <p:grpSpPr>
                  <a:xfrm>
                    <a:off x="7464600" y="3278160"/>
                    <a:ext cx="891720" cy="685440"/>
                    <a:chOff x="7464600" y="3278160"/>
                    <a:chExt cx="891720" cy="685440"/>
                  </a:xfrm>
                </p:grpSpPr>
                <p:sp>
                  <p:nvSpPr>
                    <p:cNvPr id="1055" name=""/>
                    <p:cNvSpPr/>
                    <p:nvPr/>
                  </p:nvSpPr>
                  <p:spPr>
                    <a:xfrm>
                      <a:off x="8034120" y="37450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6" name=""/>
                    <p:cNvSpPr/>
                    <p:nvPr/>
                  </p:nvSpPr>
                  <p:spPr>
                    <a:xfrm>
                      <a:off x="8150040" y="36529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57" name=""/>
                    <p:cNvGrpSpPr/>
                    <p:nvPr/>
                  </p:nvGrpSpPr>
                  <p:grpSpPr>
                    <a:xfrm>
                      <a:off x="7464600" y="3278160"/>
                      <a:ext cx="579600" cy="685440"/>
                      <a:chOff x="7464600" y="3278160"/>
                      <a:chExt cx="579600" cy="685440"/>
                    </a:xfrm>
                  </p:grpSpPr>
                  <p:grpSp>
                    <p:nvGrpSpPr>
                      <p:cNvPr id="1058" name=""/>
                      <p:cNvGrpSpPr/>
                      <p:nvPr/>
                    </p:nvGrpSpPr>
                    <p:grpSpPr>
                      <a:xfrm>
                        <a:off x="7468920" y="3531960"/>
                        <a:ext cx="575280" cy="431640"/>
                        <a:chOff x="7468920" y="3531960"/>
                        <a:chExt cx="575280" cy="431640"/>
                      </a:xfrm>
                    </p:grpSpPr>
                    <p:sp>
                      <p:nvSpPr>
                        <p:cNvPr id="1059" name=""/>
                        <p:cNvSpPr/>
                        <p:nvPr/>
                      </p:nvSpPr>
                      <p:spPr>
                        <a:xfrm flipV="1">
                          <a:off x="7468920" y="36403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0" name=""/>
                        <p:cNvSpPr/>
                        <p:nvPr/>
                      </p:nvSpPr>
                      <p:spPr>
                        <a:xfrm flipV="1">
                          <a:off x="7468920" y="35319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1" name=""/>
                        <p:cNvSpPr/>
                        <p:nvPr/>
                      </p:nvSpPr>
                      <p:spPr>
                        <a:xfrm>
                          <a:off x="7468920" y="38552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2" name=""/>
                        <p:cNvSpPr/>
                        <p:nvPr/>
                      </p:nvSpPr>
                      <p:spPr>
                        <a:xfrm>
                          <a:off x="8044200" y="35323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063" name=""/>
                      <p:cNvSpPr/>
                      <p:nvPr/>
                    </p:nvSpPr>
                    <p:spPr>
                      <a:xfrm>
                        <a:off x="7464600" y="32781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064" name=""/>
                  <p:cNvSpPr/>
                  <p:nvPr/>
                </p:nvSpPr>
                <p:spPr>
                  <a:xfrm>
                    <a:off x="7554960" y="38638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771876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 flipV="1">
                    <a:off x="7894800" y="39254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789480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7894800" y="58705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7894800" y="48625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70" name=""/>
                  <p:cNvGrpSpPr/>
                  <p:nvPr/>
                </p:nvGrpSpPr>
                <p:grpSpPr>
                  <a:xfrm>
                    <a:off x="8163000" y="3962520"/>
                    <a:ext cx="496440" cy="187200"/>
                    <a:chOff x="8163000" y="3962520"/>
                    <a:chExt cx="496440" cy="187200"/>
                  </a:xfrm>
                </p:grpSpPr>
                <p:sp>
                  <p:nvSpPr>
                    <p:cNvPr id="1071" name=""/>
                    <p:cNvSpPr/>
                    <p:nvPr/>
                  </p:nvSpPr>
                  <p:spPr>
                    <a:xfrm>
                      <a:off x="8163000" y="3962520"/>
                      <a:ext cx="208080" cy="18720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260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72" name=""/>
                    <p:cNvGrpSpPr/>
                    <p:nvPr/>
                  </p:nvGrpSpPr>
                  <p:grpSpPr>
                    <a:xfrm>
                      <a:off x="8242200" y="3998880"/>
                      <a:ext cx="417240" cy="117360"/>
                      <a:chOff x="8242200" y="3998880"/>
                      <a:chExt cx="417240" cy="117360"/>
                    </a:xfrm>
                  </p:grpSpPr>
                  <p:sp>
                    <p:nvSpPr>
                      <p:cNvPr id="1073" name=""/>
                      <p:cNvSpPr/>
                      <p:nvPr/>
                    </p:nvSpPr>
                    <p:spPr>
                      <a:xfrm>
                        <a:off x="8242200" y="3998880"/>
                        <a:ext cx="412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4" name=""/>
                      <p:cNvSpPr/>
                      <p:nvPr/>
                    </p:nvSpPr>
                    <p:spPr>
                      <a:xfrm>
                        <a:off x="8246520" y="4002120"/>
                        <a:ext cx="59760" cy="5508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5" name=""/>
                      <p:cNvSpPr/>
                      <p:nvPr/>
                    </p:nvSpPr>
                    <p:spPr>
                      <a:xfrm flipH="1">
                        <a:off x="8246520" y="4061520"/>
                        <a:ext cx="59760" cy="5472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920" bIns="7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6" name=""/>
                      <p:cNvSpPr/>
                      <p:nvPr/>
                    </p:nvSpPr>
                    <p:spPr>
                      <a:xfrm>
                        <a:off x="8246520" y="4116240"/>
                        <a:ext cx="4129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077" name=""/>
                  <p:cNvSpPr/>
                  <p:nvPr/>
                </p:nvSpPr>
                <p:spPr>
                  <a:xfrm flipV="1">
                    <a:off x="8047080" y="3951000"/>
                    <a:ext cx="0" cy="1191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8042400" y="4070520"/>
                    <a:ext cx="1191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"/>
                <p:cNvSpPr/>
                <p:nvPr/>
              </p:nvSpPr>
              <p:spPr>
                <a:xfrm>
                  <a:off x="752148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0" name=""/>
              <p:cNvSpPr/>
              <p:nvPr/>
            </p:nvSpPr>
            <p:spPr>
              <a:xfrm>
                <a:off x="220680" y="1652760"/>
                <a:ext cx="203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00"/>
                    </a:solidFill>
                    <a:latin typeface="Times New Roman"/>
                  </a:rPr>
                  <a:t>Inchidere ecologica depozi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4734000" y="8841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920000" y="15573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3" name=""/>
              <p:cNvGrpSpPr/>
              <p:nvPr/>
            </p:nvGrpSpPr>
            <p:grpSpPr>
              <a:xfrm>
                <a:off x="1494000" y="3332160"/>
                <a:ext cx="671040" cy="882720"/>
                <a:chOff x="1494000" y="3332160"/>
                <a:chExt cx="671040" cy="88272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1852560" y="3744720"/>
                  <a:ext cx="10296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1958760" y="3652560"/>
                  <a:ext cx="206280" cy="190800"/>
                </a:xfrm>
                <a:prstGeom prst="ellipse">
                  <a:avLst/>
                </a:prstGeom>
                <a:solidFill>
                  <a:srgbClr val="ff7c8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86" name=""/>
                <p:cNvGrpSpPr/>
                <p:nvPr/>
              </p:nvGrpSpPr>
              <p:grpSpPr>
                <a:xfrm>
                  <a:off x="1494000" y="3531600"/>
                  <a:ext cx="364680" cy="432000"/>
                  <a:chOff x="1494000" y="3531600"/>
                  <a:chExt cx="364680" cy="432000"/>
                </a:xfrm>
              </p:grpSpPr>
              <p:sp>
                <p:nvSpPr>
                  <p:cNvPr id="1087" name=""/>
                  <p:cNvSpPr/>
                  <p:nvPr/>
                </p:nvSpPr>
                <p:spPr>
                  <a:xfrm flipV="1">
                    <a:off x="1494000" y="3639960"/>
                    <a:ext cx="0" cy="2142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 flipV="1">
                    <a:off x="1494000" y="3531600"/>
                    <a:ext cx="364680" cy="108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1494000" y="3854880"/>
                    <a:ext cx="364680" cy="108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1858680" y="3531960"/>
                    <a:ext cx="0" cy="43164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1" name=""/>
                <p:cNvSpPr/>
                <p:nvPr/>
              </p:nvSpPr>
              <p:spPr>
                <a:xfrm>
                  <a:off x="1494000" y="3332160"/>
                  <a:ext cx="0" cy="3301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1860480" y="3863880"/>
                  <a:ext cx="0" cy="3510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3" name=""/>
              <p:cNvSpPr/>
              <p:nvPr/>
            </p:nvSpPr>
            <p:spPr>
              <a:xfrm>
                <a:off x="1434960" y="361008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4" name=""/>
              <p:cNvGrpSpPr/>
              <p:nvPr/>
            </p:nvGrpSpPr>
            <p:grpSpPr>
              <a:xfrm>
                <a:off x="6789600" y="4805280"/>
                <a:ext cx="752760" cy="975240"/>
                <a:chOff x="6789600" y="4805280"/>
                <a:chExt cx="752760" cy="975240"/>
              </a:xfrm>
            </p:grpSpPr>
            <p:grpSp>
              <p:nvGrpSpPr>
                <p:cNvPr id="1095" name=""/>
                <p:cNvGrpSpPr/>
                <p:nvPr/>
              </p:nvGrpSpPr>
              <p:grpSpPr>
                <a:xfrm>
                  <a:off x="6870600" y="4805280"/>
                  <a:ext cx="671760" cy="975240"/>
                  <a:chOff x="6870600" y="4805280"/>
                  <a:chExt cx="671760" cy="975240"/>
                </a:xfrm>
              </p:grpSpPr>
              <p:sp>
                <p:nvSpPr>
                  <p:cNvPr id="1096" name=""/>
                  <p:cNvSpPr/>
                  <p:nvPr/>
                </p:nvSpPr>
                <p:spPr>
                  <a:xfrm>
                    <a:off x="7229520" y="5261400"/>
                    <a:ext cx="10332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7335720" y="5159160"/>
                    <a:ext cx="206640" cy="2106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98" name=""/>
                  <p:cNvGrpSpPr/>
                  <p:nvPr/>
                </p:nvGrpSpPr>
                <p:grpSpPr>
                  <a:xfrm>
                    <a:off x="6870600" y="5025600"/>
                    <a:ext cx="365040" cy="477360"/>
                    <a:chOff x="6870600" y="5025600"/>
                    <a:chExt cx="365040" cy="477360"/>
                  </a:xfrm>
                </p:grpSpPr>
                <p:sp>
                  <p:nvSpPr>
                    <p:cNvPr id="1099" name=""/>
                    <p:cNvSpPr/>
                    <p:nvPr/>
                  </p:nvSpPr>
                  <p:spPr>
                    <a:xfrm flipV="1">
                      <a:off x="6870600" y="5145840"/>
                      <a:ext cx="0" cy="236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0" name=""/>
                    <p:cNvSpPr/>
                    <p:nvPr/>
                  </p:nvSpPr>
                  <p:spPr>
                    <a:xfrm flipV="1">
                      <a:off x="6870600" y="5025600"/>
                      <a:ext cx="365040" cy="119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1" name=""/>
                    <p:cNvSpPr/>
                    <p:nvPr/>
                  </p:nvSpPr>
                  <p:spPr>
                    <a:xfrm>
                      <a:off x="6870600" y="5383080"/>
                      <a:ext cx="365040" cy="119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2" name=""/>
                    <p:cNvSpPr/>
                    <p:nvPr/>
                  </p:nvSpPr>
                  <p:spPr>
                    <a:xfrm>
                      <a:off x="7235640" y="5025960"/>
                      <a:ext cx="0" cy="47700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3" name=""/>
                  <p:cNvSpPr/>
                  <p:nvPr/>
                </p:nvSpPr>
                <p:spPr>
                  <a:xfrm>
                    <a:off x="6870600" y="4805280"/>
                    <a:ext cx="0" cy="36468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7237440" y="5392800"/>
                    <a:ext cx="0" cy="3877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5" name=""/>
                <p:cNvSpPr/>
                <p:nvPr/>
              </p:nvSpPr>
              <p:spPr>
                <a:xfrm>
                  <a:off x="6789600" y="511236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9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6" name=""/>
              <p:cNvSpPr/>
              <p:nvPr/>
            </p:nvSpPr>
            <p:spPr>
              <a:xfrm flipH="1">
                <a:off x="1193400" y="1301760"/>
                <a:ext cx="16462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7" name=""/>
              <p:cNvGrpSpPr/>
              <p:nvPr/>
            </p:nvGrpSpPr>
            <p:grpSpPr>
              <a:xfrm>
                <a:off x="825480" y="1114560"/>
                <a:ext cx="360360" cy="360360"/>
                <a:chOff x="825480" y="1114560"/>
                <a:chExt cx="360360" cy="36036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898560" y="118764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825480" y="111456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"/>
              <p:cNvSpPr/>
              <p:nvPr/>
            </p:nvSpPr>
            <p:spPr>
              <a:xfrm>
                <a:off x="789120" y="857160"/>
                <a:ext cx="5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85640" y="2413080"/>
                <a:ext cx="935280" cy="32220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90600" y="2695680"/>
                <a:ext cx="168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00"/>
                    </a:solidFill>
                    <a:latin typeface="Times New Roman"/>
                  </a:rPr>
                  <a:t>Depozite noi de cenu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rot="16200000">
                <a:off x="-357120" y="4645080"/>
                <a:ext cx="216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3300"/>
                    </a:solidFill>
                    <a:latin typeface="Times New Roman"/>
                  </a:rPr>
                  <a:t>Consumatorii industriali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239544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273996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flipH="1">
                <a:off x="1496880" y="2373480"/>
                <a:ext cx="91296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7" name=""/>
              <p:cNvGrpSpPr/>
              <p:nvPr/>
            </p:nvGrpSpPr>
            <p:grpSpPr>
              <a:xfrm>
                <a:off x="2398680" y="2532240"/>
                <a:ext cx="531720" cy="414000"/>
                <a:chOff x="2398680" y="2532240"/>
                <a:chExt cx="531720" cy="414000"/>
              </a:xfrm>
            </p:grpSpPr>
            <p:sp>
              <p:nvSpPr>
                <p:cNvPr id="1118" name=""/>
                <p:cNvSpPr/>
                <p:nvPr/>
              </p:nvSpPr>
              <p:spPr>
                <a:xfrm>
                  <a:off x="2398680" y="2532240"/>
                  <a:ext cx="531720" cy="414000"/>
                </a:xfrm>
                <a:prstGeom prst="rect">
                  <a:avLst/>
                </a:prstGeom>
                <a:solidFill>
                  <a:srgbClr val="ff7c8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2414520" y="2563920"/>
                  <a:ext cx="495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Times New Roman"/>
                    </a:rPr>
                    <a:t>C7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0" name=""/>
              <p:cNvGrpSpPr/>
              <p:nvPr/>
            </p:nvGrpSpPr>
            <p:grpSpPr>
              <a:xfrm>
                <a:off x="2463840" y="2944800"/>
                <a:ext cx="412560" cy="393840"/>
                <a:chOff x="2463840" y="2944800"/>
                <a:chExt cx="412560" cy="393840"/>
              </a:xfrm>
            </p:grpSpPr>
            <p:sp>
              <p:nvSpPr>
                <p:cNvPr id="1121" name=""/>
                <p:cNvSpPr/>
                <p:nvPr/>
              </p:nvSpPr>
              <p:spPr>
                <a:xfrm>
                  <a:off x="2668320" y="2944800"/>
                  <a:ext cx="0" cy="1177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 flipH="1">
                  <a:off x="2466720" y="3052800"/>
                  <a:ext cx="204480" cy="954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2463840" y="3148200"/>
                  <a:ext cx="4125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 flipH="1">
                  <a:off x="2662200" y="3148200"/>
                  <a:ext cx="207360" cy="936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2671560" y="3232080"/>
                  <a:ext cx="0" cy="1065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6" name=""/>
              <p:cNvGrpSpPr/>
              <p:nvPr/>
            </p:nvGrpSpPr>
            <p:grpSpPr>
              <a:xfrm>
                <a:off x="2124000" y="2351160"/>
                <a:ext cx="264960" cy="360360"/>
                <a:chOff x="2124000" y="2351160"/>
                <a:chExt cx="264960" cy="360360"/>
              </a:xfrm>
            </p:grpSpPr>
            <p:sp>
              <p:nvSpPr>
                <p:cNvPr id="1127" name=""/>
                <p:cNvSpPr/>
                <p:nvPr/>
              </p:nvSpPr>
              <p:spPr>
                <a:xfrm>
                  <a:off x="2130120" y="23511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 flipH="1">
                  <a:off x="2124000" y="27115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9" name=""/>
              <p:cNvSpPr/>
              <p:nvPr/>
            </p:nvSpPr>
            <p:spPr>
              <a:xfrm flipH="1">
                <a:off x="2558880" y="2363760"/>
                <a:ext cx="21600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flipH="1">
                <a:off x="2919240" y="2373480"/>
                <a:ext cx="93528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flipH="1">
                <a:off x="3998880" y="2373480"/>
                <a:ext cx="21600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flipH="1">
                <a:off x="4359240" y="2373480"/>
                <a:ext cx="94464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"/>
              <p:cNvGrpSpPr/>
              <p:nvPr/>
            </p:nvGrpSpPr>
            <p:grpSpPr>
              <a:xfrm>
                <a:off x="3325680" y="6308640"/>
                <a:ext cx="258840" cy="258840"/>
                <a:chOff x="3325680" y="6308640"/>
                <a:chExt cx="258840" cy="258840"/>
              </a:xfrm>
            </p:grpSpPr>
            <p:sp>
              <p:nvSpPr>
                <p:cNvPr id="1134" name=""/>
                <p:cNvSpPr/>
                <p:nvPr/>
              </p:nvSpPr>
              <p:spPr>
                <a:xfrm>
                  <a:off x="3325680" y="6308640"/>
                  <a:ext cx="258840" cy="258840"/>
                </a:xfrm>
                <a:prstGeom prst="ellipse">
                  <a:avLst/>
                </a:prstGeom>
                <a:solidFill>
                  <a:srgbClr val="ff7c80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 flipH="1">
                  <a:off x="3373560" y="6439680"/>
                  <a:ext cx="15624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6" name=""/>
              <p:cNvGrpSpPr/>
              <p:nvPr/>
            </p:nvGrpSpPr>
            <p:grpSpPr>
              <a:xfrm>
                <a:off x="3859200" y="2532240"/>
                <a:ext cx="531720" cy="414000"/>
                <a:chOff x="3859200" y="2532240"/>
                <a:chExt cx="531720" cy="414000"/>
              </a:xfrm>
            </p:grpSpPr>
            <p:sp>
              <p:nvSpPr>
                <p:cNvPr id="1137" name=""/>
                <p:cNvSpPr/>
                <p:nvPr/>
              </p:nvSpPr>
              <p:spPr>
                <a:xfrm>
                  <a:off x="3859200" y="2532240"/>
                  <a:ext cx="531720" cy="414000"/>
                </a:xfrm>
                <a:prstGeom prst="rect">
                  <a:avLst/>
                </a:prstGeom>
                <a:solidFill>
                  <a:srgbClr val="ff7c8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3875040" y="2563920"/>
                  <a:ext cx="495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Times New Roman"/>
                    </a:rPr>
                    <a:t>C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9" name=""/>
              <p:cNvGrpSpPr/>
              <p:nvPr/>
            </p:nvGrpSpPr>
            <p:grpSpPr>
              <a:xfrm>
                <a:off x="3924360" y="2944800"/>
                <a:ext cx="412560" cy="393840"/>
                <a:chOff x="3924360" y="2944800"/>
                <a:chExt cx="412560" cy="393840"/>
              </a:xfrm>
            </p:grpSpPr>
            <p:sp>
              <p:nvSpPr>
                <p:cNvPr id="1140" name=""/>
                <p:cNvSpPr/>
                <p:nvPr/>
              </p:nvSpPr>
              <p:spPr>
                <a:xfrm>
                  <a:off x="4128840" y="2944800"/>
                  <a:ext cx="0" cy="1177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 flipH="1">
                  <a:off x="3927240" y="3052800"/>
                  <a:ext cx="204480" cy="954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3924360" y="3148200"/>
                  <a:ext cx="4125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 flipH="1">
                  <a:off x="4122720" y="3148200"/>
                  <a:ext cx="207360" cy="936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4132080" y="3232080"/>
                  <a:ext cx="0" cy="1065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3584520" y="2351160"/>
                <a:ext cx="264960" cy="360360"/>
                <a:chOff x="3584520" y="2351160"/>
                <a:chExt cx="264960" cy="36036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3590640" y="23511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 flipH="1">
                  <a:off x="3584520" y="27115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8" name=""/>
              <p:cNvSpPr/>
              <p:nvPr/>
            </p:nvSpPr>
            <p:spPr>
              <a:xfrm>
                <a:off x="698400" y="2009880"/>
                <a:ext cx="505080" cy="187200"/>
              </a:xfrm>
              <a:prstGeom prst="line">
                <a:avLst/>
              </a:prstGeom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V="1">
                <a:off x="695160" y="2009880"/>
                <a:ext cx="505080" cy="187200"/>
              </a:xfrm>
              <a:prstGeom prst="line">
                <a:avLst/>
              </a:prstGeom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flipV="1">
                <a:off x="2932200" y="3906720"/>
                <a:ext cx="0" cy="2700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1" name=""/>
              <p:cNvGrpSpPr/>
              <p:nvPr/>
            </p:nvGrpSpPr>
            <p:grpSpPr>
              <a:xfrm>
                <a:off x="2678040" y="3278160"/>
                <a:ext cx="891720" cy="685440"/>
                <a:chOff x="2678040" y="3278160"/>
                <a:chExt cx="891720" cy="68544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3247560" y="3745080"/>
                  <a:ext cx="10296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3363480" y="3652920"/>
                  <a:ext cx="206280" cy="190440"/>
                </a:xfrm>
                <a:prstGeom prst="ellipse">
                  <a:avLst/>
                </a:prstGeom>
                <a:solidFill>
                  <a:srgbClr val="ffcc99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54" name=""/>
                <p:cNvGrpSpPr/>
                <p:nvPr/>
              </p:nvGrpSpPr>
              <p:grpSpPr>
                <a:xfrm>
                  <a:off x="2678040" y="3278160"/>
                  <a:ext cx="579600" cy="685440"/>
                  <a:chOff x="2678040" y="3278160"/>
                  <a:chExt cx="579600" cy="685440"/>
                </a:xfrm>
              </p:grpSpPr>
              <p:grpSp>
                <p:nvGrpSpPr>
                  <p:cNvPr id="1155" name=""/>
                  <p:cNvGrpSpPr/>
                  <p:nvPr/>
                </p:nvGrpSpPr>
                <p:grpSpPr>
                  <a:xfrm>
                    <a:off x="2682360" y="3531960"/>
                    <a:ext cx="575280" cy="431640"/>
                    <a:chOff x="2682360" y="3531960"/>
                    <a:chExt cx="575280" cy="431640"/>
                  </a:xfrm>
                </p:grpSpPr>
                <p:sp>
                  <p:nvSpPr>
                    <p:cNvPr id="1156" name=""/>
                    <p:cNvSpPr/>
                    <p:nvPr/>
                  </p:nvSpPr>
                  <p:spPr>
                    <a:xfrm flipV="1">
                      <a:off x="2682360" y="3640320"/>
                      <a:ext cx="0" cy="214200"/>
                    </a:xfrm>
                    <a:prstGeom prst="line">
                      <a:avLst/>
                    </a:prstGeom>
                    <a:ln w="1908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7" name=""/>
                    <p:cNvSpPr/>
                    <p:nvPr/>
                  </p:nvSpPr>
                  <p:spPr>
                    <a:xfrm flipV="1">
                      <a:off x="2682360" y="3531960"/>
                      <a:ext cx="575280" cy="108360"/>
                    </a:xfrm>
                    <a:prstGeom prst="line">
                      <a:avLst/>
                    </a:prstGeom>
                    <a:ln w="1908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8" name=""/>
                    <p:cNvSpPr/>
                    <p:nvPr/>
                  </p:nvSpPr>
                  <p:spPr>
                    <a:xfrm>
                      <a:off x="2682360" y="3855240"/>
                      <a:ext cx="575280" cy="108360"/>
                    </a:xfrm>
                    <a:prstGeom prst="line">
                      <a:avLst/>
                    </a:prstGeom>
                    <a:ln w="1908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9" name=""/>
                    <p:cNvSpPr/>
                    <p:nvPr/>
                  </p:nvSpPr>
                  <p:spPr>
                    <a:xfrm>
                      <a:off x="3257640" y="3532320"/>
                      <a:ext cx="0" cy="431280"/>
                    </a:xfrm>
                    <a:prstGeom prst="line">
                      <a:avLst/>
                    </a:prstGeom>
                    <a:ln w="1908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0" name=""/>
                  <p:cNvSpPr/>
                  <p:nvPr/>
                </p:nvSpPr>
                <p:spPr>
                  <a:xfrm>
                    <a:off x="2678040" y="3278160"/>
                    <a:ext cx="0" cy="38412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61" name=""/>
              <p:cNvSpPr/>
              <p:nvPr/>
            </p:nvSpPr>
            <p:spPr>
              <a:xfrm>
                <a:off x="2932200" y="4321080"/>
                <a:ext cx="0" cy="39708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"/>
              <p:cNvGrpSpPr/>
              <p:nvPr/>
            </p:nvGrpSpPr>
            <p:grpSpPr>
              <a:xfrm>
                <a:off x="3376440" y="3962520"/>
                <a:ext cx="496440" cy="187200"/>
                <a:chOff x="3376440" y="3962520"/>
                <a:chExt cx="496440" cy="187200"/>
              </a:xfrm>
            </p:grpSpPr>
            <p:sp>
              <p:nvSpPr>
                <p:cNvPr id="1163" name=""/>
                <p:cNvSpPr/>
                <p:nvPr/>
              </p:nvSpPr>
              <p:spPr>
                <a:xfrm>
                  <a:off x="3376440" y="3962520"/>
                  <a:ext cx="208080" cy="187200"/>
                </a:xfrm>
                <a:prstGeom prst="ellipse">
                  <a:avLst/>
                </a:prstGeom>
                <a:solidFill>
                  <a:srgbClr val="ffcc99"/>
                </a:solidFill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64" name=""/>
                <p:cNvGrpSpPr/>
                <p:nvPr/>
              </p:nvGrpSpPr>
              <p:grpSpPr>
                <a:xfrm>
                  <a:off x="3455640" y="3998880"/>
                  <a:ext cx="417240" cy="117360"/>
                  <a:chOff x="3455640" y="3998880"/>
                  <a:chExt cx="417240" cy="117360"/>
                </a:xfrm>
              </p:grpSpPr>
              <p:sp>
                <p:nvSpPr>
                  <p:cNvPr id="1165" name=""/>
                  <p:cNvSpPr/>
                  <p:nvPr/>
                </p:nvSpPr>
                <p:spPr>
                  <a:xfrm>
                    <a:off x="3455640" y="3998880"/>
                    <a:ext cx="412920" cy="0"/>
                  </a:xfrm>
                  <a:prstGeom prst="line">
                    <a:avLst/>
                  </a:prstGeom>
                  <a:ln w="93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3459960" y="4002120"/>
                    <a:ext cx="59760" cy="55080"/>
                  </a:xfrm>
                  <a:prstGeom prst="line">
                    <a:avLst/>
                  </a:prstGeom>
                  <a:ln w="93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 flipH="1">
                    <a:off x="3459960" y="4061520"/>
                    <a:ext cx="59760" cy="54720"/>
                  </a:xfrm>
                  <a:prstGeom prst="line">
                    <a:avLst/>
                  </a:prstGeom>
                  <a:ln w="93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3459960" y="4116240"/>
                    <a:ext cx="412920" cy="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69" name=""/>
              <p:cNvSpPr/>
              <p:nvPr/>
            </p:nvSpPr>
            <p:spPr>
              <a:xfrm flipV="1">
                <a:off x="3260880" y="3951000"/>
                <a:ext cx="0" cy="1191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255840" y="4070520"/>
                <a:ext cx="11916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2735280" y="361008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2" name=""/>
              <p:cNvGrpSpPr/>
              <p:nvPr/>
            </p:nvGrpSpPr>
            <p:grpSpPr>
              <a:xfrm>
                <a:off x="7448040" y="543960"/>
                <a:ext cx="3187800" cy="1388160"/>
                <a:chOff x="7448040" y="543960"/>
                <a:chExt cx="3187800" cy="1388160"/>
              </a:xfrm>
            </p:grpSpPr>
            <p:sp>
              <p:nvSpPr>
                <p:cNvPr id="1173" name=""/>
                <p:cNvSpPr/>
                <p:nvPr/>
              </p:nvSpPr>
              <p:spPr>
                <a:xfrm flipV="1">
                  <a:off x="7448040" y="543600"/>
                  <a:ext cx="1461240" cy="1388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389" y="3116"/>
                      </a:moveTo>
                      <a:arcTo wR="10800" hR="10800" stAng="-2721549" swAng="365036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389" y="3116"/>
                      </a:moveTo>
                      <a:arcTo wR="10800" hR="10800" stAng="-2721549" swAng="3650365"/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 flipH="1" flipV="1">
                  <a:off x="9174240" y="543960"/>
                  <a:ext cx="1461240" cy="1388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389" y="3116"/>
                      </a:moveTo>
                      <a:arcTo wR="10800" hR="10800" stAng="-2721549" swAng="365036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389" y="3116"/>
                      </a:moveTo>
                      <a:arcTo wR="10800" hR="10800" stAng="-2721549" swAng="3650365"/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8868960" y="1052640"/>
                  <a:ext cx="34524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8696520" y="1729440"/>
                  <a:ext cx="69012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7" name=""/>
              <p:cNvSpPr/>
              <p:nvPr/>
            </p:nvSpPr>
            <p:spPr>
              <a:xfrm>
                <a:off x="8193240" y="750960"/>
                <a:ext cx="158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Times New Roman"/>
                  </a:rPr>
                  <a:t>Instalatie de racir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8" name=""/>
          <p:cNvSpPr/>
          <p:nvPr/>
        </p:nvSpPr>
        <p:spPr>
          <a:xfrm>
            <a:off x="4592520" y="2943360"/>
            <a:ext cx="432000" cy="142920"/>
          </a:xfrm>
          <a:prstGeom prst="line">
            <a:avLst/>
          </a:prstGeom>
          <a:ln w="316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3513240" y="2440080"/>
            <a:ext cx="1295280" cy="6476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1639800" y="2060640"/>
            <a:ext cx="432000" cy="142920"/>
          </a:xfrm>
          <a:prstGeom prst="line">
            <a:avLst/>
          </a:prstGeom>
          <a:ln w="3168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30040" y="1785960"/>
            <a:ext cx="1584360" cy="576360"/>
          </a:xfrm>
          <a:prstGeom prst="ellipse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8326440" y="981000"/>
            <a:ext cx="1511280" cy="9352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7977240" y="1197000"/>
            <a:ext cx="431640" cy="142920"/>
          </a:xfrm>
          <a:prstGeom prst="line">
            <a:avLst/>
          </a:prstGeom>
          <a:ln w="316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flipH="1" flipV="1">
            <a:off x="2207880" y="3933360"/>
            <a:ext cx="431640" cy="142920"/>
          </a:xfrm>
          <a:prstGeom prst="line">
            <a:avLst/>
          </a:prstGeom>
          <a:ln w="316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2505240" y="3433680"/>
            <a:ext cx="1439640" cy="9367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6" name=""/>
          <p:cNvGrpSpPr/>
          <p:nvPr/>
        </p:nvGrpSpPr>
        <p:grpSpPr>
          <a:xfrm>
            <a:off x="220680" y="166680"/>
            <a:ext cx="10415160" cy="6411600"/>
            <a:chOff x="220680" y="166680"/>
            <a:chExt cx="10415160" cy="6411600"/>
          </a:xfrm>
        </p:grpSpPr>
        <p:sp>
          <p:nvSpPr>
            <p:cNvPr id="1187" name=""/>
            <p:cNvSpPr/>
            <p:nvPr/>
          </p:nvSpPr>
          <p:spPr>
            <a:xfrm>
              <a:off x="272880" y="166680"/>
              <a:ext cx="9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Times New Roman"/>
                </a:rPr>
                <a:t>SCHEMA TEHNOLOGICA LA SFARSITUL ANULUI 20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8" name=""/>
            <p:cNvGrpSpPr/>
            <p:nvPr/>
          </p:nvGrpSpPr>
          <p:grpSpPr>
            <a:xfrm>
              <a:off x="220680" y="543960"/>
              <a:ext cx="10415160" cy="6034320"/>
              <a:chOff x="220680" y="543960"/>
              <a:chExt cx="10415160" cy="6034320"/>
            </a:xfrm>
          </p:grpSpPr>
          <p:sp>
            <p:nvSpPr>
              <p:cNvPr id="1189" name=""/>
              <p:cNvSpPr/>
              <p:nvPr/>
            </p:nvSpPr>
            <p:spPr>
              <a:xfrm>
                <a:off x="1204920" y="3359160"/>
                <a:ext cx="81201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249876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284328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249876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284328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4" name=""/>
              <p:cNvGrpSpPr/>
              <p:nvPr/>
            </p:nvGrpSpPr>
            <p:grpSpPr>
              <a:xfrm>
                <a:off x="2387520" y="1482840"/>
                <a:ext cx="216000" cy="215640"/>
                <a:chOff x="2387520" y="1482840"/>
                <a:chExt cx="216000" cy="215640"/>
              </a:xfrm>
            </p:grpSpPr>
            <p:sp>
              <p:nvSpPr>
                <p:cNvPr id="1195" name=""/>
                <p:cNvSpPr/>
                <p:nvPr/>
              </p:nvSpPr>
              <p:spPr>
                <a:xfrm>
                  <a:off x="238752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 flipH="1">
                  <a:off x="243324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253188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8" name=""/>
              <p:cNvGrpSpPr/>
              <p:nvPr/>
            </p:nvGrpSpPr>
            <p:grpSpPr>
              <a:xfrm>
                <a:off x="2732040" y="1482840"/>
                <a:ext cx="216000" cy="215640"/>
                <a:chOff x="2732040" y="1482840"/>
                <a:chExt cx="216000" cy="215640"/>
              </a:xfrm>
            </p:grpSpPr>
            <p:sp>
              <p:nvSpPr>
                <p:cNvPr id="1199" name=""/>
                <p:cNvSpPr/>
                <p:nvPr/>
              </p:nvSpPr>
              <p:spPr>
                <a:xfrm>
                  <a:off x="273204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 flipH="1">
                  <a:off x="277776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287640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2" name=""/>
              <p:cNvSpPr/>
              <p:nvPr/>
            </p:nvSpPr>
            <p:spPr>
              <a:xfrm>
                <a:off x="249876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84328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4" name=""/>
              <p:cNvGrpSpPr/>
              <p:nvPr/>
            </p:nvGrpSpPr>
            <p:grpSpPr>
              <a:xfrm>
                <a:off x="3840120" y="1320840"/>
                <a:ext cx="560520" cy="1217520"/>
                <a:chOff x="3840120" y="1320840"/>
                <a:chExt cx="560520" cy="1217520"/>
              </a:xfrm>
            </p:grpSpPr>
            <p:sp>
              <p:nvSpPr>
                <p:cNvPr id="1205" name=""/>
                <p:cNvSpPr/>
                <p:nvPr/>
              </p:nvSpPr>
              <p:spPr>
                <a:xfrm>
                  <a:off x="3840120" y="1866960"/>
                  <a:ext cx="216000" cy="271440"/>
                </a:xfrm>
                <a:prstGeom prst="rect">
                  <a:avLst/>
                </a:prstGeom>
                <a:solidFill>
                  <a:srgbClr val="ccffcc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3951360" y="21351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4184640" y="1866960"/>
                  <a:ext cx="216000" cy="271440"/>
                </a:xfrm>
                <a:prstGeom prst="rect">
                  <a:avLst/>
                </a:prstGeom>
                <a:solidFill>
                  <a:srgbClr val="ccffcc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4295880" y="21351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3951360" y="170352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4295880" y="170352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1" name=""/>
                <p:cNvGrpSpPr/>
                <p:nvPr/>
              </p:nvGrpSpPr>
              <p:grpSpPr>
                <a:xfrm>
                  <a:off x="3840120" y="1482840"/>
                  <a:ext cx="216000" cy="215640"/>
                  <a:chOff x="3840120" y="1482840"/>
                  <a:chExt cx="216000" cy="21564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3840120" y="14828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 flipH="1">
                    <a:off x="3885840" y="15397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3984480" y="15397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5" name=""/>
                <p:cNvGrpSpPr/>
                <p:nvPr/>
              </p:nvGrpSpPr>
              <p:grpSpPr>
                <a:xfrm>
                  <a:off x="4184640" y="1482840"/>
                  <a:ext cx="216000" cy="215640"/>
                  <a:chOff x="4184640" y="1482840"/>
                  <a:chExt cx="216000" cy="215640"/>
                </a:xfrm>
              </p:grpSpPr>
              <p:sp>
                <p:nvSpPr>
                  <p:cNvPr id="1216" name=""/>
                  <p:cNvSpPr/>
                  <p:nvPr/>
                </p:nvSpPr>
                <p:spPr>
                  <a:xfrm>
                    <a:off x="4184640" y="14828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 flipH="1">
                    <a:off x="4230360" y="15397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4329000" y="15397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19" name=""/>
                <p:cNvSpPr/>
                <p:nvPr/>
              </p:nvSpPr>
              <p:spPr>
                <a:xfrm>
                  <a:off x="3951360" y="13208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4295880" y="13208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1" name=""/>
              <p:cNvGrpSpPr/>
              <p:nvPr/>
            </p:nvGrpSpPr>
            <p:grpSpPr>
              <a:xfrm>
                <a:off x="5292720" y="2351160"/>
                <a:ext cx="264960" cy="360360"/>
                <a:chOff x="5292720" y="2351160"/>
                <a:chExt cx="264960" cy="360360"/>
              </a:xfrm>
            </p:grpSpPr>
            <p:sp>
              <p:nvSpPr>
                <p:cNvPr id="1222" name=""/>
                <p:cNvSpPr/>
                <p:nvPr/>
              </p:nvSpPr>
              <p:spPr>
                <a:xfrm>
                  <a:off x="5298840" y="23511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 flipH="1">
                  <a:off x="5292720" y="27115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4" name=""/>
              <p:cNvGrpSpPr/>
              <p:nvPr/>
            </p:nvGrpSpPr>
            <p:grpSpPr>
              <a:xfrm>
                <a:off x="4802040" y="1141560"/>
                <a:ext cx="360360" cy="360360"/>
                <a:chOff x="4802040" y="1141560"/>
                <a:chExt cx="360360" cy="360360"/>
              </a:xfrm>
            </p:grpSpPr>
            <p:sp>
              <p:nvSpPr>
                <p:cNvPr id="1225" name=""/>
                <p:cNvSpPr/>
                <p:nvPr/>
              </p:nvSpPr>
              <p:spPr>
                <a:xfrm>
                  <a:off x="4875120" y="121464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4802040" y="114156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7" name=""/>
              <p:cNvSpPr/>
              <p:nvPr/>
            </p:nvSpPr>
            <p:spPr>
              <a:xfrm>
                <a:off x="3943440" y="1328760"/>
                <a:ext cx="826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 flipH="1">
                <a:off x="5195520" y="1328760"/>
                <a:ext cx="826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9" name=""/>
              <p:cNvGrpSpPr/>
              <p:nvPr/>
            </p:nvGrpSpPr>
            <p:grpSpPr>
              <a:xfrm>
                <a:off x="7196040" y="2532240"/>
                <a:ext cx="531360" cy="805680"/>
                <a:chOff x="7196040" y="2532240"/>
                <a:chExt cx="531360" cy="805680"/>
              </a:xfrm>
            </p:grpSpPr>
            <p:grpSp>
              <p:nvGrpSpPr>
                <p:cNvPr id="1230" name=""/>
                <p:cNvGrpSpPr/>
                <p:nvPr/>
              </p:nvGrpSpPr>
              <p:grpSpPr>
                <a:xfrm>
                  <a:off x="7196040" y="2532240"/>
                  <a:ext cx="531360" cy="414000"/>
                  <a:chOff x="7196040" y="2532240"/>
                  <a:chExt cx="531360" cy="414000"/>
                </a:xfrm>
              </p:grpSpPr>
              <p:sp>
                <p:nvSpPr>
                  <p:cNvPr id="1231" name=""/>
                  <p:cNvSpPr/>
                  <p:nvPr/>
                </p:nvSpPr>
                <p:spPr>
                  <a:xfrm>
                    <a:off x="7196040" y="253224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7215120" y="256356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3" name=""/>
                <p:cNvGrpSpPr/>
                <p:nvPr/>
              </p:nvGrpSpPr>
              <p:grpSpPr>
                <a:xfrm>
                  <a:off x="7261200" y="2944800"/>
                  <a:ext cx="412560" cy="393120"/>
                  <a:chOff x="7261200" y="2944800"/>
                  <a:chExt cx="412560" cy="393120"/>
                </a:xfrm>
              </p:grpSpPr>
              <p:sp>
                <p:nvSpPr>
                  <p:cNvPr id="1234" name=""/>
                  <p:cNvSpPr/>
                  <p:nvPr/>
                </p:nvSpPr>
                <p:spPr>
                  <a:xfrm>
                    <a:off x="7465680" y="294480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 flipH="1">
                    <a:off x="7264080" y="305244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7261200" y="314784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 flipH="1">
                    <a:off x="7459560" y="314784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7468920" y="323172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39" name=""/>
              <p:cNvGrpSpPr/>
              <p:nvPr/>
            </p:nvGrpSpPr>
            <p:grpSpPr>
              <a:xfrm>
                <a:off x="8007480" y="1789200"/>
                <a:ext cx="360360" cy="360360"/>
                <a:chOff x="8007480" y="1789200"/>
                <a:chExt cx="360360" cy="360360"/>
              </a:xfrm>
            </p:grpSpPr>
            <p:sp>
              <p:nvSpPr>
                <p:cNvPr id="1240" name=""/>
                <p:cNvSpPr/>
                <p:nvPr/>
              </p:nvSpPr>
              <p:spPr>
                <a:xfrm>
                  <a:off x="8080560" y="186228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8007480" y="178920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2" name=""/>
              <p:cNvSpPr/>
              <p:nvPr/>
            </p:nvSpPr>
            <p:spPr>
              <a:xfrm>
                <a:off x="7454880" y="1971720"/>
                <a:ext cx="460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445520" y="1943280"/>
                <a:ext cx="0" cy="5760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988920" y="4254480"/>
                <a:ext cx="8785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917640" y="4791240"/>
                <a:ext cx="88567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33640" y="3095640"/>
                <a:ext cx="720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140 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1147680" y="399888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35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1147680" y="454032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13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988920" y="5797440"/>
                <a:ext cx="8785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1147680" y="55389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6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302000" y="6446880"/>
                <a:ext cx="54723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988920" y="6446880"/>
                <a:ext cx="2952720" cy="0"/>
              </a:xfrm>
              <a:prstGeom prst="line">
                <a:avLst/>
              </a:prstGeom>
              <a:ln w="50760">
                <a:solidFill>
                  <a:srgbClr val="9933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3" name=""/>
              <p:cNvGrpSpPr/>
              <p:nvPr/>
            </p:nvGrpSpPr>
            <p:grpSpPr>
              <a:xfrm>
                <a:off x="3944520" y="6308640"/>
                <a:ext cx="359280" cy="269640"/>
                <a:chOff x="3944520" y="6308640"/>
                <a:chExt cx="359280" cy="269640"/>
              </a:xfrm>
            </p:grpSpPr>
            <p:sp>
              <p:nvSpPr>
                <p:cNvPr id="1254" name=""/>
                <p:cNvSpPr/>
                <p:nvPr/>
              </p:nvSpPr>
              <p:spPr>
                <a:xfrm>
                  <a:off x="3944880" y="6308640"/>
                  <a:ext cx="358920" cy="269640"/>
                </a:xfrm>
                <a:prstGeom prst="rect">
                  <a:avLst/>
                </a:prstGeom>
                <a:solidFill>
                  <a:srgbClr val="ff7c80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 flipH="1">
                  <a:off x="3944520" y="6308640"/>
                  <a:ext cx="358920" cy="26496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6" name=""/>
              <p:cNvSpPr/>
              <p:nvPr/>
            </p:nvSpPr>
            <p:spPr>
              <a:xfrm>
                <a:off x="1147680" y="6159600"/>
                <a:ext cx="1513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ermoficare urba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485640" y="1957320"/>
                <a:ext cx="935280" cy="32220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8" name=""/>
              <p:cNvGrpSpPr/>
              <p:nvPr/>
            </p:nvGrpSpPr>
            <p:grpSpPr>
              <a:xfrm>
                <a:off x="4129200" y="3278160"/>
                <a:ext cx="891720" cy="3133800"/>
                <a:chOff x="4129200" y="3278160"/>
                <a:chExt cx="891720" cy="3133800"/>
              </a:xfrm>
            </p:grpSpPr>
            <p:grpSp>
              <p:nvGrpSpPr>
                <p:cNvPr id="1259" name=""/>
                <p:cNvGrpSpPr/>
                <p:nvPr/>
              </p:nvGrpSpPr>
              <p:grpSpPr>
                <a:xfrm>
                  <a:off x="4129200" y="3278160"/>
                  <a:ext cx="891720" cy="3133800"/>
                  <a:chOff x="4129200" y="3278160"/>
                  <a:chExt cx="891720" cy="3133800"/>
                </a:xfrm>
              </p:grpSpPr>
              <p:sp>
                <p:nvSpPr>
                  <p:cNvPr id="1260" name=""/>
                  <p:cNvSpPr/>
                  <p:nvPr/>
                </p:nvSpPr>
                <p:spPr>
                  <a:xfrm flipV="1">
                    <a:off x="4402080" y="39067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61" name=""/>
                  <p:cNvGrpSpPr/>
                  <p:nvPr/>
                </p:nvGrpSpPr>
                <p:grpSpPr>
                  <a:xfrm>
                    <a:off x="4129200" y="3278160"/>
                    <a:ext cx="891720" cy="685440"/>
                    <a:chOff x="4129200" y="3278160"/>
                    <a:chExt cx="891720" cy="685440"/>
                  </a:xfrm>
                </p:grpSpPr>
                <p:sp>
                  <p:nvSpPr>
                    <p:cNvPr id="1262" name=""/>
                    <p:cNvSpPr/>
                    <p:nvPr/>
                  </p:nvSpPr>
                  <p:spPr>
                    <a:xfrm>
                      <a:off x="4698720" y="37450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3" name=""/>
                    <p:cNvSpPr/>
                    <p:nvPr/>
                  </p:nvSpPr>
                  <p:spPr>
                    <a:xfrm>
                      <a:off x="4814640" y="36529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64" name=""/>
                    <p:cNvGrpSpPr/>
                    <p:nvPr/>
                  </p:nvGrpSpPr>
                  <p:grpSpPr>
                    <a:xfrm>
                      <a:off x="4129200" y="3278160"/>
                      <a:ext cx="579600" cy="685440"/>
                      <a:chOff x="4129200" y="3278160"/>
                      <a:chExt cx="579600" cy="685440"/>
                    </a:xfrm>
                  </p:grpSpPr>
                  <p:grpSp>
                    <p:nvGrpSpPr>
                      <p:cNvPr id="1265" name=""/>
                      <p:cNvGrpSpPr/>
                      <p:nvPr/>
                    </p:nvGrpSpPr>
                    <p:grpSpPr>
                      <a:xfrm>
                        <a:off x="4133520" y="3531960"/>
                        <a:ext cx="575280" cy="431640"/>
                        <a:chOff x="4133520" y="3531960"/>
                        <a:chExt cx="575280" cy="431640"/>
                      </a:xfrm>
                    </p:grpSpPr>
                    <p:sp>
                      <p:nvSpPr>
                        <p:cNvPr id="1266" name=""/>
                        <p:cNvSpPr/>
                        <p:nvPr/>
                      </p:nvSpPr>
                      <p:spPr>
                        <a:xfrm flipV="1">
                          <a:off x="4133520" y="36403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7" name=""/>
                        <p:cNvSpPr/>
                        <p:nvPr/>
                      </p:nvSpPr>
                      <p:spPr>
                        <a:xfrm flipV="1">
                          <a:off x="4133520" y="35319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8" name=""/>
                        <p:cNvSpPr/>
                        <p:nvPr/>
                      </p:nvSpPr>
                      <p:spPr>
                        <a:xfrm>
                          <a:off x="4133520" y="38552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9" name=""/>
                        <p:cNvSpPr/>
                        <p:nvPr/>
                      </p:nvSpPr>
                      <p:spPr>
                        <a:xfrm>
                          <a:off x="4708800" y="35323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270" name=""/>
                      <p:cNvSpPr/>
                      <p:nvPr/>
                    </p:nvSpPr>
                    <p:spPr>
                      <a:xfrm>
                        <a:off x="4129200" y="32781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271" name=""/>
                  <p:cNvSpPr/>
                  <p:nvPr/>
                </p:nvSpPr>
                <p:spPr>
                  <a:xfrm>
                    <a:off x="4219560" y="38638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2" name=""/>
                  <p:cNvSpPr/>
                  <p:nvPr/>
                </p:nvSpPr>
                <p:spPr>
                  <a:xfrm>
                    <a:off x="440208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"/>
                  <p:cNvSpPr/>
                  <p:nvPr/>
                </p:nvSpPr>
                <p:spPr>
                  <a:xfrm flipV="1">
                    <a:off x="4711680" y="39254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"/>
                  <p:cNvSpPr/>
                  <p:nvPr/>
                </p:nvSpPr>
                <p:spPr>
                  <a:xfrm>
                    <a:off x="471168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" name=""/>
                  <p:cNvSpPr/>
                  <p:nvPr/>
                </p:nvSpPr>
                <p:spPr>
                  <a:xfrm>
                    <a:off x="4711680" y="58705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"/>
                  <p:cNvSpPr/>
                  <p:nvPr/>
                </p:nvSpPr>
                <p:spPr>
                  <a:xfrm>
                    <a:off x="4711680" y="48625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7" name=""/>
                <p:cNvSpPr/>
                <p:nvPr/>
              </p:nvSpPr>
              <p:spPr>
                <a:xfrm>
                  <a:off x="416736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8" name=""/>
              <p:cNvGrpSpPr/>
              <p:nvPr/>
            </p:nvGrpSpPr>
            <p:grpSpPr>
              <a:xfrm>
                <a:off x="5842080" y="3278160"/>
                <a:ext cx="891720" cy="3133800"/>
                <a:chOff x="5842080" y="3278160"/>
                <a:chExt cx="891720" cy="3133800"/>
              </a:xfrm>
            </p:grpSpPr>
            <p:grpSp>
              <p:nvGrpSpPr>
                <p:cNvPr id="1279" name=""/>
                <p:cNvGrpSpPr/>
                <p:nvPr/>
              </p:nvGrpSpPr>
              <p:grpSpPr>
                <a:xfrm>
                  <a:off x="5842080" y="3278160"/>
                  <a:ext cx="891720" cy="3133800"/>
                  <a:chOff x="5842080" y="3278160"/>
                  <a:chExt cx="891720" cy="3133800"/>
                </a:xfrm>
              </p:grpSpPr>
              <p:sp>
                <p:nvSpPr>
                  <p:cNvPr id="1280" name=""/>
                  <p:cNvSpPr/>
                  <p:nvPr/>
                </p:nvSpPr>
                <p:spPr>
                  <a:xfrm flipV="1">
                    <a:off x="6114960" y="39067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81" name=""/>
                  <p:cNvGrpSpPr/>
                  <p:nvPr/>
                </p:nvGrpSpPr>
                <p:grpSpPr>
                  <a:xfrm>
                    <a:off x="5842080" y="3278160"/>
                    <a:ext cx="891720" cy="685440"/>
                    <a:chOff x="5842080" y="3278160"/>
                    <a:chExt cx="891720" cy="685440"/>
                  </a:xfrm>
                </p:grpSpPr>
                <p:sp>
                  <p:nvSpPr>
                    <p:cNvPr id="1282" name=""/>
                    <p:cNvSpPr/>
                    <p:nvPr/>
                  </p:nvSpPr>
                  <p:spPr>
                    <a:xfrm>
                      <a:off x="6411600" y="37450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3" name=""/>
                    <p:cNvSpPr/>
                    <p:nvPr/>
                  </p:nvSpPr>
                  <p:spPr>
                    <a:xfrm>
                      <a:off x="6527520" y="36529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84" name=""/>
                    <p:cNvGrpSpPr/>
                    <p:nvPr/>
                  </p:nvGrpSpPr>
                  <p:grpSpPr>
                    <a:xfrm>
                      <a:off x="5842080" y="3278160"/>
                      <a:ext cx="579600" cy="685440"/>
                      <a:chOff x="5842080" y="3278160"/>
                      <a:chExt cx="579600" cy="685440"/>
                    </a:xfrm>
                  </p:grpSpPr>
                  <p:grpSp>
                    <p:nvGrpSpPr>
                      <p:cNvPr id="1285" name=""/>
                      <p:cNvGrpSpPr/>
                      <p:nvPr/>
                    </p:nvGrpSpPr>
                    <p:grpSpPr>
                      <a:xfrm>
                        <a:off x="5846400" y="3531960"/>
                        <a:ext cx="575280" cy="431640"/>
                        <a:chOff x="5846400" y="3531960"/>
                        <a:chExt cx="575280" cy="431640"/>
                      </a:xfrm>
                    </p:grpSpPr>
                    <p:sp>
                      <p:nvSpPr>
                        <p:cNvPr id="1286" name=""/>
                        <p:cNvSpPr/>
                        <p:nvPr/>
                      </p:nvSpPr>
                      <p:spPr>
                        <a:xfrm flipV="1">
                          <a:off x="5846400" y="36403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7" name=""/>
                        <p:cNvSpPr/>
                        <p:nvPr/>
                      </p:nvSpPr>
                      <p:spPr>
                        <a:xfrm flipV="1">
                          <a:off x="5846400" y="35319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8" name=""/>
                        <p:cNvSpPr/>
                        <p:nvPr/>
                      </p:nvSpPr>
                      <p:spPr>
                        <a:xfrm>
                          <a:off x="5846400" y="38552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9" name=""/>
                        <p:cNvSpPr/>
                        <p:nvPr/>
                      </p:nvSpPr>
                      <p:spPr>
                        <a:xfrm>
                          <a:off x="6421680" y="35323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290" name=""/>
                      <p:cNvSpPr/>
                      <p:nvPr/>
                    </p:nvSpPr>
                    <p:spPr>
                      <a:xfrm>
                        <a:off x="5842080" y="32781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291" name=""/>
                  <p:cNvSpPr/>
                  <p:nvPr/>
                </p:nvSpPr>
                <p:spPr>
                  <a:xfrm>
                    <a:off x="5932440" y="38638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"/>
                  <p:cNvSpPr/>
                  <p:nvPr/>
                </p:nvSpPr>
                <p:spPr>
                  <a:xfrm>
                    <a:off x="611496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" name=""/>
                  <p:cNvSpPr/>
                  <p:nvPr/>
                </p:nvSpPr>
                <p:spPr>
                  <a:xfrm flipV="1">
                    <a:off x="6424560" y="39254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"/>
                  <p:cNvSpPr/>
                  <p:nvPr/>
                </p:nvSpPr>
                <p:spPr>
                  <a:xfrm>
                    <a:off x="642456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6424560" y="58705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6424560" y="48625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7" name=""/>
                <p:cNvSpPr/>
                <p:nvPr/>
              </p:nvSpPr>
              <p:spPr>
                <a:xfrm>
                  <a:off x="588636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8" name=""/>
              <p:cNvGrpSpPr/>
              <p:nvPr/>
            </p:nvGrpSpPr>
            <p:grpSpPr>
              <a:xfrm>
                <a:off x="7464600" y="3278160"/>
                <a:ext cx="1194840" cy="3133800"/>
                <a:chOff x="7464600" y="3278160"/>
                <a:chExt cx="1194840" cy="3133800"/>
              </a:xfrm>
            </p:grpSpPr>
            <p:grpSp>
              <p:nvGrpSpPr>
                <p:cNvPr id="1299" name=""/>
                <p:cNvGrpSpPr/>
                <p:nvPr/>
              </p:nvGrpSpPr>
              <p:grpSpPr>
                <a:xfrm>
                  <a:off x="7464600" y="3278160"/>
                  <a:ext cx="1194840" cy="3133800"/>
                  <a:chOff x="7464600" y="3278160"/>
                  <a:chExt cx="1194840" cy="3133800"/>
                </a:xfrm>
              </p:grpSpPr>
              <p:sp>
                <p:nvSpPr>
                  <p:cNvPr id="1300" name=""/>
                  <p:cNvSpPr/>
                  <p:nvPr/>
                </p:nvSpPr>
                <p:spPr>
                  <a:xfrm flipV="1">
                    <a:off x="7718760" y="39067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01" name=""/>
                  <p:cNvGrpSpPr/>
                  <p:nvPr/>
                </p:nvGrpSpPr>
                <p:grpSpPr>
                  <a:xfrm>
                    <a:off x="7464600" y="3278160"/>
                    <a:ext cx="891720" cy="685440"/>
                    <a:chOff x="7464600" y="3278160"/>
                    <a:chExt cx="891720" cy="685440"/>
                  </a:xfrm>
                </p:grpSpPr>
                <p:sp>
                  <p:nvSpPr>
                    <p:cNvPr id="1302" name=""/>
                    <p:cNvSpPr/>
                    <p:nvPr/>
                  </p:nvSpPr>
                  <p:spPr>
                    <a:xfrm>
                      <a:off x="8034120" y="37450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3" name=""/>
                    <p:cNvSpPr/>
                    <p:nvPr/>
                  </p:nvSpPr>
                  <p:spPr>
                    <a:xfrm>
                      <a:off x="8150040" y="36529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04" name=""/>
                    <p:cNvGrpSpPr/>
                    <p:nvPr/>
                  </p:nvGrpSpPr>
                  <p:grpSpPr>
                    <a:xfrm>
                      <a:off x="7464600" y="3278160"/>
                      <a:ext cx="579600" cy="685440"/>
                      <a:chOff x="7464600" y="3278160"/>
                      <a:chExt cx="579600" cy="685440"/>
                    </a:xfrm>
                  </p:grpSpPr>
                  <p:grpSp>
                    <p:nvGrpSpPr>
                      <p:cNvPr id="1305" name=""/>
                      <p:cNvGrpSpPr/>
                      <p:nvPr/>
                    </p:nvGrpSpPr>
                    <p:grpSpPr>
                      <a:xfrm>
                        <a:off x="7468920" y="3531960"/>
                        <a:ext cx="575280" cy="431640"/>
                        <a:chOff x="7468920" y="3531960"/>
                        <a:chExt cx="575280" cy="431640"/>
                      </a:xfrm>
                    </p:grpSpPr>
                    <p:sp>
                      <p:nvSpPr>
                        <p:cNvPr id="1306" name=""/>
                        <p:cNvSpPr/>
                        <p:nvPr/>
                      </p:nvSpPr>
                      <p:spPr>
                        <a:xfrm flipV="1">
                          <a:off x="7468920" y="36403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7" name=""/>
                        <p:cNvSpPr/>
                        <p:nvPr/>
                      </p:nvSpPr>
                      <p:spPr>
                        <a:xfrm flipV="1">
                          <a:off x="7468920" y="35319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8" name=""/>
                        <p:cNvSpPr/>
                        <p:nvPr/>
                      </p:nvSpPr>
                      <p:spPr>
                        <a:xfrm>
                          <a:off x="7468920" y="38552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9" name=""/>
                        <p:cNvSpPr/>
                        <p:nvPr/>
                      </p:nvSpPr>
                      <p:spPr>
                        <a:xfrm>
                          <a:off x="8044200" y="35323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310" name=""/>
                      <p:cNvSpPr/>
                      <p:nvPr/>
                    </p:nvSpPr>
                    <p:spPr>
                      <a:xfrm>
                        <a:off x="7464600" y="32781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311" name=""/>
                  <p:cNvSpPr/>
                  <p:nvPr/>
                </p:nvSpPr>
                <p:spPr>
                  <a:xfrm>
                    <a:off x="7554960" y="38638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771876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"/>
                  <p:cNvSpPr/>
                  <p:nvPr/>
                </p:nvSpPr>
                <p:spPr>
                  <a:xfrm flipV="1">
                    <a:off x="7894800" y="39254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789480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>
                    <a:off x="7894800" y="58705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>
                    <a:off x="7894800" y="48625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17" name=""/>
                  <p:cNvGrpSpPr/>
                  <p:nvPr/>
                </p:nvGrpSpPr>
                <p:grpSpPr>
                  <a:xfrm>
                    <a:off x="8163000" y="3962520"/>
                    <a:ext cx="496440" cy="187200"/>
                    <a:chOff x="8163000" y="3962520"/>
                    <a:chExt cx="496440" cy="187200"/>
                  </a:xfrm>
                </p:grpSpPr>
                <p:sp>
                  <p:nvSpPr>
                    <p:cNvPr id="1318" name=""/>
                    <p:cNvSpPr/>
                    <p:nvPr/>
                  </p:nvSpPr>
                  <p:spPr>
                    <a:xfrm>
                      <a:off x="8163000" y="3962520"/>
                      <a:ext cx="208080" cy="18720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260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19" name=""/>
                    <p:cNvGrpSpPr/>
                    <p:nvPr/>
                  </p:nvGrpSpPr>
                  <p:grpSpPr>
                    <a:xfrm>
                      <a:off x="8242200" y="3998880"/>
                      <a:ext cx="417240" cy="117360"/>
                      <a:chOff x="8242200" y="3998880"/>
                      <a:chExt cx="417240" cy="117360"/>
                    </a:xfrm>
                  </p:grpSpPr>
                  <p:sp>
                    <p:nvSpPr>
                      <p:cNvPr id="1320" name=""/>
                      <p:cNvSpPr/>
                      <p:nvPr/>
                    </p:nvSpPr>
                    <p:spPr>
                      <a:xfrm>
                        <a:off x="8242200" y="3998880"/>
                        <a:ext cx="412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1" name=""/>
                      <p:cNvSpPr/>
                      <p:nvPr/>
                    </p:nvSpPr>
                    <p:spPr>
                      <a:xfrm>
                        <a:off x="8246520" y="4002120"/>
                        <a:ext cx="59760" cy="5508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2" name=""/>
                      <p:cNvSpPr/>
                      <p:nvPr/>
                    </p:nvSpPr>
                    <p:spPr>
                      <a:xfrm flipH="1">
                        <a:off x="8246520" y="4061520"/>
                        <a:ext cx="59760" cy="5472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920" bIns="7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3" name=""/>
                      <p:cNvSpPr/>
                      <p:nvPr/>
                    </p:nvSpPr>
                    <p:spPr>
                      <a:xfrm>
                        <a:off x="8246520" y="4116240"/>
                        <a:ext cx="4129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324" name=""/>
                  <p:cNvSpPr/>
                  <p:nvPr/>
                </p:nvSpPr>
                <p:spPr>
                  <a:xfrm flipV="1">
                    <a:off x="8047080" y="3951000"/>
                    <a:ext cx="0" cy="1191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" name=""/>
                  <p:cNvSpPr/>
                  <p:nvPr/>
                </p:nvSpPr>
                <p:spPr>
                  <a:xfrm>
                    <a:off x="8042400" y="4070520"/>
                    <a:ext cx="1191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6" name=""/>
                <p:cNvSpPr/>
                <p:nvPr/>
              </p:nvSpPr>
              <p:spPr>
                <a:xfrm>
                  <a:off x="752148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7" name=""/>
              <p:cNvSpPr/>
              <p:nvPr/>
            </p:nvSpPr>
            <p:spPr>
              <a:xfrm>
                <a:off x="220680" y="1652760"/>
                <a:ext cx="203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00"/>
                    </a:solidFill>
                    <a:latin typeface="Times New Roman"/>
                  </a:rPr>
                  <a:t>Inchidere ecologica depozi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4734000" y="8841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7920000" y="15573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0" name=""/>
              <p:cNvGrpSpPr/>
              <p:nvPr/>
            </p:nvGrpSpPr>
            <p:grpSpPr>
              <a:xfrm>
                <a:off x="1494000" y="3332160"/>
                <a:ext cx="671040" cy="882720"/>
                <a:chOff x="1494000" y="3332160"/>
                <a:chExt cx="671040" cy="882720"/>
              </a:xfrm>
            </p:grpSpPr>
            <p:sp>
              <p:nvSpPr>
                <p:cNvPr id="1331" name=""/>
                <p:cNvSpPr/>
                <p:nvPr/>
              </p:nvSpPr>
              <p:spPr>
                <a:xfrm>
                  <a:off x="1852560" y="3744720"/>
                  <a:ext cx="10296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1958760" y="3652560"/>
                  <a:ext cx="206280" cy="190800"/>
                </a:xfrm>
                <a:prstGeom prst="ellipse">
                  <a:avLst/>
                </a:prstGeom>
                <a:solidFill>
                  <a:srgbClr val="ff7c8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33" name=""/>
                <p:cNvGrpSpPr/>
                <p:nvPr/>
              </p:nvGrpSpPr>
              <p:grpSpPr>
                <a:xfrm>
                  <a:off x="1494000" y="3531600"/>
                  <a:ext cx="364680" cy="432000"/>
                  <a:chOff x="1494000" y="3531600"/>
                  <a:chExt cx="364680" cy="432000"/>
                </a:xfrm>
              </p:grpSpPr>
              <p:sp>
                <p:nvSpPr>
                  <p:cNvPr id="1334" name=""/>
                  <p:cNvSpPr/>
                  <p:nvPr/>
                </p:nvSpPr>
                <p:spPr>
                  <a:xfrm flipV="1">
                    <a:off x="1494000" y="3639960"/>
                    <a:ext cx="0" cy="2142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" name=""/>
                  <p:cNvSpPr/>
                  <p:nvPr/>
                </p:nvSpPr>
                <p:spPr>
                  <a:xfrm flipV="1">
                    <a:off x="1494000" y="3531600"/>
                    <a:ext cx="364680" cy="108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"/>
                  <p:cNvSpPr/>
                  <p:nvPr/>
                </p:nvSpPr>
                <p:spPr>
                  <a:xfrm>
                    <a:off x="1494000" y="3854880"/>
                    <a:ext cx="364680" cy="108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" name=""/>
                  <p:cNvSpPr/>
                  <p:nvPr/>
                </p:nvSpPr>
                <p:spPr>
                  <a:xfrm>
                    <a:off x="1858680" y="3531960"/>
                    <a:ext cx="0" cy="43164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8" name=""/>
                <p:cNvSpPr/>
                <p:nvPr/>
              </p:nvSpPr>
              <p:spPr>
                <a:xfrm>
                  <a:off x="1494000" y="3332160"/>
                  <a:ext cx="0" cy="3301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1860480" y="3863880"/>
                  <a:ext cx="0" cy="3510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0" name=""/>
              <p:cNvSpPr/>
              <p:nvPr/>
            </p:nvSpPr>
            <p:spPr>
              <a:xfrm>
                <a:off x="1434960" y="361008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1" name=""/>
              <p:cNvGrpSpPr/>
              <p:nvPr/>
            </p:nvGrpSpPr>
            <p:grpSpPr>
              <a:xfrm>
                <a:off x="6789600" y="4805280"/>
                <a:ext cx="752760" cy="975240"/>
                <a:chOff x="6789600" y="4805280"/>
                <a:chExt cx="752760" cy="975240"/>
              </a:xfrm>
            </p:grpSpPr>
            <p:grpSp>
              <p:nvGrpSpPr>
                <p:cNvPr id="1342" name=""/>
                <p:cNvGrpSpPr/>
                <p:nvPr/>
              </p:nvGrpSpPr>
              <p:grpSpPr>
                <a:xfrm>
                  <a:off x="6870600" y="4805280"/>
                  <a:ext cx="671760" cy="975240"/>
                  <a:chOff x="6870600" y="4805280"/>
                  <a:chExt cx="671760" cy="975240"/>
                </a:xfrm>
              </p:grpSpPr>
              <p:sp>
                <p:nvSpPr>
                  <p:cNvPr id="1343" name=""/>
                  <p:cNvSpPr/>
                  <p:nvPr/>
                </p:nvSpPr>
                <p:spPr>
                  <a:xfrm>
                    <a:off x="7229520" y="5261400"/>
                    <a:ext cx="10332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"/>
                  <p:cNvSpPr/>
                  <p:nvPr/>
                </p:nvSpPr>
                <p:spPr>
                  <a:xfrm>
                    <a:off x="7335720" y="5159160"/>
                    <a:ext cx="206640" cy="2106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45" name=""/>
                  <p:cNvGrpSpPr/>
                  <p:nvPr/>
                </p:nvGrpSpPr>
                <p:grpSpPr>
                  <a:xfrm>
                    <a:off x="6870600" y="5025600"/>
                    <a:ext cx="365040" cy="477360"/>
                    <a:chOff x="6870600" y="5025600"/>
                    <a:chExt cx="365040" cy="477360"/>
                  </a:xfrm>
                </p:grpSpPr>
                <p:sp>
                  <p:nvSpPr>
                    <p:cNvPr id="1346" name=""/>
                    <p:cNvSpPr/>
                    <p:nvPr/>
                  </p:nvSpPr>
                  <p:spPr>
                    <a:xfrm flipV="1">
                      <a:off x="6870600" y="5145840"/>
                      <a:ext cx="0" cy="236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7" name=""/>
                    <p:cNvSpPr/>
                    <p:nvPr/>
                  </p:nvSpPr>
                  <p:spPr>
                    <a:xfrm flipV="1">
                      <a:off x="6870600" y="5025600"/>
                      <a:ext cx="365040" cy="119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8" name=""/>
                    <p:cNvSpPr/>
                    <p:nvPr/>
                  </p:nvSpPr>
                  <p:spPr>
                    <a:xfrm>
                      <a:off x="6870600" y="5383080"/>
                      <a:ext cx="365040" cy="119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9" name=""/>
                    <p:cNvSpPr/>
                    <p:nvPr/>
                  </p:nvSpPr>
                  <p:spPr>
                    <a:xfrm>
                      <a:off x="7235640" y="5025960"/>
                      <a:ext cx="0" cy="47700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50" name=""/>
                  <p:cNvSpPr/>
                  <p:nvPr/>
                </p:nvSpPr>
                <p:spPr>
                  <a:xfrm>
                    <a:off x="6870600" y="4805280"/>
                    <a:ext cx="0" cy="36468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"/>
                  <p:cNvSpPr/>
                  <p:nvPr/>
                </p:nvSpPr>
                <p:spPr>
                  <a:xfrm>
                    <a:off x="7237440" y="5392800"/>
                    <a:ext cx="0" cy="3877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2" name=""/>
                <p:cNvSpPr/>
                <p:nvPr/>
              </p:nvSpPr>
              <p:spPr>
                <a:xfrm>
                  <a:off x="6789600" y="511236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9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3" name=""/>
              <p:cNvSpPr/>
              <p:nvPr/>
            </p:nvSpPr>
            <p:spPr>
              <a:xfrm flipH="1">
                <a:off x="1193400" y="1301760"/>
                <a:ext cx="16462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4" name=""/>
              <p:cNvGrpSpPr/>
              <p:nvPr/>
            </p:nvGrpSpPr>
            <p:grpSpPr>
              <a:xfrm>
                <a:off x="825480" y="1114560"/>
                <a:ext cx="360360" cy="360360"/>
                <a:chOff x="825480" y="1114560"/>
                <a:chExt cx="360360" cy="360360"/>
              </a:xfrm>
            </p:grpSpPr>
            <p:sp>
              <p:nvSpPr>
                <p:cNvPr id="1355" name=""/>
                <p:cNvSpPr/>
                <p:nvPr/>
              </p:nvSpPr>
              <p:spPr>
                <a:xfrm>
                  <a:off x="898560" y="118764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825480" y="111456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7" name=""/>
              <p:cNvSpPr/>
              <p:nvPr/>
            </p:nvSpPr>
            <p:spPr>
              <a:xfrm>
                <a:off x="789120" y="857160"/>
                <a:ext cx="5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485640" y="2413080"/>
                <a:ext cx="935280" cy="32220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390600" y="2695680"/>
                <a:ext cx="168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00"/>
                    </a:solidFill>
                    <a:latin typeface="Times New Roman"/>
                  </a:rPr>
                  <a:t>Depozite noi de cenu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rot="16200000">
                <a:off x="-357120" y="4645080"/>
                <a:ext cx="216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3300"/>
                    </a:solidFill>
                    <a:latin typeface="Times New Roman"/>
                  </a:rPr>
                  <a:t>Consumatorii industriali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239544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273996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flipH="1">
                <a:off x="1496880" y="2373480"/>
                <a:ext cx="91296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4" name=""/>
              <p:cNvGrpSpPr/>
              <p:nvPr/>
            </p:nvGrpSpPr>
            <p:grpSpPr>
              <a:xfrm>
                <a:off x="2398680" y="2532240"/>
                <a:ext cx="531720" cy="414000"/>
                <a:chOff x="2398680" y="2532240"/>
                <a:chExt cx="531720" cy="414000"/>
              </a:xfrm>
            </p:grpSpPr>
            <p:sp>
              <p:nvSpPr>
                <p:cNvPr id="1365" name=""/>
                <p:cNvSpPr/>
                <p:nvPr/>
              </p:nvSpPr>
              <p:spPr>
                <a:xfrm>
                  <a:off x="2398680" y="2532240"/>
                  <a:ext cx="531720" cy="414000"/>
                </a:xfrm>
                <a:prstGeom prst="rect">
                  <a:avLst/>
                </a:prstGeom>
                <a:solidFill>
                  <a:srgbClr val="ff7c8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2414520" y="2563920"/>
                  <a:ext cx="495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Times New Roman"/>
                    </a:rPr>
                    <a:t>C7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7" name=""/>
              <p:cNvGrpSpPr/>
              <p:nvPr/>
            </p:nvGrpSpPr>
            <p:grpSpPr>
              <a:xfrm>
                <a:off x="2463840" y="2944800"/>
                <a:ext cx="412560" cy="393840"/>
                <a:chOff x="2463840" y="2944800"/>
                <a:chExt cx="412560" cy="393840"/>
              </a:xfrm>
            </p:grpSpPr>
            <p:sp>
              <p:nvSpPr>
                <p:cNvPr id="1368" name=""/>
                <p:cNvSpPr/>
                <p:nvPr/>
              </p:nvSpPr>
              <p:spPr>
                <a:xfrm>
                  <a:off x="2668320" y="2944800"/>
                  <a:ext cx="0" cy="1177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 flipH="1">
                  <a:off x="2466720" y="3052800"/>
                  <a:ext cx="204480" cy="954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2463840" y="3148200"/>
                  <a:ext cx="4125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 flipH="1">
                  <a:off x="2662200" y="3148200"/>
                  <a:ext cx="207360" cy="936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2671560" y="3232080"/>
                  <a:ext cx="0" cy="1065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3" name=""/>
              <p:cNvGrpSpPr/>
              <p:nvPr/>
            </p:nvGrpSpPr>
            <p:grpSpPr>
              <a:xfrm>
                <a:off x="2124000" y="2351160"/>
                <a:ext cx="264960" cy="360360"/>
                <a:chOff x="2124000" y="2351160"/>
                <a:chExt cx="264960" cy="360360"/>
              </a:xfrm>
            </p:grpSpPr>
            <p:sp>
              <p:nvSpPr>
                <p:cNvPr id="1374" name=""/>
                <p:cNvSpPr/>
                <p:nvPr/>
              </p:nvSpPr>
              <p:spPr>
                <a:xfrm>
                  <a:off x="2130120" y="23511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 flipH="1">
                  <a:off x="2124000" y="27115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6" name=""/>
              <p:cNvSpPr/>
              <p:nvPr/>
            </p:nvSpPr>
            <p:spPr>
              <a:xfrm flipH="1">
                <a:off x="2558880" y="2363760"/>
                <a:ext cx="21600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H="1">
                <a:off x="2919240" y="2373480"/>
                <a:ext cx="93528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H="1">
                <a:off x="3998880" y="2373480"/>
                <a:ext cx="21600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>
                <a:off x="4359240" y="2373480"/>
                <a:ext cx="94464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0" name=""/>
              <p:cNvGrpSpPr/>
              <p:nvPr/>
            </p:nvGrpSpPr>
            <p:grpSpPr>
              <a:xfrm>
                <a:off x="3325680" y="6308640"/>
                <a:ext cx="258840" cy="258840"/>
                <a:chOff x="3325680" y="6308640"/>
                <a:chExt cx="258840" cy="258840"/>
              </a:xfrm>
            </p:grpSpPr>
            <p:sp>
              <p:nvSpPr>
                <p:cNvPr id="1381" name=""/>
                <p:cNvSpPr/>
                <p:nvPr/>
              </p:nvSpPr>
              <p:spPr>
                <a:xfrm>
                  <a:off x="3325680" y="6308640"/>
                  <a:ext cx="258840" cy="258840"/>
                </a:xfrm>
                <a:prstGeom prst="ellipse">
                  <a:avLst/>
                </a:prstGeom>
                <a:solidFill>
                  <a:srgbClr val="ff7c80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 flipH="1">
                  <a:off x="3373560" y="6439680"/>
                  <a:ext cx="15624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3" name=""/>
              <p:cNvGrpSpPr/>
              <p:nvPr/>
            </p:nvGrpSpPr>
            <p:grpSpPr>
              <a:xfrm>
                <a:off x="3584520" y="2351160"/>
                <a:ext cx="806400" cy="987480"/>
                <a:chOff x="3584520" y="2351160"/>
                <a:chExt cx="806400" cy="987480"/>
              </a:xfrm>
            </p:grpSpPr>
            <p:grpSp>
              <p:nvGrpSpPr>
                <p:cNvPr id="1384" name=""/>
                <p:cNvGrpSpPr/>
                <p:nvPr/>
              </p:nvGrpSpPr>
              <p:grpSpPr>
                <a:xfrm>
                  <a:off x="3859200" y="2532240"/>
                  <a:ext cx="531720" cy="414000"/>
                  <a:chOff x="3859200" y="2532240"/>
                  <a:chExt cx="531720" cy="414000"/>
                </a:xfrm>
              </p:grpSpPr>
              <p:sp>
                <p:nvSpPr>
                  <p:cNvPr id="1385" name=""/>
                  <p:cNvSpPr/>
                  <p:nvPr/>
                </p:nvSpPr>
                <p:spPr>
                  <a:xfrm>
                    <a:off x="3859200" y="2532240"/>
                    <a:ext cx="531720" cy="414000"/>
                  </a:xfrm>
                  <a:prstGeom prst="rect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6" name=""/>
                  <p:cNvSpPr/>
                  <p:nvPr/>
                </p:nvSpPr>
                <p:spPr>
                  <a:xfrm>
                    <a:off x="3875040" y="256392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C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7" name=""/>
                <p:cNvGrpSpPr/>
                <p:nvPr/>
              </p:nvGrpSpPr>
              <p:grpSpPr>
                <a:xfrm>
                  <a:off x="3924360" y="2944800"/>
                  <a:ext cx="412560" cy="393840"/>
                  <a:chOff x="3924360" y="2944800"/>
                  <a:chExt cx="412560" cy="393840"/>
                </a:xfrm>
              </p:grpSpPr>
              <p:sp>
                <p:nvSpPr>
                  <p:cNvPr id="1388" name=""/>
                  <p:cNvSpPr/>
                  <p:nvPr/>
                </p:nvSpPr>
                <p:spPr>
                  <a:xfrm>
                    <a:off x="4128840" y="2944800"/>
                    <a:ext cx="0" cy="1177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 flipH="1">
                    <a:off x="3927240" y="3052800"/>
                    <a:ext cx="204480" cy="954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"/>
                  <p:cNvSpPr/>
                  <p:nvPr/>
                </p:nvSpPr>
                <p:spPr>
                  <a:xfrm>
                    <a:off x="3924360" y="314820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 flipH="1">
                    <a:off x="4122720" y="3148200"/>
                    <a:ext cx="207360" cy="936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2" name=""/>
                  <p:cNvSpPr/>
                  <p:nvPr/>
                </p:nvSpPr>
                <p:spPr>
                  <a:xfrm>
                    <a:off x="4132080" y="3232080"/>
                    <a:ext cx="0" cy="1065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3" name=""/>
                <p:cNvGrpSpPr/>
                <p:nvPr/>
              </p:nvGrpSpPr>
              <p:grpSpPr>
                <a:xfrm>
                  <a:off x="3584520" y="2351160"/>
                  <a:ext cx="264960" cy="360360"/>
                  <a:chOff x="3584520" y="2351160"/>
                  <a:chExt cx="264960" cy="360360"/>
                </a:xfrm>
              </p:grpSpPr>
              <p:sp>
                <p:nvSpPr>
                  <p:cNvPr id="1394" name=""/>
                  <p:cNvSpPr/>
                  <p:nvPr/>
                </p:nvSpPr>
                <p:spPr>
                  <a:xfrm>
                    <a:off x="3590640" y="2351160"/>
                    <a:ext cx="0" cy="360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5" name=""/>
                  <p:cNvSpPr/>
                  <p:nvPr/>
                </p:nvSpPr>
                <p:spPr>
                  <a:xfrm flipH="1">
                    <a:off x="3584520" y="2711520"/>
                    <a:ext cx="2649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96" name=""/>
              <p:cNvSpPr/>
              <p:nvPr/>
            </p:nvSpPr>
            <p:spPr>
              <a:xfrm>
                <a:off x="698400" y="2009880"/>
                <a:ext cx="505080" cy="187200"/>
              </a:xfrm>
              <a:prstGeom prst="line">
                <a:avLst/>
              </a:prstGeom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flipV="1">
                <a:off x="695160" y="2009880"/>
                <a:ext cx="505080" cy="187200"/>
              </a:xfrm>
              <a:prstGeom prst="line">
                <a:avLst/>
              </a:prstGeom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V="1">
                <a:off x="2932200" y="3906720"/>
                <a:ext cx="0" cy="2700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9" name=""/>
              <p:cNvGrpSpPr/>
              <p:nvPr/>
            </p:nvGrpSpPr>
            <p:grpSpPr>
              <a:xfrm>
                <a:off x="2678040" y="3278160"/>
                <a:ext cx="891720" cy="685440"/>
                <a:chOff x="2678040" y="3278160"/>
                <a:chExt cx="891720" cy="685440"/>
              </a:xfrm>
            </p:grpSpPr>
            <p:sp>
              <p:nvSpPr>
                <p:cNvPr id="1400" name=""/>
                <p:cNvSpPr/>
                <p:nvPr/>
              </p:nvSpPr>
              <p:spPr>
                <a:xfrm>
                  <a:off x="3247560" y="3745080"/>
                  <a:ext cx="10296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3363480" y="3652920"/>
                  <a:ext cx="206280" cy="190440"/>
                </a:xfrm>
                <a:prstGeom prst="ellipse">
                  <a:avLst/>
                </a:prstGeom>
                <a:solidFill>
                  <a:srgbClr val="ffcc99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02" name=""/>
                <p:cNvGrpSpPr/>
                <p:nvPr/>
              </p:nvGrpSpPr>
              <p:grpSpPr>
                <a:xfrm>
                  <a:off x="2678040" y="3278160"/>
                  <a:ext cx="579600" cy="685440"/>
                  <a:chOff x="2678040" y="3278160"/>
                  <a:chExt cx="579600" cy="685440"/>
                </a:xfrm>
              </p:grpSpPr>
              <p:grpSp>
                <p:nvGrpSpPr>
                  <p:cNvPr id="1403" name=""/>
                  <p:cNvGrpSpPr/>
                  <p:nvPr/>
                </p:nvGrpSpPr>
                <p:grpSpPr>
                  <a:xfrm>
                    <a:off x="2682360" y="3531960"/>
                    <a:ext cx="575280" cy="431640"/>
                    <a:chOff x="2682360" y="3531960"/>
                    <a:chExt cx="575280" cy="431640"/>
                  </a:xfrm>
                </p:grpSpPr>
                <p:sp>
                  <p:nvSpPr>
                    <p:cNvPr id="1404" name=""/>
                    <p:cNvSpPr/>
                    <p:nvPr/>
                  </p:nvSpPr>
                  <p:spPr>
                    <a:xfrm flipV="1">
                      <a:off x="2682360" y="3640320"/>
                      <a:ext cx="0" cy="214200"/>
                    </a:xfrm>
                    <a:prstGeom prst="line">
                      <a:avLst/>
                    </a:prstGeom>
                    <a:ln w="1908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5" name=""/>
                    <p:cNvSpPr/>
                    <p:nvPr/>
                  </p:nvSpPr>
                  <p:spPr>
                    <a:xfrm flipV="1">
                      <a:off x="2682360" y="3531960"/>
                      <a:ext cx="575280" cy="108360"/>
                    </a:xfrm>
                    <a:prstGeom prst="line">
                      <a:avLst/>
                    </a:prstGeom>
                    <a:ln w="1908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6" name=""/>
                    <p:cNvSpPr/>
                    <p:nvPr/>
                  </p:nvSpPr>
                  <p:spPr>
                    <a:xfrm>
                      <a:off x="2682360" y="3855240"/>
                      <a:ext cx="575280" cy="108360"/>
                    </a:xfrm>
                    <a:prstGeom prst="line">
                      <a:avLst/>
                    </a:prstGeom>
                    <a:ln w="1908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7" name=""/>
                    <p:cNvSpPr/>
                    <p:nvPr/>
                  </p:nvSpPr>
                  <p:spPr>
                    <a:xfrm>
                      <a:off x="3257640" y="3532320"/>
                      <a:ext cx="0" cy="431280"/>
                    </a:xfrm>
                    <a:prstGeom prst="line">
                      <a:avLst/>
                    </a:prstGeom>
                    <a:ln w="1908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8" name=""/>
                  <p:cNvSpPr/>
                  <p:nvPr/>
                </p:nvSpPr>
                <p:spPr>
                  <a:xfrm>
                    <a:off x="2678040" y="3278160"/>
                    <a:ext cx="0" cy="38412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09" name=""/>
              <p:cNvSpPr/>
              <p:nvPr/>
            </p:nvSpPr>
            <p:spPr>
              <a:xfrm>
                <a:off x="2932200" y="4321080"/>
                <a:ext cx="0" cy="39708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0" name=""/>
              <p:cNvGrpSpPr/>
              <p:nvPr/>
            </p:nvGrpSpPr>
            <p:grpSpPr>
              <a:xfrm>
                <a:off x="3376440" y="3962520"/>
                <a:ext cx="496440" cy="187200"/>
                <a:chOff x="3376440" y="3962520"/>
                <a:chExt cx="496440" cy="187200"/>
              </a:xfrm>
            </p:grpSpPr>
            <p:sp>
              <p:nvSpPr>
                <p:cNvPr id="1411" name=""/>
                <p:cNvSpPr/>
                <p:nvPr/>
              </p:nvSpPr>
              <p:spPr>
                <a:xfrm>
                  <a:off x="3376440" y="3962520"/>
                  <a:ext cx="208080" cy="187200"/>
                </a:xfrm>
                <a:prstGeom prst="ellipse">
                  <a:avLst/>
                </a:prstGeom>
                <a:solidFill>
                  <a:srgbClr val="ffcc99"/>
                </a:solidFill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12" name=""/>
                <p:cNvGrpSpPr/>
                <p:nvPr/>
              </p:nvGrpSpPr>
              <p:grpSpPr>
                <a:xfrm>
                  <a:off x="3455640" y="3998880"/>
                  <a:ext cx="417240" cy="117360"/>
                  <a:chOff x="3455640" y="3998880"/>
                  <a:chExt cx="417240" cy="117360"/>
                </a:xfrm>
              </p:grpSpPr>
              <p:sp>
                <p:nvSpPr>
                  <p:cNvPr id="1413" name=""/>
                  <p:cNvSpPr/>
                  <p:nvPr/>
                </p:nvSpPr>
                <p:spPr>
                  <a:xfrm>
                    <a:off x="3455640" y="3998880"/>
                    <a:ext cx="412920" cy="0"/>
                  </a:xfrm>
                  <a:prstGeom prst="line">
                    <a:avLst/>
                  </a:prstGeom>
                  <a:ln w="93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4" name=""/>
                  <p:cNvSpPr/>
                  <p:nvPr/>
                </p:nvSpPr>
                <p:spPr>
                  <a:xfrm>
                    <a:off x="3459960" y="4002120"/>
                    <a:ext cx="59760" cy="55080"/>
                  </a:xfrm>
                  <a:prstGeom prst="line">
                    <a:avLst/>
                  </a:prstGeom>
                  <a:ln w="93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5" name=""/>
                  <p:cNvSpPr/>
                  <p:nvPr/>
                </p:nvSpPr>
                <p:spPr>
                  <a:xfrm flipH="1">
                    <a:off x="3459960" y="4061520"/>
                    <a:ext cx="59760" cy="54720"/>
                  </a:xfrm>
                  <a:prstGeom prst="line">
                    <a:avLst/>
                  </a:prstGeom>
                  <a:ln w="93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"/>
                  <p:cNvSpPr/>
                  <p:nvPr/>
                </p:nvSpPr>
                <p:spPr>
                  <a:xfrm>
                    <a:off x="3459960" y="4116240"/>
                    <a:ext cx="412920" cy="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17" name=""/>
              <p:cNvSpPr/>
              <p:nvPr/>
            </p:nvSpPr>
            <p:spPr>
              <a:xfrm flipV="1">
                <a:off x="3260880" y="3951000"/>
                <a:ext cx="0" cy="1191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3255840" y="4070520"/>
                <a:ext cx="11916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2735280" y="361008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0" name=""/>
              <p:cNvGrpSpPr/>
              <p:nvPr/>
            </p:nvGrpSpPr>
            <p:grpSpPr>
              <a:xfrm>
                <a:off x="7448040" y="543960"/>
                <a:ext cx="3187800" cy="1388160"/>
                <a:chOff x="7448040" y="543960"/>
                <a:chExt cx="3187800" cy="1388160"/>
              </a:xfrm>
            </p:grpSpPr>
            <p:sp>
              <p:nvSpPr>
                <p:cNvPr id="1421" name=""/>
                <p:cNvSpPr/>
                <p:nvPr/>
              </p:nvSpPr>
              <p:spPr>
                <a:xfrm flipV="1">
                  <a:off x="7448040" y="543600"/>
                  <a:ext cx="1461240" cy="1388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389" y="3116"/>
                      </a:moveTo>
                      <a:arcTo wR="10800" hR="10800" stAng="-2721549" swAng="365036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389" y="3116"/>
                      </a:moveTo>
                      <a:arcTo wR="10800" hR="10800" stAng="-2721549" swAng="3650365"/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 flipH="1" flipV="1">
                  <a:off x="9174240" y="543960"/>
                  <a:ext cx="1461240" cy="1388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389" y="3116"/>
                      </a:moveTo>
                      <a:arcTo wR="10800" hR="10800" stAng="-2721549" swAng="365036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389" y="3116"/>
                      </a:moveTo>
                      <a:arcTo wR="10800" hR="10800" stAng="-2721549" swAng="3650365"/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8868960" y="1052640"/>
                  <a:ext cx="34524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8696520" y="1729440"/>
                  <a:ext cx="69012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5" name=""/>
              <p:cNvSpPr/>
              <p:nvPr/>
            </p:nvSpPr>
            <p:spPr>
              <a:xfrm>
                <a:off x="8193240" y="750960"/>
                <a:ext cx="158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Times New Roman"/>
                  </a:rPr>
                  <a:t>Instalatie de racir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6" name=""/>
              <p:cNvGrpSpPr/>
              <p:nvPr/>
            </p:nvGrpSpPr>
            <p:grpSpPr>
              <a:xfrm>
                <a:off x="5294160" y="2351160"/>
                <a:ext cx="806400" cy="987480"/>
                <a:chOff x="5294160" y="2351160"/>
                <a:chExt cx="806400" cy="987480"/>
              </a:xfrm>
            </p:grpSpPr>
            <p:grpSp>
              <p:nvGrpSpPr>
                <p:cNvPr id="1427" name=""/>
                <p:cNvGrpSpPr/>
                <p:nvPr/>
              </p:nvGrpSpPr>
              <p:grpSpPr>
                <a:xfrm>
                  <a:off x="5568840" y="2532240"/>
                  <a:ext cx="531720" cy="414000"/>
                  <a:chOff x="5568840" y="2532240"/>
                  <a:chExt cx="531720" cy="414000"/>
                </a:xfrm>
              </p:grpSpPr>
              <p:sp>
                <p:nvSpPr>
                  <p:cNvPr id="1428" name=""/>
                  <p:cNvSpPr/>
                  <p:nvPr/>
                </p:nvSpPr>
                <p:spPr>
                  <a:xfrm>
                    <a:off x="5568840" y="2532240"/>
                    <a:ext cx="531720" cy="414000"/>
                  </a:xfrm>
                  <a:prstGeom prst="rect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9" name=""/>
                  <p:cNvSpPr/>
                  <p:nvPr/>
                </p:nvSpPr>
                <p:spPr>
                  <a:xfrm>
                    <a:off x="5584680" y="256392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C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0" name=""/>
                <p:cNvGrpSpPr/>
                <p:nvPr/>
              </p:nvGrpSpPr>
              <p:grpSpPr>
                <a:xfrm>
                  <a:off x="5634000" y="2944800"/>
                  <a:ext cx="412560" cy="393840"/>
                  <a:chOff x="5634000" y="2944800"/>
                  <a:chExt cx="412560" cy="393840"/>
                </a:xfrm>
              </p:grpSpPr>
              <p:sp>
                <p:nvSpPr>
                  <p:cNvPr id="1431" name=""/>
                  <p:cNvSpPr/>
                  <p:nvPr/>
                </p:nvSpPr>
                <p:spPr>
                  <a:xfrm>
                    <a:off x="5838480" y="2944800"/>
                    <a:ext cx="0" cy="1177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" name=""/>
                  <p:cNvSpPr/>
                  <p:nvPr/>
                </p:nvSpPr>
                <p:spPr>
                  <a:xfrm flipH="1">
                    <a:off x="5636880" y="3052800"/>
                    <a:ext cx="204480" cy="954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"/>
                  <p:cNvSpPr/>
                  <p:nvPr/>
                </p:nvSpPr>
                <p:spPr>
                  <a:xfrm>
                    <a:off x="5634000" y="314820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" name=""/>
                  <p:cNvSpPr/>
                  <p:nvPr/>
                </p:nvSpPr>
                <p:spPr>
                  <a:xfrm flipH="1">
                    <a:off x="5832360" y="3148200"/>
                    <a:ext cx="207360" cy="936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" name=""/>
                  <p:cNvSpPr/>
                  <p:nvPr/>
                </p:nvSpPr>
                <p:spPr>
                  <a:xfrm>
                    <a:off x="5841720" y="3232080"/>
                    <a:ext cx="0" cy="1065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6" name=""/>
                <p:cNvGrpSpPr/>
                <p:nvPr/>
              </p:nvGrpSpPr>
              <p:grpSpPr>
                <a:xfrm>
                  <a:off x="5294160" y="2351160"/>
                  <a:ext cx="264960" cy="360360"/>
                  <a:chOff x="5294160" y="2351160"/>
                  <a:chExt cx="264960" cy="360360"/>
                </a:xfrm>
              </p:grpSpPr>
              <p:sp>
                <p:nvSpPr>
                  <p:cNvPr id="1437" name=""/>
                  <p:cNvSpPr/>
                  <p:nvPr/>
                </p:nvSpPr>
                <p:spPr>
                  <a:xfrm>
                    <a:off x="5300280" y="2351160"/>
                    <a:ext cx="0" cy="360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8" name=""/>
                  <p:cNvSpPr/>
                  <p:nvPr/>
                </p:nvSpPr>
                <p:spPr>
                  <a:xfrm flipH="1">
                    <a:off x="5294160" y="2711520"/>
                    <a:ext cx="2649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39" name=""/>
              <p:cNvGrpSpPr/>
              <p:nvPr/>
            </p:nvGrpSpPr>
            <p:grpSpPr>
              <a:xfrm>
                <a:off x="5557680" y="1320840"/>
                <a:ext cx="560520" cy="1217520"/>
                <a:chOff x="5557680" y="1320840"/>
                <a:chExt cx="560520" cy="1217520"/>
              </a:xfrm>
            </p:grpSpPr>
            <p:sp>
              <p:nvSpPr>
                <p:cNvPr id="1440" name=""/>
                <p:cNvSpPr/>
                <p:nvPr/>
              </p:nvSpPr>
              <p:spPr>
                <a:xfrm>
                  <a:off x="5557680" y="1866960"/>
                  <a:ext cx="216000" cy="271440"/>
                </a:xfrm>
                <a:prstGeom prst="rect">
                  <a:avLst/>
                </a:prstGeom>
                <a:solidFill>
                  <a:srgbClr val="ccffcc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5668920" y="21351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5902200" y="1866960"/>
                  <a:ext cx="216000" cy="271440"/>
                </a:xfrm>
                <a:prstGeom prst="rect">
                  <a:avLst/>
                </a:prstGeom>
                <a:solidFill>
                  <a:srgbClr val="ccffcc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6013440" y="21351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5668920" y="170352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6013440" y="170352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46" name=""/>
                <p:cNvGrpSpPr/>
                <p:nvPr/>
              </p:nvGrpSpPr>
              <p:grpSpPr>
                <a:xfrm>
                  <a:off x="5557680" y="1482840"/>
                  <a:ext cx="216000" cy="215640"/>
                  <a:chOff x="5557680" y="1482840"/>
                  <a:chExt cx="216000" cy="215640"/>
                </a:xfrm>
              </p:grpSpPr>
              <p:sp>
                <p:nvSpPr>
                  <p:cNvPr id="1447" name=""/>
                  <p:cNvSpPr/>
                  <p:nvPr/>
                </p:nvSpPr>
                <p:spPr>
                  <a:xfrm>
                    <a:off x="5557680" y="14828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8" name=""/>
                  <p:cNvSpPr/>
                  <p:nvPr/>
                </p:nvSpPr>
                <p:spPr>
                  <a:xfrm flipH="1">
                    <a:off x="5603400" y="15397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9" name=""/>
                  <p:cNvSpPr/>
                  <p:nvPr/>
                </p:nvSpPr>
                <p:spPr>
                  <a:xfrm>
                    <a:off x="5702040" y="15397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0" name=""/>
                <p:cNvGrpSpPr/>
                <p:nvPr/>
              </p:nvGrpSpPr>
              <p:grpSpPr>
                <a:xfrm>
                  <a:off x="5902200" y="1482840"/>
                  <a:ext cx="216000" cy="215640"/>
                  <a:chOff x="5902200" y="1482840"/>
                  <a:chExt cx="216000" cy="215640"/>
                </a:xfrm>
              </p:grpSpPr>
              <p:sp>
                <p:nvSpPr>
                  <p:cNvPr id="1451" name=""/>
                  <p:cNvSpPr/>
                  <p:nvPr/>
                </p:nvSpPr>
                <p:spPr>
                  <a:xfrm>
                    <a:off x="5902200" y="14828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2" name=""/>
                  <p:cNvSpPr/>
                  <p:nvPr/>
                </p:nvSpPr>
                <p:spPr>
                  <a:xfrm flipH="1">
                    <a:off x="5947920" y="15397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"/>
                  <p:cNvSpPr/>
                  <p:nvPr/>
                </p:nvSpPr>
                <p:spPr>
                  <a:xfrm>
                    <a:off x="6046560" y="15397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54" name=""/>
                <p:cNvSpPr/>
                <p:nvPr/>
              </p:nvSpPr>
              <p:spPr>
                <a:xfrm>
                  <a:off x="5668920" y="13208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6013440" y="13208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6" name=""/>
          <p:cNvSpPr/>
          <p:nvPr/>
        </p:nvSpPr>
        <p:spPr>
          <a:xfrm>
            <a:off x="6248520" y="2133720"/>
            <a:ext cx="431640" cy="142920"/>
          </a:xfrm>
          <a:prstGeom prst="line">
            <a:avLst/>
          </a:prstGeom>
          <a:ln w="3168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132520" y="1785960"/>
            <a:ext cx="1409400" cy="447480"/>
          </a:xfrm>
          <a:prstGeom prst="ellipse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6232680" y="2943360"/>
            <a:ext cx="431640" cy="142920"/>
          </a:xfrm>
          <a:prstGeom prst="line">
            <a:avLst/>
          </a:prstGeom>
          <a:ln w="316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5153040" y="2440080"/>
            <a:ext cx="1295280" cy="6476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"/>
          <p:cNvGrpSpPr/>
          <p:nvPr/>
        </p:nvGrpSpPr>
        <p:grpSpPr>
          <a:xfrm>
            <a:off x="220680" y="166680"/>
            <a:ext cx="10415160" cy="6411600"/>
            <a:chOff x="220680" y="166680"/>
            <a:chExt cx="10415160" cy="6411600"/>
          </a:xfrm>
        </p:grpSpPr>
        <p:sp>
          <p:nvSpPr>
            <p:cNvPr id="1461" name=""/>
            <p:cNvSpPr/>
            <p:nvPr/>
          </p:nvSpPr>
          <p:spPr>
            <a:xfrm>
              <a:off x="272880" y="166680"/>
              <a:ext cx="9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Times New Roman"/>
                </a:rPr>
                <a:t>SCHEMA TEHNOLOGICA LA SFARSITUL ANULUI 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2" name=""/>
            <p:cNvGrpSpPr/>
            <p:nvPr/>
          </p:nvGrpSpPr>
          <p:grpSpPr>
            <a:xfrm>
              <a:off x="220680" y="543960"/>
              <a:ext cx="10415160" cy="6034320"/>
              <a:chOff x="220680" y="543960"/>
              <a:chExt cx="10415160" cy="6034320"/>
            </a:xfrm>
          </p:grpSpPr>
          <p:sp>
            <p:nvSpPr>
              <p:cNvPr id="1463" name=""/>
              <p:cNvSpPr/>
              <p:nvPr/>
            </p:nvSpPr>
            <p:spPr>
              <a:xfrm>
                <a:off x="8193240" y="750960"/>
                <a:ext cx="158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Times New Roman"/>
                  </a:rPr>
                  <a:t>Instalatie de racir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4" name=""/>
              <p:cNvGrpSpPr/>
              <p:nvPr/>
            </p:nvGrpSpPr>
            <p:grpSpPr>
              <a:xfrm>
                <a:off x="220680" y="543960"/>
                <a:ext cx="10415160" cy="6034320"/>
                <a:chOff x="220680" y="543960"/>
                <a:chExt cx="10415160" cy="6034320"/>
              </a:xfrm>
            </p:grpSpPr>
            <p:sp>
              <p:nvSpPr>
                <p:cNvPr id="1465" name=""/>
                <p:cNvSpPr/>
                <p:nvPr/>
              </p:nvSpPr>
              <p:spPr>
                <a:xfrm>
                  <a:off x="1204920" y="3359160"/>
                  <a:ext cx="7061040" cy="0"/>
                </a:xfrm>
                <a:prstGeom prst="line">
                  <a:avLst/>
                </a:prstGeom>
                <a:ln w="507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2498760" y="21351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2843280" y="21351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2498760" y="170352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2843280" y="170352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70" name=""/>
                <p:cNvGrpSpPr/>
                <p:nvPr/>
              </p:nvGrpSpPr>
              <p:grpSpPr>
                <a:xfrm>
                  <a:off x="2387520" y="1482840"/>
                  <a:ext cx="216000" cy="215640"/>
                  <a:chOff x="2387520" y="1482840"/>
                  <a:chExt cx="216000" cy="215640"/>
                </a:xfrm>
              </p:grpSpPr>
              <p:sp>
                <p:nvSpPr>
                  <p:cNvPr id="1471" name=""/>
                  <p:cNvSpPr/>
                  <p:nvPr/>
                </p:nvSpPr>
                <p:spPr>
                  <a:xfrm>
                    <a:off x="2387520" y="14828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 flipH="1">
                    <a:off x="2433240" y="15397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2531880" y="15397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4" name=""/>
                <p:cNvGrpSpPr/>
                <p:nvPr/>
              </p:nvGrpSpPr>
              <p:grpSpPr>
                <a:xfrm>
                  <a:off x="2732040" y="1482840"/>
                  <a:ext cx="216000" cy="215640"/>
                  <a:chOff x="2732040" y="1482840"/>
                  <a:chExt cx="216000" cy="215640"/>
                </a:xfrm>
              </p:grpSpPr>
              <p:sp>
                <p:nvSpPr>
                  <p:cNvPr id="1475" name=""/>
                  <p:cNvSpPr/>
                  <p:nvPr/>
                </p:nvSpPr>
                <p:spPr>
                  <a:xfrm>
                    <a:off x="2732040" y="14828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6" name=""/>
                  <p:cNvSpPr/>
                  <p:nvPr/>
                </p:nvSpPr>
                <p:spPr>
                  <a:xfrm flipH="1">
                    <a:off x="2777760" y="15397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7" name=""/>
                  <p:cNvSpPr/>
                  <p:nvPr/>
                </p:nvSpPr>
                <p:spPr>
                  <a:xfrm>
                    <a:off x="2876400" y="15397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78" name=""/>
                <p:cNvSpPr/>
                <p:nvPr/>
              </p:nvSpPr>
              <p:spPr>
                <a:xfrm>
                  <a:off x="2498760" y="13208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2843280" y="13208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80" name=""/>
                <p:cNvGrpSpPr/>
                <p:nvPr/>
              </p:nvGrpSpPr>
              <p:grpSpPr>
                <a:xfrm>
                  <a:off x="3840120" y="1320840"/>
                  <a:ext cx="560520" cy="1217520"/>
                  <a:chOff x="3840120" y="1320840"/>
                  <a:chExt cx="560520" cy="1217520"/>
                </a:xfrm>
              </p:grpSpPr>
              <p:sp>
                <p:nvSpPr>
                  <p:cNvPr id="1481" name=""/>
                  <p:cNvSpPr/>
                  <p:nvPr/>
                </p:nvSpPr>
                <p:spPr>
                  <a:xfrm>
                    <a:off x="3840120" y="1866960"/>
                    <a:ext cx="216000" cy="271440"/>
                  </a:xfrm>
                  <a:prstGeom prst="rect">
                    <a:avLst/>
                  </a:prstGeom>
                  <a:solidFill>
                    <a:srgbClr val="ccffcc"/>
                  </a:solidFill>
                  <a:ln w="1908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2" name=""/>
                  <p:cNvSpPr/>
                  <p:nvPr/>
                </p:nvSpPr>
                <p:spPr>
                  <a:xfrm>
                    <a:off x="3951360" y="2135160"/>
                    <a:ext cx="0" cy="403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3" name=""/>
                  <p:cNvSpPr/>
                  <p:nvPr/>
                </p:nvSpPr>
                <p:spPr>
                  <a:xfrm>
                    <a:off x="4184640" y="1866960"/>
                    <a:ext cx="216000" cy="271440"/>
                  </a:xfrm>
                  <a:prstGeom prst="rect">
                    <a:avLst/>
                  </a:prstGeom>
                  <a:solidFill>
                    <a:srgbClr val="ccffcc"/>
                  </a:solidFill>
                  <a:ln w="1908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4" name=""/>
                  <p:cNvSpPr/>
                  <p:nvPr/>
                </p:nvSpPr>
                <p:spPr>
                  <a:xfrm>
                    <a:off x="4295880" y="2135160"/>
                    <a:ext cx="0" cy="403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5" name=""/>
                  <p:cNvSpPr/>
                  <p:nvPr/>
                </p:nvSpPr>
                <p:spPr>
                  <a:xfrm>
                    <a:off x="3951360" y="1703520"/>
                    <a:ext cx="0" cy="1587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6" name=""/>
                  <p:cNvSpPr/>
                  <p:nvPr/>
                </p:nvSpPr>
                <p:spPr>
                  <a:xfrm>
                    <a:off x="4295880" y="1703520"/>
                    <a:ext cx="0" cy="1587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87" name=""/>
                  <p:cNvGrpSpPr/>
                  <p:nvPr/>
                </p:nvGrpSpPr>
                <p:grpSpPr>
                  <a:xfrm>
                    <a:off x="3840120" y="1482840"/>
                    <a:ext cx="216000" cy="215640"/>
                    <a:chOff x="3840120" y="1482840"/>
                    <a:chExt cx="216000" cy="215640"/>
                  </a:xfrm>
                </p:grpSpPr>
                <p:sp>
                  <p:nvSpPr>
                    <p:cNvPr id="1488" name=""/>
                    <p:cNvSpPr/>
                    <p:nvPr/>
                  </p:nvSpPr>
                  <p:spPr>
                    <a:xfrm>
                      <a:off x="3840120" y="1482840"/>
                      <a:ext cx="216000" cy="2156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584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9" name=""/>
                    <p:cNvSpPr/>
                    <p:nvPr/>
                  </p:nvSpPr>
                  <p:spPr>
                    <a:xfrm flipH="1">
                      <a:off x="3885840" y="1539720"/>
                      <a:ext cx="21960" cy="8568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0" name=""/>
                    <p:cNvSpPr/>
                    <p:nvPr/>
                  </p:nvSpPr>
                  <p:spPr>
                    <a:xfrm>
                      <a:off x="3984480" y="1539720"/>
                      <a:ext cx="22320" cy="8568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1" name=""/>
                  <p:cNvGrpSpPr/>
                  <p:nvPr/>
                </p:nvGrpSpPr>
                <p:grpSpPr>
                  <a:xfrm>
                    <a:off x="4184640" y="1482840"/>
                    <a:ext cx="216000" cy="215640"/>
                    <a:chOff x="4184640" y="1482840"/>
                    <a:chExt cx="216000" cy="215640"/>
                  </a:xfrm>
                </p:grpSpPr>
                <p:sp>
                  <p:nvSpPr>
                    <p:cNvPr id="1492" name=""/>
                    <p:cNvSpPr/>
                    <p:nvPr/>
                  </p:nvSpPr>
                  <p:spPr>
                    <a:xfrm>
                      <a:off x="4184640" y="1482840"/>
                      <a:ext cx="216000" cy="2156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584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3" name=""/>
                    <p:cNvSpPr/>
                    <p:nvPr/>
                  </p:nvSpPr>
                  <p:spPr>
                    <a:xfrm flipH="1">
                      <a:off x="4230360" y="1539720"/>
                      <a:ext cx="21960" cy="8568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4" name=""/>
                    <p:cNvSpPr/>
                    <p:nvPr/>
                  </p:nvSpPr>
                  <p:spPr>
                    <a:xfrm>
                      <a:off x="4329000" y="1539720"/>
                      <a:ext cx="22320" cy="8568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95" name=""/>
                  <p:cNvSpPr/>
                  <p:nvPr/>
                </p:nvSpPr>
                <p:spPr>
                  <a:xfrm>
                    <a:off x="3951360" y="1320840"/>
                    <a:ext cx="0" cy="1587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6" name=""/>
                  <p:cNvSpPr/>
                  <p:nvPr/>
                </p:nvSpPr>
                <p:spPr>
                  <a:xfrm>
                    <a:off x="4295880" y="1320840"/>
                    <a:ext cx="0" cy="1587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7" name=""/>
                <p:cNvGrpSpPr/>
                <p:nvPr/>
              </p:nvGrpSpPr>
              <p:grpSpPr>
                <a:xfrm>
                  <a:off x="5292720" y="2351160"/>
                  <a:ext cx="264960" cy="360360"/>
                  <a:chOff x="5292720" y="2351160"/>
                  <a:chExt cx="264960" cy="360360"/>
                </a:xfrm>
              </p:grpSpPr>
              <p:sp>
                <p:nvSpPr>
                  <p:cNvPr id="1498" name=""/>
                  <p:cNvSpPr/>
                  <p:nvPr/>
                </p:nvSpPr>
                <p:spPr>
                  <a:xfrm>
                    <a:off x="5298840" y="2351160"/>
                    <a:ext cx="0" cy="360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 flipH="1">
                    <a:off x="5292720" y="2711520"/>
                    <a:ext cx="2649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0" name=""/>
                <p:cNvGrpSpPr/>
                <p:nvPr/>
              </p:nvGrpSpPr>
              <p:grpSpPr>
                <a:xfrm>
                  <a:off x="7196040" y="2532240"/>
                  <a:ext cx="531360" cy="805680"/>
                  <a:chOff x="7196040" y="2532240"/>
                  <a:chExt cx="531360" cy="805680"/>
                </a:xfrm>
              </p:grpSpPr>
              <p:grpSp>
                <p:nvGrpSpPr>
                  <p:cNvPr id="1501" name=""/>
                  <p:cNvGrpSpPr/>
                  <p:nvPr/>
                </p:nvGrpSpPr>
                <p:grpSpPr>
                  <a:xfrm>
                    <a:off x="7196040" y="2532240"/>
                    <a:ext cx="531360" cy="414000"/>
                    <a:chOff x="7196040" y="2532240"/>
                    <a:chExt cx="531360" cy="414000"/>
                  </a:xfrm>
                </p:grpSpPr>
                <p:sp>
                  <p:nvSpPr>
                    <p:cNvPr id="1502" name=""/>
                    <p:cNvSpPr/>
                    <p:nvPr/>
                  </p:nvSpPr>
                  <p:spPr>
                    <a:xfrm>
                      <a:off x="7196040" y="2532240"/>
                      <a:ext cx="531360" cy="414000"/>
                    </a:xfrm>
                    <a:prstGeom prst="rect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3" name=""/>
                    <p:cNvSpPr/>
                    <p:nvPr/>
                  </p:nvSpPr>
                  <p:spPr>
                    <a:xfrm>
                      <a:off x="7215120" y="2563560"/>
                      <a:ext cx="49536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4" name=""/>
                  <p:cNvGrpSpPr/>
                  <p:nvPr/>
                </p:nvGrpSpPr>
                <p:grpSpPr>
                  <a:xfrm>
                    <a:off x="7261200" y="2944800"/>
                    <a:ext cx="412560" cy="393120"/>
                    <a:chOff x="7261200" y="2944800"/>
                    <a:chExt cx="412560" cy="393120"/>
                  </a:xfrm>
                </p:grpSpPr>
                <p:sp>
                  <p:nvSpPr>
                    <p:cNvPr id="1505" name=""/>
                    <p:cNvSpPr/>
                    <p:nvPr/>
                  </p:nvSpPr>
                  <p:spPr>
                    <a:xfrm>
                      <a:off x="7465680" y="2944800"/>
                      <a:ext cx="0" cy="11736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6" name=""/>
                    <p:cNvSpPr/>
                    <p:nvPr/>
                  </p:nvSpPr>
                  <p:spPr>
                    <a:xfrm flipH="1">
                      <a:off x="7264080" y="3052440"/>
                      <a:ext cx="204480" cy="9504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7" name=""/>
                    <p:cNvSpPr/>
                    <p:nvPr/>
                  </p:nvSpPr>
                  <p:spPr>
                    <a:xfrm>
                      <a:off x="7261200" y="3147840"/>
                      <a:ext cx="412560" cy="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8" name=""/>
                    <p:cNvSpPr/>
                    <p:nvPr/>
                  </p:nvSpPr>
                  <p:spPr>
                    <a:xfrm flipH="1">
                      <a:off x="7459560" y="3147840"/>
                      <a:ext cx="207360" cy="9324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440" bIns="46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9" name=""/>
                    <p:cNvSpPr/>
                    <p:nvPr/>
                  </p:nvSpPr>
                  <p:spPr>
                    <a:xfrm>
                      <a:off x="7468920" y="3231720"/>
                      <a:ext cx="0" cy="10620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510" name=""/>
                <p:cNvGrpSpPr/>
                <p:nvPr/>
              </p:nvGrpSpPr>
              <p:grpSpPr>
                <a:xfrm>
                  <a:off x="8007480" y="1789200"/>
                  <a:ext cx="360360" cy="360360"/>
                  <a:chOff x="8007480" y="1789200"/>
                  <a:chExt cx="360360" cy="360360"/>
                </a:xfrm>
              </p:grpSpPr>
              <p:sp>
                <p:nvSpPr>
                  <p:cNvPr id="1511" name=""/>
                  <p:cNvSpPr/>
                  <p:nvPr/>
                </p:nvSpPr>
                <p:spPr>
                  <a:xfrm>
                    <a:off x="8080560" y="1862280"/>
                    <a:ext cx="215640" cy="216000"/>
                  </a:xfrm>
                  <a:prstGeom prst="ellipse">
                    <a:avLst/>
                  </a:prstGeom>
                  <a:noFill/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"/>
                  <p:cNvSpPr/>
                  <p:nvPr/>
                </p:nvSpPr>
                <p:spPr>
                  <a:xfrm>
                    <a:off x="8007480" y="1789200"/>
                    <a:ext cx="360360" cy="360360"/>
                  </a:xfrm>
                  <a:prstGeom prst="ellipse">
                    <a:avLst/>
                  </a:prstGeom>
                  <a:noFill/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13" name=""/>
                <p:cNvSpPr/>
                <p:nvPr/>
              </p:nvSpPr>
              <p:spPr>
                <a:xfrm>
                  <a:off x="7454880" y="1971720"/>
                  <a:ext cx="460440" cy="0"/>
                </a:xfrm>
                <a:prstGeom prst="line">
                  <a:avLst/>
                </a:prstGeom>
                <a:ln w="50760">
                  <a:solidFill>
                    <a:srgbClr val="8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7445520" y="1943280"/>
                  <a:ext cx="0" cy="5760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988920" y="4254480"/>
                  <a:ext cx="7277040" cy="0"/>
                </a:xfrm>
                <a:prstGeom prst="line">
                  <a:avLst/>
                </a:prstGeom>
                <a:ln w="50760">
                  <a:solidFill>
                    <a:srgbClr val="8000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917640" y="4791240"/>
                  <a:ext cx="7348320" cy="0"/>
                </a:xfrm>
                <a:prstGeom prst="line">
                  <a:avLst/>
                </a:prstGeom>
                <a:ln w="50760">
                  <a:solidFill>
                    <a:srgbClr val="8000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1133640" y="3095640"/>
                  <a:ext cx="720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140 ba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1147680" y="3998880"/>
                  <a:ext cx="576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35ba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1147680" y="4540320"/>
                  <a:ext cx="576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13ba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988920" y="5797440"/>
                  <a:ext cx="7348680" cy="0"/>
                </a:xfrm>
                <a:prstGeom prst="line">
                  <a:avLst/>
                </a:prstGeom>
                <a:ln w="50760">
                  <a:solidFill>
                    <a:srgbClr val="8000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>
                  <a:off x="1147680" y="5538960"/>
                  <a:ext cx="576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6ba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4302000" y="6446880"/>
                  <a:ext cx="4035600" cy="0"/>
                </a:xfrm>
                <a:prstGeom prst="line">
                  <a:avLst/>
                </a:prstGeom>
                <a:ln w="507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988920" y="6446880"/>
                  <a:ext cx="2952720" cy="0"/>
                </a:xfrm>
                <a:prstGeom prst="line">
                  <a:avLst/>
                </a:prstGeom>
                <a:ln w="50760">
                  <a:solidFill>
                    <a:srgbClr val="9933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24" name=""/>
                <p:cNvGrpSpPr/>
                <p:nvPr/>
              </p:nvGrpSpPr>
              <p:grpSpPr>
                <a:xfrm>
                  <a:off x="3944520" y="6308640"/>
                  <a:ext cx="359280" cy="269640"/>
                  <a:chOff x="3944520" y="6308640"/>
                  <a:chExt cx="359280" cy="269640"/>
                </a:xfrm>
              </p:grpSpPr>
              <p:sp>
                <p:nvSpPr>
                  <p:cNvPr id="1525" name=""/>
                  <p:cNvSpPr/>
                  <p:nvPr/>
                </p:nvSpPr>
                <p:spPr>
                  <a:xfrm>
                    <a:off x="3944880" y="6308640"/>
                    <a:ext cx="358920" cy="269640"/>
                  </a:xfrm>
                  <a:prstGeom prst="rect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 flipH="1">
                    <a:off x="3944520" y="6308640"/>
                    <a:ext cx="358920" cy="26496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7" name=""/>
                <p:cNvSpPr/>
                <p:nvPr/>
              </p:nvSpPr>
              <p:spPr>
                <a:xfrm>
                  <a:off x="1147680" y="6159600"/>
                  <a:ext cx="15130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ermoficare urban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485640" y="1957320"/>
                  <a:ext cx="935280" cy="322200"/>
                </a:xfrm>
                <a:prstGeom prst="rect">
                  <a:avLst/>
                </a:prstGeom>
                <a:solidFill>
                  <a:srgbClr val="ffcc99"/>
                </a:solidFill>
                <a:ln w="255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29" name=""/>
                <p:cNvGrpSpPr/>
                <p:nvPr/>
              </p:nvGrpSpPr>
              <p:grpSpPr>
                <a:xfrm>
                  <a:off x="4129200" y="3278160"/>
                  <a:ext cx="891720" cy="3133800"/>
                  <a:chOff x="4129200" y="3278160"/>
                  <a:chExt cx="891720" cy="3133800"/>
                </a:xfrm>
              </p:grpSpPr>
              <p:grpSp>
                <p:nvGrpSpPr>
                  <p:cNvPr id="1530" name=""/>
                  <p:cNvGrpSpPr/>
                  <p:nvPr/>
                </p:nvGrpSpPr>
                <p:grpSpPr>
                  <a:xfrm>
                    <a:off x="4129200" y="3278160"/>
                    <a:ext cx="891720" cy="3133800"/>
                    <a:chOff x="4129200" y="3278160"/>
                    <a:chExt cx="891720" cy="3133800"/>
                  </a:xfrm>
                </p:grpSpPr>
                <p:sp>
                  <p:nvSpPr>
                    <p:cNvPr id="1531" name=""/>
                    <p:cNvSpPr/>
                    <p:nvPr/>
                  </p:nvSpPr>
                  <p:spPr>
                    <a:xfrm flipV="1">
                      <a:off x="4402080" y="3906720"/>
                      <a:ext cx="0" cy="26964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532" name=""/>
                    <p:cNvGrpSpPr/>
                    <p:nvPr/>
                  </p:nvGrpSpPr>
                  <p:grpSpPr>
                    <a:xfrm>
                      <a:off x="4129200" y="3278160"/>
                      <a:ext cx="891720" cy="685440"/>
                      <a:chOff x="4129200" y="3278160"/>
                      <a:chExt cx="891720" cy="685440"/>
                    </a:xfrm>
                  </p:grpSpPr>
                  <p:sp>
                    <p:nvSpPr>
                      <p:cNvPr id="1533" name=""/>
                      <p:cNvSpPr/>
                      <p:nvPr/>
                    </p:nvSpPr>
                    <p:spPr>
                      <a:xfrm>
                        <a:off x="4698720" y="3745080"/>
                        <a:ext cx="1029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4" name=""/>
                      <p:cNvSpPr/>
                      <p:nvPr/>
                    </p:nvSpPr>
                    <p:spPr>
                      <a:xfrm>
                        <a:off x="4814640" y="3652920"/>
                        <a:ext cx="206280" cy="190440"/>
                      </a:xfrm>
                      <a:prstGeom prst="ellipse">
                        <a:avLst/>
                      </a:prstGeom>
                      <a:solidFill>
                        <a:srgbClr val="ffcc99"/>
                      </a:solidFill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535" name=""/>
                      <p:cNvGrpSpPr/>
                      <p:nvPr/>
                    </p:nvGrpSpPr>
                    <p:grpSpPr>
                      <a:xfrm>
                        <a:off x="4129200" y="3278160"/>
                        <a:ext cx="579600" cy="685440"/>
                        <a:chOff x="4129200" y="3278160"/>
                        <a:chExt cx="579600" cy="685440"/>
                      </a:xfrm>
                    </p:grpSpPr>
                    <p:grpSp>
                      <p:nvGrpSpPr>
                        <p:cNvPr id="1536" name=""/>
                        <p:cNvGrpSpPr/>
                        <p:nvPr/>
                      </p:nvGrpSpPr>
                      <p:grpSpPr>
                        <a:xfrm>
                          <a:off x="4133520" y="3531960"/>
                          <a:ext cx="575280" cy="431640"/>
                          <a:chOff x="4133520" y="3531960"/>
                          <a:chExt cx="575280" cy="431640"/>
                        </a:xfrm>
                      </p:grpSpPr>
                      <p:sp>
                        <p:nvSpPr>
                          <p:cNvPr id="1537" name=""/>
                          <p:cNvSpPr/>
                          <p:nvPr/>
                        </p:nvSpPr>
                        <p:spPr>
                          <a:xfrm flipV="1">
                            <a:off x="4133520" y="3640320"/>
                            <a:ext cx="0" cy="21420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8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38" name=""/>
                          <p:cNvSpPr/>
                          <p:nvPr/>
                        </p:nvSpPr>
                        <p:spPr>
                          <a:xfrm flipV="1">
                            <a:off x="4133520" y="3531960"/>
                            <a:ext cx="575280" cy="10836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8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39" name=""/>
                          <p:cNvSpPr/>
                          <p:nvPr/>
                        </p:nvSpPr>
                        <p:spPr>
                          <a:xfrm>
                            <a:off x="4133520" y="3855240"/>
                            <a:ext cx="575280" cy="10836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8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40" name=""/>
                          <p:cNvSpPr/>
                          <p:nvPr/>
                        </p:nvSpPr>
                        <p:spPr>
                          <a:xfrm>
                            <a:off x="4708800" y="3532320"/>
                            <a:ext cx="0" cy="43128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8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541" name=""/>
                        <p:cNvSpPr/>
                        <p:nvPr/>
                      </p:nvSpPr>
                      <p:spPr>
                        <a:xfrm>
                          <a:off x="4129200" y="3278160"/>
                          <a:ext cx="0" cy="38412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542" name=""/>
                    <p:cNvSpPr/>
                    <p:nvPr/>
                  </p:nvSpPr>
                  <p:spPr>
                    <a:xfrm>
                      <a:off x="4219560" y="3863880"/>
                      <a:ext cx="0" cy="35100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  <a:tailEnd len="lg" type="stealth" w="lg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3" name=""/>
                    <p:cNvSpPr/>
                    <p:nvPr/>
                  </p:nvSpPr>
                  <p:spPr>
                    <a:xfrm>
                      <a:off x="4402080" y="4321080"/>
                      <a:ext cx="0" cy="39708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  <a:tailEnd len="lg" type="stealth" w="lg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4" name=""/>
                    <p:cNvSpPr/>
                    <p:nvPr/>
                  </p:nvSpPr>
                  <p:spPr>
                    <a:xfrm flipV="1">
                      <a:off x="4711680" y="3925440"/>
                      <a:ext cx="0" cy="25092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5" name=""/>
                    <p:cNvSpPr/>
                    <p:nvPr/>
                  </p:nvSpPr>
                  <p:spPr>
                    <a:xfrm>
                      <a:off x="4711680" y="4321080"/>
                      <a:ext cx="0" cy="39708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6" name=""/>
                    <p:cNvSpPr/>
                    <p:nvPr/>
                  </p:nvSpPr>
                  <p:spPr>
                    <a:xfrm>
                      <a:off x="4711680" y="5870520"/>
                      <a:ext cx="0" cy="54144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  <a:tailEnd len="lg" type="stealth" w="lg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7" name=""/>
                    <p:cNvSpPr/>
                    <p:nvPr/>
                  </p:nvSpPr>
                  <p:spPr>
                    <a:xfrm>
                      <a:off x="4711680" y="4862520"/>
                      <a:ext cx="0" cy="86364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48" name=""/>
                  <p:cNvSpPr/>
                  <p:nvPr/>
                </p:nvSpPr>
                <p:spPr>
                  <a:xfrm>
                    <a:off x="4167360" y="3610080"/>
                    <a:ext cx="503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TA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9" name=""/>
                <p:cNvGrpSpPr/>
                <p:nvPr/>
              </p:nvGrpSpPr>
              <p:grpSpPr>
                <a:xfrm>
                  <a:off x="5842080" y="3278160"/>
                  <a:ext cx="891720" cy="3133800"/>
                  <a:chOff x="5842080" y="3278160"/>
                  <a:chExt cx="891720" cy="3133800"/>
                </a:xfrm>
              </p:grpSpPr>
              <p:grpSp>
                <p:nvGrpSpPr>
                  <p:cNvPr id="1550" name=""/>
                  <p:cNvGrpSpPr/>
                  <p:nvPr/>
                </p:nvGrpSpPr>
                <p:grpSpPr>
                  <a:xfrm>
                    <a:off x="5842080" y="3278160"/>
                    <a:ext cx="891720" cy="3133800"/>
                    <a:chOff x="5842080" y="3278160"/>
                    <a:chExt cx="891720" cy="3133800"/>
                  </a:xfrm>
                </p:grpSpPr>
                <p:sp>
                  <p:nvSpPr>
                    <p:cNvPr id="1551" name=""/>
                    <p:cNvSpPr/>
                    <p:nvPr/>
                  </p:nvSpPr>
                  <p:spPr>
                    <a:xfrm flipV="1">
                      <a:off x="6114960" y="3906720"/>
                      <a:ext cx="0" cy="26964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552" name=""/>
                    <p:cNvGrpSpPr/>
                    <p:nvPr/>
                  </p:nvGrpSpPr>
                  <p:grpSpPr>
                    <a:xfrm>
                      <a:off x="5842080" y="3278160"/>
                      <a:ext cx="891720" cy="685440"/>
                      <a:chOff x="5842080" y="3278160"/>
                      <a:chExt cx="891720" cy="685440"/>
                    </a:xfrm>
                  </p:grpSpPr>
                  <p:sp>
                    <p:nvSpPr>
                      <p:cNvPr id="1553" name=""/>
                      <p:cNvSpPr/>
                      <p:nvPr/>
                    </p:nvSpPr>
                    <p:spPr>
                      <a:xfrm>
                        <a:off x="6411600" y="3745080"/>
                        <a:ext cx="1029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4" name=""/>
                      <p:cNvSpPr/>
                      <p:nvPr/>
                    </p:nvSpPr>
                    <p:spPr>
                      <a:xfrm>
                        <a:off x="6527520" y="3652920"/>
                        <a:ext cx="206280" cy="190440"/>
                      </a:xfrm>
                      <a:prstGeom prst="ellipse">
                        <a:avLst/>
                      </a:prstGeom>
                      <a:solidFill>
                        <a:srgbClr val="ffcc99"/>
                      </a:solidFill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555" name=""/>
                      <p:cNvGrpSpPr/>
                      <p:nvPr/>
                    </p:nvGrpSpPr>
                    <p:grpSpPr>
                      <a:xfrm>
                        <a:off x="5842080" y="3278160"/>
                        <a:ext cx="579600" cy="685440"/>
                        <a:chOff x="5842080" y="3278160"/>
                        <a:chExt cx="579600" cy="685440"/>
                      </a:xfrm>
                    </p:grpSpPr>
                    <p:grpSp>
                      <p:nvGrpSpPr>
                        <p:cNvPr id="1556" name=""/>
                        <p:cNvGrpSpPr/>
                        <p:nvPr/>
                      </p:nvGrpSpPr>
                      <p:grpSpPr>
                        <a:xfrm>
                          <a:off x="5846400" y="3531960"/>
                          <a:ext cx="575280" cy="431640"/>
                          <a:chOff x="5846400" y="3531960"/>
                          <a:chExt cx="575280" cy="431640"/>
                        </a:xfrm>
                      </p:grpSpPr>
                      <p:sp>
                        <p:nvSpPr>
                          <p:cNvPr id="1557" name=""/>
                          <p:cNvSpPr/>
                          <p:nvPr/>
                        </p:nvSpPr>
                        <p:spPr>
                          <a:xfrm flipV="1">
                            <a:off x="5846400" y="3640320"/>
                            <a:ext cx="0" cy="21420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8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58" name=""/>
                          <p:cNvSpPr/>
                          <p:nvPr/>
                        </p:nvSpPr>
                        <p:spPr>
                          <a:xfrm flipV="1">
                            <a:off x="5846400" y="3531960"/>
                            <a:ext cx="575280" cy="10836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8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59" name=""/>
                          <p:cNvSpPr/>
                          <p:nvPr/>
                        </p:nvSpPr>
                        <p:spPr>
                          <a:xfrm>
                            <a:off x="5846400" y="3855240"/>
                            <a:ext cx="575280" cy="10836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8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60" name=""/>
                          <p:cNvSpPr/>
                          <p:nvPr/>
                        </p:nvSpPr>
                        <p:spPr>
                          <a:xfrm>
                            <a:off x="6421680" y="3532320"/>
                            <a:ext cx="0" cy="43128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8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561" name=""/>
                        <p:cNvSpPr/>
                        <p:nvPr/>
                      </p:nvSpPr>
                      <p:spPr>
                        <a:xfrm>
                          <a:off x="5842080" y="3278160"/>
                          <a:ext cx="0" cy="38412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562" name=""/>
                    <p:cNvSpPr/>
                    <p:nvPr/>
                  </p:nvSpPr>
                  <p:spPr>
                    <a:xfrm>
                      <a:off x="5932440" y="3863880"/>
                      <a:ext cx="0" cy="35100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  <a:tailEnd len="lg" type="stealth" w="lg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3" name=""/>
                    <p:cNvSpPr/>
                    <p:nvPr/>
                  </p:nvSpPr>
                  <p:spPr>
                    <a:xfrm>
                      <a:off x="6114960" y="4321080"/>
                      <a:ext cx="0" cy="39708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  <a:tailEnd len="lg" type="stealth" w="lg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4" name=""/>
                    <p:cNvSpPr/>
                    <p:nvPr/>
                  </p:nvSpPr>
                  <p:spPr>
                    <a:xfrm flipV="1">
                      <a:off x="6424560" y="3925440"/>
                      <a:ext cx="0" cy="25092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5" name=""/>
                    <p:cNvSpPr/>
                    <p:nvPr/>
                  </p:nvSpPr>
                  <p:spPr>
                    <a:xfrm>
                      <a:off x="6424560" y="4321080"/>
                      <a:ext cx="0" cy="39708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6" name=""/>
                    <p:cNvSpPr/>
                    <p:nvPr/>
                  </p:nvSpPr>
                  <p:spPr>
                    <a:xfrm>
                      <a:off x="6424560" y="5870520"/>
                      <a:ext cx="0" cy="54144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  <a:tailEnd len="lg" type="stealth" w="lg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7" name=""/>
                    <p:cNvSpPr/>
                    <p:nvPr/>
                  </p:nvSpPr>
                  <p:spPr>
                    <a:xfrm>
                      <a:off x="6424560" y="4862520"/>
                      <a:ext cx="0" cy="86364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68" name=""/>
                  <p:cNvSpPr/>
                  <p:nvPr/>
                </p:nvSpPr>
                <p:spPr>
                  <a:xfrm>
                    <a:off x="5886360" y="3610080"/>
                    <a:ext cx="503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TA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9" name=""/>
                <p:cNvSpPr/>
                <p:nvPr/>
              </p:nvSpPr>
              <p:spPr>
                <a:xfrm>
                  <a:off x="220680" y="1652760"/>
                  <a:ext cx="20304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6600"/>
                      </a:solidFill>
                      <a:latin typeface="Times New Roman"/>
                    </a:rPr>
                    <a:t>Inchidere ecologica depozi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7920000" y="1557360"/>
                  <a:ext cx="576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Cos 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71" name=""/>
                <p:cNvGrpSpPr/>
                <p:nvPr/>
              </p:nvGrpSpPr>
              <p:grpSpPr>
                <a:xfrm>
                  <a:off x="1494000" y="3332160"/>
                  <a:ext cx="671040" cy="882720"/>
                  <a:chOff x="1494000" y="3332160"/>
                  <a:chExt cx="671040" cy="882720"/>
                </a:xfrm>
              </p:grpSpPr>
              <p:sp>
                <p:nvSpPr>
                  <p:cNvPr id="1572" name=""/>
                  <p:cNvSpPr/>
                  <p:nvPr/>
                </p:nvSpPr>
                <p:spPr>
                  <a:xfrm>
                    <a:off x="1852560" y="3744720"/>
                    <a:ext cx="10296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3" name=""/>
                  <p:cNvSpPr/>
                  <p:nvPr/>
                </p:nvSpPr>
                <p:spPr>
                  <a:xfrm>
                    <a:off x="1958760" y="3652560"/>
                    <a:ext cx="206280" cy="190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74" name=""/>
                  <p:cNvGrpSpPr/>
                  <p:nvPr/>
                </p:nvGrpSpPr>
                <p:grpSpPr>
                  <a:xfrm>
                    <a:off x="1494000" y="3531600"/>
                    <a:ext cx="364680" cy="432000"/>
                    <a:chOff x="1494000" y="3531600"/>
                    <a:chExt cx="364680" cy="432000"/>
                  </a:xfrm>
                </p:grpSpPr>
                <p:sp>
                  <p:nvSpPr>
                    <p:cNvPr id="1575" name=""/>
                    <p:cNvSpPr/>
                    <p:nvPr/>
                  </p:nvSpPr>
                  <p:spPr>
                    <a:xfrm flipV="1">
                      <a:off x="1494000" y="3639960"/>
                      <a:ext cx="0" cy="21420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6" name=""/>
                    <p:cNvSpPr/>
                    <p:nvPr/>
                  </p:nvSpPr>
                  <p:spPr>
                    <a:xfrm flipV="1">
                      <a:off x="1494000" y="3531600"/>
                      <a:ext cx="364680" cy="108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7" name=""/>
                    <p:cNvSpPr/>
                    <p:nvPr/>
                  </p:nvSpPr>
                  <p:spPr>
                    <a:xfrm>
                      <a:off x="1494000" y="3854880"/>
                      <a:ext cx="364680" cy="108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8" name=""/>
                    <p:cNvSpPr/>
                    <p:nvPr/>
                  </p:nvSpPr>
                  <p:spPr>
                    <a:xfrm>
                      <a:off x="1858680" y="3531960"/>
                      <a:ext cx="0" cy="431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79" name=""/>
                  <p:cNvSpPr/>
                  <p:nvPr/>
                </p:nvSpPr>
                <p:spPr>
                  <a:xfrm>
                    <a:off x="1494000" y="3332160"/>
                    <a:ext cx="0" cy="3301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0" name=""/>
                  <p:cNvSpPr/>
                  <p:nvPr/>
                </p:nvSpPr>
                <p:spPr>
                  <a:xfrm>
                    <a:off x="1860480" y="38638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81" name=""/>
                <p:cNvSpPr/>
                <p:nvPr/>
              </p:nvSpPr>
              <p:spPr>
                <a:xfrm>
                  <a:off x="143496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8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82" name=""/>
                <p:cNvGrpSpPr/>
                <p:nvPr/>
              </p:nvGrpSpPr>
              <p:grpSpPr>
                <a:xfrm>
                  <a:off x="6789600" y="4805280"/>
                  <a:ext cx="752760" cy="975240"/>
                  <a:chOff x="6789600" y="4805280"/>
                  <a:chExt cx="752760" cy="975240"/>
                </a:xfrm>
              </p:grpSpPr>
              <p:grpSp>
                <p:nvGrpSpPr>
                  <p:cNvPr id="1583" name=""/>
                  <p:cNvGrpSpPr/>
                  <p:nvPr/>
                </p:nvGrpSpPr>
                <p:grpSpPr>
                  <a:xfrm>
                    <a:off x="6870600" y="4805280"/>
                    <a:ext cx="671760" cy="975240"/>
                    <a:chOff x="6870600" y="4805280"/>
                    <a:chExt cx="671760" cy="975240"/>
                  </a:xfrm>
                </p:grpSpPr>
                <p:sp>
                  <p:nvSpPr>
                    <p:cNvPr id="1584" name=""/>
                    <p:cNvSpPr/>
                    <p:nvPr/>
                  </p:nvSpPr>
                  <p:spPr>
                    <a:xfrm>
                      <a:off x="7229520" y="5261400"/>
                      <a:ext cx="10332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5" name=""/>
                    <p:cNvSpPr/>
                    <p:nvPr/>
                  </p:nvSpPr>
                  <p:spPr>
                    <a:xfrm>
                      <a:off x="7335720" y="5159160"/>
                      <a:ext cx="206640" cy="2106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586" name=""/>
                    <p:cNvGrpSpPr/>
                    <p:nvPr/>
                  </p:nvGrpSpPr>
                  <p:grpSpPr>
                    <a:xfrm>
                      <a:off x="6870600" y="5025600"/>
                      <a:ext cx="365040" cy="477360"/>
                      <a:chOff x="6870600" y="5025600"/>
                      <a:chExt cx="365040" cy="477360"/>
                    </a:xfrm>
                  </p:grpSpPr>
                  <p:sp>
                    <p:nvSpPr>
                      <p:cNvPr id="1587" name=""/>
                      <p:cNvSpPr/>
                      <p:nvPr/>
                    </p:nvSpPr>
                    <p:spPr>
                      <a:xfrm flipV="1">
                        <a:off x="6870600" y="5145840"/>
                        <a:ext cx="0" cy="23688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8" name=""/>
                      <p:cNvSpPr/>
                      <p:nvPr/>
                    </p:nvSpPr>
                    <p:spPr>
                      <a:xfrm flipV="1">
                        <a:off x="6870600" y="5025600"/>
                        <a:ext cx="365040" cy="11988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9" name=""/>
                      <p:cNvSpPr/>
                      <p:nvPr/>
                    </p:nvSpPr>
                    <p:spPr>
                      <a:xfrm>
                        <a:off x="6870600" y="5383080"/>
                        <a:ext cx="365040" cy="11988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0" name=""/>
                      <p:cNvSpPr/>
                      <p:nvPr/>
                    </p:nvSpPr>
                    <p:spPr>
                      <a:xfrm>
                        <a:off x="7235640" y="5025960"/>
                        <a:ext cx="0" cy="47700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591" name=""/>
                    <p:cNvSpPr/>
                    <p:nvPr/>
                  </p:nvSpPr>
                  <p:spPr>
                    <a:xfrm>
                      <a:off x="6870600" y="4805280"/>
                      <a:ext cx="0" cy="3646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2" name=""/>
                    <p:cNvSpPr/>
                    <p:nvPr/>
                  </p:nvSpPr>
                  <p:spPr>
                    <a:xfrm>
                      <a:off x="7237440" y="5392800"/>
                      <a:ext cx="0" cy="3877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  <a:tailEnd len="lg" type="stealth" w="lg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93" name=""/>
                  <p:cNvSpPr/>
                  <p:nvPr/>
                </p:nvSpPr>
                <p:spPr>
                  <a:xfrm>
                    <a:off x="6789600" y="5112360"/>
                    <a:ext cx="503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TA9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4" name=""/>
                <p:cNvSpPr/>
                <p:nvPr/>
              </p:nvSpPr>
              <p:spPr>
                <a:xfrm flipH="1">
                  <a:off x="1193400" y="1301760"/>
                  <a:ext cx="4838760" cy="0"/>
                </a:xfrm>
                <a:prstGeom prst="line">
                  <a:avLst/>
                </a:prstGeom>
                <a:ln w="50760">
                  <a:solidFill>
                    <a:srgbClr val="0066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95" name=""/>
                <p:cNvGrpSpPr/>
                <p:nvPr/>
              </p:nvGrpSpPr>
              <p:grpSpPr>
                <a:xfrm>
                  <a:off x="825480" y="1114560"/>
                  <a:ext cx="360360" cy="360360"/>
                  <a:chOff x="825480" y="1114560"/>
                  <a:chExt cx="360360" cy="360360"/>
                </a:xfrm>
              </p:grpSpPr>
              <p:sp>
                <p:nvSpPr>
                  <p:cNvPr id="1596" name=""/>
                  <p:cNvSpPr/>
                  <p:nvPr/>
                </p:nvSpPr>
                <p:spPr>
                  <a:xfrm>
                    <a:off x="898560" y="1187640"/>
                    <a:ext cx="215640" cy="216000"/>
                  </a:xfrm>
                  <a:prstGeom prst="ellipse">
                    <a:avLst/>
                  </a:prstGeom>
                  <a:noFill/>
                  <a:ln w="1584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>
                    <a:off x="825480" y="1114560"/>
                    <a:ext cx="360360" cy="360360"/>
                  </a:xfrm>
                  <a:prstGeom prst="ellipse">
                    <a:avLst/>
                  </a:prstGeom>
                  <a:noFill/>
                  <a:ln w="1584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8" name=""/>
                <p:cNvSpPr/>
                <p:nvPr/>
              </p:nvSpPr>
              <p:spPr>
                <a:xfrm>
                  <a:off x="415800" y="836640"/>
                  <a:ext cx="10810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6600"/>
                      </a:solidFill>
                      <a:latin typeface="Times New Roman"/>
                    </a:rPr>
                    <a:t>Cos repara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485640" y="2413080"/>
                  <a:ext cx="935280" cy="322200"/>
                </a:xfrm>
                <a:prstGeom prst="rect">
                  <a:avLst/>
                </a:prstGeom>
                <a:solidFill>
                  <a:srgbClr val="ccffcc"/>
                </a:solidFill>
                <a:ln w="255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390600" y="2695680"/>
                  <a:ext cx="16826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6600"/>
                      </a:solidFill>
                      <a:latin typeface="Times New Roman"/>
                    </a:rPr>
                    <a:t>Depozite noi de cenus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 rot="16200000">
                  <a:off x="-357120" y="4645080"/>
                  <a:ext cx="21654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993300"/>
                      </a:solidFill>
                      <a:latin typeface="Times New Roman"/>
                    </a:rPr>
                    <a:t>Consumatorii industriali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2395440" y="1866960"/>
                  <a:ext cx="216000" cy="271440"/>
                </a:xfrm>
                <a:prstGeom prst="rect">
                  <a:avLst/>
                </a:prstGeom>
                <a:solidFill>
                  <a:srgbClr val="ccffcc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2739960" y="1866960"/>
                  <a:ext cx="216000" cy="271440"/>
                </a:xfrm>
                <a:prstGeom prst="rect">
                  <a:avLst/>
                </a:prstGeom>
                <a:solidFill>
                  <a:srgbClr val="ccffcc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 flipH="1">
                  <a:off x="1496880" y="2373480"/>
                  <a:ext cx="912960" cy="0"/>
                </a:xfrm>
                <a:prstGeom prst="line">
                  <a:avLst/>
                </a:prstGeom>
                <a:ln w="50760">
                  <a:solidFill>
                    <a:srgbClr val="0066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05" name=""/>
                <p:cNvGrpSpPr/>
                <p:nvPr/>
              </p:nvGrpSpPr>
              <p:grpSpPr>
                <a:xfrm>
                  <a:off x="2398680" y="2532240"/>
                  <a:ext cx="531720" cy="414000"/>
                  <a:chOff x="2398680" y="2532240"/>
                  <a:chExt cx="531720" cy="414000"/>
                </a:xfrm>
              </p:grpSpPr>
              <p:sp>
                <p:nvSpPr>
                  <p:cNvPr id="1606" name=""/>
                  <p:cNvSpPr/>
                  <p:nvPr/>
                </p:nvSpPr>
                <p:spPr>
                  <a:xfrm>
                    <a:off x="2398680" y="2532240"/>
                    <a:ext cx="531720" cy="414000"/>
                  </a:xfrm>
                  <a:prstGeom prst="rect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>
                    <a:off x="2414520" y="256392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C7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8" name=""/>
                <p:cNvGrpSpPr/>
                <p:nvPr/>
              </p:nvGrpSpPr>
              <p:grpSpPr>
                <a:xfrm>
                  <a:off x="2463840" y="2944800"/>
                  <a:ext cx="412560" cy="393840"/>
                  <a:chOff x="2463840" y="2944800"/>
                  <a:chExt cx="412560" cy="393840"/>
                </a:xfrm>
              </p:grpSpPr>
              <p:sp>
                <p:nvSpPr>
                  <p:cNvPr id="1609" name=""/>
                  <p:cNvSpPr/>
                  <p:nvPr/>
                </p:nvSpPr>
                <p:spPr>
                  <a:xfrm>
                    <a:off x="2668320" y="2944800"/>
                    <a:ext cx="0" cy="1177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0" name=""/>
                  <p:cNvSpPr/>
                  <p:nvPr/>
                </p:nvSpPr>
                <p:spPr>
                  <a:xfrm flipH="1">
                    <a:off x="2466720" y="3052800"/>
                    <a:ext cx="204480" cy="954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1" name=""/>
                  <p:cNvSpPr/>
                  <p:nvPr/>
                </p:nvSpPr>
                <p:spPr>
                  <a:xfrm>
                    <a:off x="2463840" y="314820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2" name=""/>
                  <p:cNvSpPr/>
                  <p:nvPr/>
                </p:nvSpPr>
                <p:spPr>
                  <a:xfrm flipH="1">
                    <a:off x="2662200" y="3148200"/>
                    <a:ext cx="207360" cy="936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3" name=""/>
                  <p:cNvSpPr/>
                  <p:nvPr/>
                </p:nvSpPr>
                <p:spPr>
                  <a:xfrm>
                    <a:off x="2671560" y="3232080"/>
                    <a:ext cx="0" cy="1065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4" name=""/>
                <p:cNvGrpSpPr/>
                <p:nvPr/>
              </p:nvGrpSpPr>
              <p:grpSpPr>
                <a:xfrm>
                  <a:off x="2124000" y="2351160"/>
                  <a:ext cx="264960" cy="360360"/>
                  <a:chOff x="2124000" y="2351160"/>
                  <a:chExt cx="264960" cy="360360"/>
                </a:xfrm>
              </p:grpSpPr>
              <p:sp>
                <p:nvSpPr>
                  <p:cNvPr id="1615" name=""/>
                  <p:cNvSpPr/>
                  <p:nvPr/>
                </p:nvSpPr>
                <p:spPr>
                  <a:xfrm>
                    <a:off x="2130120" y="2351160"/>
                    <a:ext cx="0" cy="360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6" name=""/>
                  <p:cNvSpPr/>
                  <p:nvPr/>
                </p:nvSpPr>
                <p:spPr>
                  <a:xfrm flipH="1">
                    <a:off x="2124000" y="2711520"/>
                    <a:ext cx="2649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7" name=""/>
                <p:cNvSpPr/>
                <p:nvPr/>
              </p:nvSpPr>
              <p:spPr>
                <a:xfrm flipH="1">
                  <a:off x="2558880" y="2363760"/>
                  <a:ext cx="216000" cy="0"/>
                </a:xfrm>
                <a:prstGeom prst="line">
                  <a:avLst/>
                </a:prstGeom>
                <a:ln w="507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 flipH="1">
                  <a:off x="2919240" y="2373480"/>
                  <a:ext cx="935280" cy="0"/>
                </a:xfrm>
                <a:prstGeom prst="line">
                  <a:avLst/>
                </a:prstGeom>
                <a:ln w="507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 flipH="1">
                  <a:off x="3998880" y="2373480"/>
                  <a:ext cx="216000" cy="0"/>
                </a:xfrm>
                <a:prstGeom prst="line">
                  <a:avLst/>
                </a:prstGeom>
                <a:ln w="507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 flipH="1">
                  <a:off x="4359240" y="2373480"/>
                  <a:ext cx="944640" cy="0"/>
                </a:xfrm>
                <a:prstGeom prst="line">
                  <a:avLst/>
                </a:prstGeom>
                <a:ln w="507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21" name=""/>
                <p:cNvGrpSpPr/>
                <p:nvPr/>
              </p:nvGrpSpPr>
              <p:grpSpPr>
                <a:xfrm>
                  <a:off x="3325680" y="6308640"/>
                  <a:ext cx="258840" cy="258840"/>
                  <a:chOff x="3325680" y="6308640"/>
                  <a:chExt cx="258840" cy="258840"/>
                </a:xfrm>
              </p:grpSpPr>
              <p:sp>
                <p:nvSpPr>
                  <p:cNvPr id="1622" name=""/>
                  <p:cNvSpPr/>
                  <p:nvPr/>
                </p:nvSpPr>
                <p:spPr>
                  <a:xfrm>
                    <a:off x="3325680" y="6308640"/>
                    <a:ext cx="258840" cy="25884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3" name=""/>
                  <p:cNvSpPr/>
                  <p:nvPr/>
                </p:nvSpPr>
                <p:spPr>
                  <a:xfrm flipH="1">
                    <a:off x="3373560" y="6439680"/>
                    <a:ext cx="156240" cy="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4" name=""/>
                <p:cNvGrpSpPr/>
                <p:nvPr/>
              </p:nvGrpSpPr>
              <p:grpSpPr>
                <a:xfrm>
                  <a:off x="3584520" y="2351160"/>
                  <a:ext cx="806400" cy="987480"/>
                  <a:chOff x="3584520" y="2351160"/>
                  <a:chExt cx="806400" cy="987480"/>
                </a:xfrm>
              </p:grpSpPr>
              <p:grpSp>
                <p:nvGrpSpPr>
                  <p:cNvPr id="1625" name=""/>
                  <p:cNvGrpSpPr/>
                  <p:nvPr/>
                </p:nvGrpSpPr>
                <p:grpSpPr>
                  <a:xfrm>
                    <a:off x="3859200" y="2532240"/>
                    <a:ext cx="531720" cy="414000"/>
                    <a:chOff x="3859200" y="2532240"/>
                    <a:chExt cx="531720" cy="414000"/>
                  </a:xfrm>
                </p:grpSpPr>
                <p:sp>
                  <p:nvSpPr>
                    <p:cNvPr id="1626" name=""/>
                    <p:cNvSpPr/>
                    <p:nvPr/>
                  </p:nvSpPr>
                  <p:spPr>
                    <a:xfrm>
                      <a:off x="3859200" y="2532240"/>
                      <a:ext cx="531720" cy="414000"/>
                    </a:xfrm>
                    <a:prstGeom prst="rect">
                      <a:avLst/>
                    </a:prstGeom>
                    <a:solidFill>
                      <a:srgbClr val="ff7c80"/>
                    </a:solidFill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7" name=""/>
                    <p:cNvSpPr/>
                    <p:nvPr/>
                  </p:nvSpPr>
                  <p:spPr>
                    <a:xfrm>
                      <a:off x="3875040" y="2563920"/>
                      <a:ext cx="49536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C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28" name=""/>
                  <p:cNvGrpSpPr/>
                  <p:nvPr/>
                </p:nvGrpSpPr>
                <p:grpSpPr>
                  <a:xfrm>
                    <a:off x="3924360" y="2944800"/>
                    <a:ext cx="412560" cy="393840"/>
                    <a:chOff x="3924360" y="2944800"/>
                    <a:chExt cx="412560" cy="393840"/>
                  </a:xfrm>
                </p:grpSpPr>
                <p:sp>
                  <p:nvSpPr>
                    <p:cNvPr id="1629" name=""/>
                    <p:cNvSpPr/>
                    <p:nvPr/>
                  </p:nvSpPr>
                  <p:spPr>
                    <a:xfrm>
                      <a:off x="4128840" y="2944800"/>
                      <a:ext cx="0" cy="11772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"/>
                    <p:cNvSpPr/>
                    <p:nvPr/>
                  </p:nvSpPr>
                  <p:spPr>
                    <a:xfrm flipH="1">
                      <a:off x="3927240" y="3052800"/>
                      <a:ext cx="204480" cy="9540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"/>
                    <p:cNvSpPr/>
                    <p:nvPr/>
                  </p:nvSpPr>
                  <p:spPr>
                    <a:xfrm>
                      <a:off x="3924360" y="3148200"/>
                      <a:ext cx="412560" cy="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2" name=""/>
                    <p:cNvSpPr/>
                    <p:nvPr/>
                  </p:nvSpPr>
                  <p:spPr>
                    <a:xfrm flipH="1">
                      <a:off x="4122720" y="3148200"/>
                      <a:ext cx="207360" cy="9360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3" name=""/>
                    <p:cNvSpPr/>
                    <p:nvPr/>
                  </p:nvSpPr>
                  <p:spPr>
                    <a:xfrm>
                      <a:off x="4132080" y="3232080"/>
                      <a:ext cx="0" cy="10656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4" name=""/>
                  <p:cNvGrpSpPr/>
                  <p:nvPr/>
                </p:nvGrpSpPr>
                <p:grpSpPr>
                  <a:xfrm>
                    <a:off x="3584520" y="2351160"/>
                    <a:ext cx="264960" cy="360360"/>
                    <a:chOff x="3584520" y="2351160"/>
                    <a:chExt cx="264960" cy="360360"/>
                  </a:xfrm>
                </p:grpSpPr>
                <p:sp>
                  <p:nvSpPr>
                    <p:cNvPr id="1635" name=""/>
                    <p:cNvSpPr/>
                    <p:nvPr/>
                  </p:nvSpPr>
                  <p:spPr>
                    <a:xfrm>
                      <a:off x="3590640" y="2351160"/>
                      <a:ext cx="0" cy="36036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"/>
                    <p:cNvSpPr/>
                    <p:nvPr/>
                  </p:nvSpPr>
                  <p:spPr>
                    <a:xfrm flipH="1">
                      <a:off x="3584520" y="2711520"/>
                      <a:ext cx="264960" cy="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"/>
                <p:cNvSpPr/>
                <p:nvPr/>
              </p:nvSpPr>
              <p:spPr>
                <a:xfrm>
                  <a:off x="698400" y="2009880"/>
                  <a:ext cx="505080" cy="18720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 flipV="1">
                  <a:off x="695160" y="2009880"/>
                  <a:ext cx="505080" cy="18720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 flipV="1">
                  <a:off x="2932200" y="3906720"/>
                  <a:ext cx="0" cy="27000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40" name=""/>
                <p:cNvGrpSpPr/>
                <p:nvPr/>
              </p:nvGrpSpPr>
              <p:grpSpPr>
                <a:xfrm>
                  <a:off x="2678040" y="3278160"/>
                  <a:ext cx="891720" cy="685440"/>
                  <a:chOff x="2678040" y="3278160"/>
                  <a:chExt cx="891720" cy="685440"/>
                </a:xfrm>
              </p:grpSpPr>
              <p:sp>
                <p:nvSpPr>
                  <p:cNvPr id="1641" name=""/>
                  <p:cNvSpPr/>
                  <p:nvPr/>
                </p:nvSpPr>
                <p:spPr>
                  <a:xfrm>
                    <a:off x="3247560" y="3745080"/>
                    <a:ext cx="102960" cy="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2" name=""/>
                  <p:cNvSpPr/>
                  <p:nvPr/>
                </p:nvSpPr>
                <p:spPr>
                  <a:xfrm>
                    <a:off x="3363480" y="3652920"/>
                    <a:ext cx="206280" cy="1904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43" name=""/>
                  <p:cNvGrpSpPr/>
                  <p:nvPr/>
                </p:nvGrpSpPr>
                <p:grpSpPr>
                  <a:xfrm>
                    <a:off x="2678040" y="3278160"/>
                    <a:ext cx="579600" cy="685440"/>
                    <a:chOff x="2678040" y="3278160"/>
                    <a:chExt cx="579600" cy="685440"/>
                  </a:xfrm>
                </p:grpSpPr>
                <p:grpSp>
                  <p:nvGrpSpPr>
                    <p:cNvPr id="1644" name=""/>
                    <p:cNvGrpSpPr/>
                    <p:nvPr/>
                  </p:nvGrpSpPr>
                  <p:grpSpPr>
                    <a:xfrm>
                      <a:off x="2682360" y="3531960"/>
                      <a:ext cx="575280" cy="431640"/>
                      <a:chOff x="2682360" y="3531960"/>
                      <a:chExt cx="575280" cy="431640"/>
                    </a:xfrm>
                  </p:grpSpPr>
                  <p:sp>
                    <p:nvSpPr>
                      <p:cNvPr id="1645" name=""/>
                      <p:cNvSpPr/>
                      <p:nvPr/>
                    </p:nvSpPr>
                    <p:spPr>
                      <a:xfrm flipV="1">
                        <a:off x="2682360" y="3640320"/>
                        <a:ext cx="0" cy="214200"/>
                      </a:xfrm>
                      <a:prstGeom prst="line">
                        <a:avLst/>
                      </a:prstGeom>
                      <a:ln w="1908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6" name=""/>
                      <p:cNvSpPr/>
                      <p:nvPr/>
                    </p:nvSpPr>
                    <p:spPr>
                      <a:xfrm flipV="1">
                        <a:off x="2682360" y="3531960"/>
                        <a:ext cx="575280" cy="108360"/>
                      </a:xfrm>
                      <a:prstGeom prst="line">
                        <a:avLst/>
                      </a:prstGeom>
                      <a:ln w="1908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7" name=""/>
                      <p:cNvSpPr/>
                      <p:nvPr/>
                    </p:nvSpPr>
                    <p:spPr>
                      <a:xfrm>
                        <a:off x="2682360" y="3855240"/>
                        <a:ext cx="575280" cy="108360"/>
                      </a:xfrm>
                      <a:prstGeom prst="line">
                        <a:avLst/>
                      </a:prstGeom>
                      <a:ln w="1908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8" name=""/>
                      <p:cNvSpPr/>
                      <p:nvPr/>
                    </p:nvSpPr>
                    <p:spPr>
                      <a:xfrm>
                        <a:off x="3257640" y="3532320"/>
                        <a:ext cx="0" cy="431280"/>
                      </a:xfrm>
                      <a:prstGeom prst="line">
                        <a:avLst/>
                      </a:prstGeom>
                      <a:ln w="1908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649" name=""/>
                    <p:cNvSpPr/>
                    <p:nvPr/>
                  </p:nvSpPr>
                  <p:spPr>
                    <a:xfrm>
                      <a:off x="2678040" y="3278160"/>
                      <a:ext cx="0" cy="384120"/>
                    </a:xfrm>
                    <a:prstGeom prst="line">
                      <a:avLst/>
                    </a:prstGeom>
                    <a:ln w="1908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0" name=""/>
                <p:cNvSpPr/>
                <p:nvPr/>
              </p:nvSpPr>
              <p:spPr>
                <a:xfrm>
                  <a:off x="2932200" y="4321080"/>
                  <a:ext cx="0" cy="39708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51" name=""/>
                <p:cNvGrpSpPr/>
                <p:nvPr/>
              </p:nvGrpSpPr>
              <p:grpSpPr>
                <a:xfrm>
                  <a:off x="3376440" y="3962520"/>
                  <a:ext cx="496440" cy="187200"/>
                  <a:chOff x="3376440" y="3962520"/>
                  <a:chExt cx="496440" cy="187200"/>
                </a:xfrm>
              </p:grpSpPr>
              <p:sp>
                <p:nvSpPr>
                  <p:cNvPr id="1652" name=""/>
                  <p:cNvSpPr/>
                  <p:nvPr/>
                </p:nvSpPr>
                <p:spPr>
                  <a:xfrm>
                    <a:off x="3376440" y="3962520"/>
                    <a:ext cx="208080" cy="18720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53" name=""/>
                  <p:cNvGrpSpPr/>
                  <p:nvPr/>
                </p:nvGrpSpPr>
                <p:grpSpPr>
                  <a:xfrm>
                    <a:off x="3455640" y="3998880"/>
                    <a:ext cx="417240" cy="117360"/>
                    <a:chOff x="3455640" y="3998880"/>
                    <a:chExt cx="417240" cy="117360"/>
                  </a:xfrm>
                </p:grpSpPr>
                <p:sp>
                  <p:nvSpPr>
                    <p:cNvPr id="1654" name=""/>
                    <p:cNvSpPr/>
                    <p:nvPr/>
                  </p:nvSpPr>
                  <p:spPr>
                    <a:xfrm>
                      <a:off x="3455640" y="3998880"/>
                      <a:ext cx="412920" cy="0"/>
                    </a:xfrm>
                    <a:prstGeom prst="line">
                      <a:avLst/>
                    </a:prstGeom>
                    <a:ln w="93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"/>
                    <p:cNvSpPr/>
                    <p:nvPr/>
                  </p:nvSpPr>
                  <p:spPr>
                    <a:xfrm>
                      <a:off x="3459960" y="4002120"/>
                      <a:ext cx="59760" cy="55080"/>
                    </a:xfrm>
                    <a:prstGeom prst="line">
                      <a:avLst/>
                    </a:prstGeom>
                    <a:ln w="93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"/>
                    <p:cNvSpPr/>
                    <p:nvPr/>
                  </p:nvSpPr>
                  <p:spPr>
                    <a:xfrm flipH="1">
                      <a:off x="3459960" y="4061520"/>
                      <a:ext cx="59760" cy="54720"/>
                    </a:xfrm>
                    <a:prstGeom prst="line">
                      <a:avLst/>
                    </a:prstGeom>
                    <a:ln w="93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"/>
                    <p:cNvSpPr/>
                    <p:nvPr/>
                  </p:nvSpPr>
                  <p:spPr>
                    <a:xfrm>
                      <a:off x="3459960" y="4116240"/>
                      <a:ext cx="412920" cy="0"/>
                    </a:xfrm>
                    <a:prstGeom prst="line">
                      <a:avLst/>
                    </a:prstGeom>
                    <a:ln w="1260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"/>
                <p:cNvSpPr/>
                <p:nvPr/>
              </p:nvSpPr>
              <p:spPr>
                <a:xfrm flipV="1">
                  <a:off x="3260880" y="3951000"/>
                  <a:ext cx="0" cy="11916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>
                  <a:off x="3255840" y="4070520"/>
                  <a:ext cx="11916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273528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7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61" name=""/>
                <p:cNvGrpSpPr/>
                <p:nvPr/>
              </p:nvGrpSpPr>
              <p:grpSpPr>
                <a:xfrm>
                  <a:off x="7448040" y="543960"/>
                  <a:ext cx="3187800" cy="1388160"/>
                  <a:chOff x="7448040" y="543960"/>
                  <a:chExt cx="3187800" cy="1388160"/>
                </a:xfrm>
              </p:grpSpPr>
              <p:sp>
                <p:nvSpPr>
                  <p:cNvPr id="1662" name=""/>
                  <p:cNvSpPr/>
                  <p:nvPr/>
                </p:nvSpPr>
                <p:spPr>
                  <a:xfrm flipV="1">
                    <a:off x="7448040" y="543600"/>
                    <a:ext cx="1461240" cy="1388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389" y="3116"/>
                        </a:moveTo>
                        <a:arcTo wR="10800" hR="10800" stAng="-2721549" swAng="365036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389" y="3116"/>
                        </a:moveTo>
                        <a:arcTo wR="10800" hR="10800" stAng="-2721549" swAng="3650365"/>
                      </a:path>
                    </a:pathLst>
                  </a:custGeom>
                  <a:noFill/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3" name=""/>
                  <p:cNvSpPr/>
                  <p:nvPr/>
                </p:nvSpPr>
                <p:spPr>
                  <a:xfrm flipH="1" flipV="1">
                    <a:off x="9174240" y="543960"/>
                    <a:ext cx="1461240" cy="1388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389" y="3116"/>
                        </a:moveTo>
                        <a:arcTo wR="10800" hR="10800" stAng="-2721549" swAng="365036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389" y="3116"/>
                        </a:moveTo>
                        <a:arcTo wR="10800" hR="10800" stAng="-2721549" swAng="3650365"/>
                      </a:path>
                    </a:pathLst>
                  </a:custGeom>
                  <a:noFill/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4" name=""/>
                  <p:cNvSpPr/>
                  <p:nvPr/>
                </p:nvSpPr>
                <p:spPr>
                  <a:xfrm>
                    <a:off x="8868960" y="1052640"/>
                    <a:ext cx="345240" cy="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5" name=""/>
                  <p:cNvSpPr/>
                  <p:nvPr/>
                </p:nvSpPr>
                <p:spPr>
                  <a:xfrm>
                    <a:off x="8696520" y="1729440"/>
                    <a:ext cx="690120" cy="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6" name=""/>
                <p:cNvGrpSpPr/>
                <p:nvPr/>
              </p:nvGrpSpPr>
              <p:grpSpPr>
                <a:xfrm>
                  <a:off x="5294160" y="2351160"/>
                  <a:ext cx="806400" cy="987480"/>
                  <a:chOff x="5294160" y="2351160"/>
                  <a:chExt cx="806400" cy="987480"/>
                </a:xfrm>
              </p:grpSpPr>
              <p:grpSp>
                <p:nvGrpSpPr>
                  <p:cNvPr id="1667" name=""/>
                  <p:cNvGrpSpPr/>
                  <p:nvPr/>
                </p:nvGrpSpPr>
                <p:grpSpPr>
                  <a:xfrm>
                    <a:off x="5568840" y="2532240"/>
                    <a:ext cx="531720" cy="414000"/>
                    <a:chOff x="5568840" y="2532240"/>
                    <a:chExt cx="531720" cy="414000"/>
                  </a:xfrm>
                </p:grpSpPr>
                <p:sp>
                  <p:nvSpPr>
                    <p:cNvPr id="1668" name=""/>
                    <p:cNvSpPr/>
                    <p:nvPr/>
                  </p:nvSpPr>
                  <p:spPr>
                    <a:xfrm>
                      <a:off x="5568840" y="2532240"/>
                      <a:ext cx="531720" cy="414000"/>
                    </a:xfrm>
                    <a:prstGeom prst="rect">
                      <a:avLst/>
                    </a:prstGeom>
                    <a:solidFill>
                      <a:srgbClr val="ff7c80"/>
                    </a:solidFill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9" name=""/>
                    <p:cNvSpPr/>
                    <p:nvPr/>
                  </p:nvSpPr>
                  <p:spPr>
                    <a:xfrm>
                      <a:off x="5584680" y="2563920"/>
                      <a:ext cx="49536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C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0" name=""/>
                  <p:cNvGrpSpPr/>
                  <p:nvPr/>
                </p:nvGrpSpPr>
                <p:grpSpPr>
                  <a:xfrm>
                    <a:off x="5634000" y="2944800"/>
                    <a:ext cx="412560" cy="393840"/>
                    <a:chOff x="5634000" y="2944800"/>
                    <a:chExt cx="412560" cy="393840"/>
                  </a:xfrm>
                </p:grpSpPr>
                <p:sp>
                  <p:nvSpPr>
                    <p:cNvPr id="1671" name=""/>
                    <p:cNvSpPr/>
                    <p:nvPr/>
                  </p:nvSpPr>
                  <p:spPr>
                    <a:xfrm>
                      <a:off x="5838480" y="2944800"/>
                      <a:ext cx="0" cy="11772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"/>
                    <p:cNvSpPr/>
                    <p:nvPr/>
                  </p:nvSpPr>
                  <p:spPr>
                    <a:xfrm flipH="1">
                      <a:off x="5636880" y="3052800"/>
                      <a:ext cx="204480" cy="9540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"/>
                    <p:cNvSpPr/>
                    <p:nvPr/>
                  </p:nvSpPr>
                  <p:spPr>
                    <a:xfrm>
                      <a:off x="5634000" y="3148200"/>
                      <a:ext cx="412560" cy="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"/>
                    <p:cNvSpPr/>
                    <p:nvPr/>
                  </p:nvSpPr>
                  <p:spPr>
                    <a:xfrm flipH="1">
                      <a:off x="5832360" y="3148200"/>
                      <a:ext cx="207360" cy="9360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5" name=""/>
                    <p:cNvSpPr/>
                    <p:nvPr/>
                  </p:nvSpPr>
                  <p:spPr>
                    <a:xfrm>
                      <a:off x="5841720" y="3232080"/>
                      <a:ext cx="0" cy="10656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6" name=""/>
                  <p:cNvGrpSpPr/>
                  <p:nvPr/>
                </p:nvGrpSpPr>
                <p:grpSpPr>
                  <a:xfrm>
                    <a:off x="5294160" y="2351160"/>
                    <a:ext cx="264960" cy="360360"/>
                    <a:chOff x="5294160" y="2351160"/>
                    <a:chExt cx="264960" cy="360360"/>
                  </a:xfrm>
                </p:grpSpPr>
                <p:sp>
                  <p:nvSpPr>
                    <p:cNvPr id="1677" name=""/>
                    <p:cNvSpPr/>
                    <p:nvPr/>
                  </p:nvSpPr>
                  <p:spPr>
                    <a:xfrm>
                      <a:off x="5300280" y="2351160"/>
                      <a:ext cx="0" cy="36036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"/>
                    <p:cNvSpPr/>
                    <p:nvPr/>
                  </p:nvSpPr>
                  <p:spPr>
                    <a:xfrm flipH="1">
                      <a:off x="5294160" y="2711520"/>
                      <a:ext cx="264960" cy="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679" name=""/>
                <p:cNvGrpSpPr/>
                <p:nvPr/>
              </p:nvGrpSpPr>
              <p:grpSpPr>
                <a:xfrm>
                  <a:off x="5557680" y="1320840"/>
                  <a:ext cx="560520" cy="1217520"/>
                  <a:chOff x="5557680" y="1320840"/>
                  <a:chExt cx="560520" cy="1217520"/>
                </a:xfrm>
              </p:grpSpPr>
              <p:sp>
                <p:nvSpPr>
                  <p:cNvPr id="1680" name=""/>
                  <p:cNvSpPr/>
                  <p:nvPr/>
                </p:nvSpPr>
                <p:spPr>
                  <a:xfrm>
                    <a:off x="5557680" y="1866960"/>
                    <a:ext cx="216000" cy="271440"/>
                  </a:xfrm>
                  <a:prstGeom prst="rect">
                    <a:avLst/>
                  </a:prstGeom>
                  <a:solidFill>
                    <a:srgbClr val="ccffcc"/>
                  </a:solidFill>
                  <a:ln w="1908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1" name=""/>
                  <p:cNvSpPr/>
                  <p:nvPr/>
                </p:nvSpPr>
                <p:spPr>
                  <a:xfrm>
                    <a:off x="5668920" y="2135160"/>
                    <a:ext cx="0" cy="403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2" name=""/>
                  <p:cNvSpPr/>
                  <p:nvPr/>
                </p:nvSpPr>
                <p:spPr>
                  <a:xfrm>
                    <a:off x="5902200" y="1866960"/>
                    <a:ext cx="216000" cy="271440"/>
                  </a:xfrm>
                  <a:prstGeom prst="rect">
                    <a:avLst/>
                  </a:prstGeom>
                  <a:solidFill>
                    <a:srgbClr val="ccffcc"/>
                  </a:solidFill>
                  <a:ln w="1908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3" name=""/>
                  <p:cNvSpPr/>
                  <p:nvPr/>
                </p:nvSpPr>
                <p:spPr>
                  <a:xfrm>
                    <a:off x="6013440" y="2135160"/>
                    <a:ext cx="0" cy="403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4" name=""/>
                  <p:cNvSpPr/>
                  <p:nvPr/>
                </p:nvSpPr>
                <p:spPr>
                  <a:xfrm>
                    <a:off x="5668920" y="1703520"/>
                    <a:ext cx="0" cy="1587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5" name=""/>
                  <p:cNvSpPr/>
                  <p:nvPr/>
                </p:nvSpPr>
                <p:spPr>
                  <a:xfrm>
                    <a:off x="6013440" y="1703520"/>
                    <a:ext cx="0" cy="1587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86" name=""/>
                  <p:cNvGrpSpPr/>
                  <p:nvPr/>
                </p:nvGrpSpPr>
                <p:grpSpPr>
                  <a:xfrm>
                    <a:off x="5557680" y="1482840"/>
                    <a:ext cx="216000" cy="215640"/>
                    <a:chOff x="5557680" y="1482840"/>
                    <a:chExt cx="216000" cy="215640"/>
                  </a:xfrm>
                </p:grpSpPr>
                <p:sp>
                  <p:nvSpPr>
                    <p:cNvPr id="1687" name=""/>
                    <p:cNvSpPr/>
                    <p:nvPr/>
                  </p:nvSpPr>
                  <p:spPr>
                    <a:xfrm>
                      <a:off x="5557680" y="1482840"/>
                      <a:ext cx="216000" cy="2156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584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8" name=""/>
                    <p:cNvSpPr/>
                    <p:nvPr/>
                  </p:nvSpPr>
                  <p:spPr>
                    <a:xfrm flipH="1">
                      <a:off x="5603400" y="1539720"/>
                      <a:ext cx="21960" cy="8568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9" name=""/>
                    <p:cNvSpPr/>
                    <p:nvPr/>
                  </p:nvSpPr>
                  <p:spPr>
                    <a:xfrm>
                      <a:off x="5702040" y="1539720"/>
                      <a:ext cx="22320" cy="8568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0" name=""/>
                  <p:cNvGrpSpPr/>
                  <p:nvPr/>
                </p:nvGrpSpPr>
                <p:grpSpPr>
                  <a:xfrm>
                    <a:off x="5902200" y="1482840"/>
                    <a:ext cx="216000" cy="215640"/>
                    <a:chOff x="5902200" y="1482840"/>
                    <a:chExt cx="216000" cy="215640"/>
                  </a:xfrm>
                </p:grpSpPr>
                <p:sp>
                  <p:nvSpPr>
                    <p:cNvPr id="1691" name=""/>
                    <p:cNvSpPr/>
                    <p:nvPr/>
                  </p:nvSpPr>
                  <p:spPr>
                    <a:xfrm>
                      <a:off x="5902200" y="1482840"/>
                      <a:ext cx="216000" cy="2156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584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2" name=""/>
                    <p:cNvSpPr/>
                    <p:nvPr/>
                  </p:nvSpPr>
                  <p:spPr>
                    <a:xfrm flipH="1">
                      <a:off x="5947920" y="1539720"/>
                      <a:ext cx="21960" cy="8568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3" name=""/>
                    <p:cNvSpPr/>
                    <p:nvPr/>
                  </p:nvSpPr>
                  <p:spPr>
                    <a:xfrm>
                      <a:off x="6046560" y="1539720"/>
                      <a:ext cx="22320" cy="8568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94" name=""/>
                  <p:cNvSpPr/>
                  <p:nvPr/>
                </p:nvSpPr>
                <p:spPr>
                  <a:xfrm>
                    <a:off x="5668920" y="1320840"/>
                    <a:ext cx="0" cy="1587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5" name=""/>
                  <p:cNvSpPr/>
                  <p:nvPr/>
                </p:nvSpPr>
                <p:spPr>
                  <a:xfrm>
                    <a:off x="6013440" y="1320840"/>
                    <a:ext cx="0" cy="1587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96" name=""/>
                <p:cNvSpPr/>
                <p:nvPr/>
              </p:nvSpPr>
              <p:spPr>
                <a:xfrm>
                  <a:off x="1596960" y="1100160"/>
                  <a:ext cx="504720" cy="393840"/>
                </a:xfrm>
                <a:prstGeom prst="rect">
                  <a:avLst/>
                </a:prstGeom>
                <a:solidFill>
                  <a:srgbClr val="ccffcc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>
                  <a:off x="1492200" y="817560"/>
                  <a:ext cx="16556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6600"/>
                      </a:solidFill>
                      <a:latin typeface="Times New Roman"/>
                    </a:rPr>
                    <a:t>Instalatie desulfura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98" name=""/>
          <p:cNvSpPr/>
          <p:nvPr/>
        </p:nvSpPr>
        <p:spPr>
          <a:xfrm flipH="1" flipV="1">
            <a:off x="272880" y="1196640"/>
            <a:ext cx="432000" cy="144360"/>
          </a:xfrm>
          <a:prstGeom prst="line">
            <a:avLst/>
          </a:prstGeom>
          <a:ln w="3168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631800" y="846000"/>
            <a:ext cx="1800360" cy="792360"/>
          </a:xfrm>
          <a:prstGeom prst="ellipse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"/>
          <p:cNvSpPr/>
          <p:nvPr/>
        </p:nvSpPr>
        <p:spPr>
          <a:xfrm>
            <a:off x="272880" y="166680"/>
            <a:ext cx="95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Times New Roman"/>
              </a:rPr>
              <a:t>SCHEMA TEHNOLOGICA LA SFARSITUL ANULUI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1" name=""/>
          <p:cNvGrpSpPr/>
          <p:nvPr/>
        </p:nvGrpSpPr>
        <p:grpSpPr>
          <a:xfrm>
            <a:off x="220680" y="543960"/>
            <a:ext cx="10415160" cy="6034320"/>
            <a:chOff x="220680" y="543960"/>
            <a:chExt cx="10415160" cy="6034320"/>
          </a:xfrm>
        </p:grpSpPr>
        <p:sp>
          <p:nvSpPr>
            <p:cNvPr id="1702" name=""/>
            <p:cNvSpPr/>
            <p:nvPr/>
          </p:nvSpPr>
          <p:spPr>
            <a:xfrm>
              <a:off x="1204920" y="3359160"/>
              <a:ext cx="7061040" cy="0"/>
            </a:xfrm>
            <a:prstGeom prst="line">
              <a:avLst/>
            </a:prstGeom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2498760" y="2135160"/>
              <a:ext cx="0" cy="4032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2843280" y="2135160"/>
              <a:ext cx="0" cy="4032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498760" y="1703520"/>
              <a:ext cx="0" cy="15876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2843280" y="1703520"/>
              <a:ext cx="0" cy="15876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7" name=""/>
            <p:cNvGrpSpPr/>
            <p:nvPr/>
          </p:nvGrpSpPr>
          <p:grpSpPr>
            <a:xfrm>
              <a:off x="2387520" y="1482840"/>
              <a:ext cx="216000" cy="215640"/>
              <a:chOff x="2387520" y="1482840"/>
              <a:chExt cx="216000" cy="215640"/>
            </a:xfrm>
          </p:grpSpPr>
          <p:sp>
            <p:nvSpPr>
              <p:cNvPr id="1708" name=""/>
              <p:cNvSpPr/>
              <p:nvPr/>
            </p:nvSpPr>
            <p:spPr>
              <a:xfrm>
                <a:off x="2387520" y="1482840"/>
                <a:ext cx="216000" cy="215640"/>
              </a:xfrm>
              <a:prstGeom prst="ellipse">
                <a:avLst/>
              </a:prstGeom>
              <a:solidFill>
                <a:srgbClr val="ffcc99"/>
              </a:solidFill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H="1">
                <a:off x="2433240" y="1539720"/>
                <a:ext cx="21960" cy="8568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531880" y="1539720"/>
                <a:ext cx="22320" cy="8568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1" name=""/>
            <p:cNvGrpSpPr/>
            <p:nvPr/>
          </p:nvGrpSpPr>
          <p:grpSpPr>
            <a:xfrm>
              <a:off x="2732040" y="1482840"/>
              <a:ext cx="216000" cy="215640"/>
              <a:chOff x="2732040" y="1482840"/>
              <a:chExt cx="216000" cy="215640"/>
            </a:xfrm>
          </p:grpSpPr>
          <p:sp>
            <p:nvSpPr>
              <p:cNvPr id="1712" name=""/>
              <p:cNvSpPr/>
              <p:nvPr/>
            </p:nvSpPr>
            <p:spPr>
              <a:xfrm>
                <a:off x="2732040" y="1482840"/>
                <a:ext cx="216000" cy="215640"/>
              </a:xfrm>
              <a:prstGeom prst="ellipse">
                <a:avLst/>
              </a:prstGeom>
              <a:solidFill>
                <a:srgbClr val="ffcc99"/>
              </a:solidFill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flipH="1">
                <a:off x="2777760" y="1539720"/>
                <a:ext cx="21960" cy="8568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2876400" y="1539720"/>
                <a:ext cx="22320" cy="8568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5" name=""/>
            <p:cNvSpPr/>
            <p:nvPr/>
          </p:nvSpPr>
          <p:spPr>
            <a:xfrm>
              <a:off x="2498760" y="1320840"/>
              <a:ext cx="0" cy="15876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843280" y="1320840"/>
              <a:ext cx="0" cy="15876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7" name=""/>
            <p:cNvGrpSpPr/>
            <p:nvPr/>
          </p:nvGrpSpPr>
          <p:grpSpPr>
            <a:xfrm>
              <a:off x="3840120" y="1320840"/>
              <a:ext cx="560520" cy="1217520"/>
              <a:chOff x="3840120" y="1320840"/>
              <a:chExt cx="560520" cy="1217520"/>
            </a:xfrm>
          </p:grpSpPr>
          <p:sp>
            <p:nvSpPr>
              <p:cNvPr id="1718" name=""/>
              <p:cNvSpPr/>
              <p:nvPr/>
            </p:nvSpPr>
            <p:spPr>
              <a:xfrm>
                <a:off x="384012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95136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18464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29588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395136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429588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4" name=""/>
              <p:cNvGrpSpPr/>
              <p:nvPr/>
            </p:nvGrpSpPr>
            <p:grpSpPr>
              <a:xfrm>
                <a:off x="3840120" y="1482840"/>
                <a:ext cx="216000" cy="215640"/>
                <a:chOff x="3840120" y="1482840"/>
                <a:chExt cx="216000" cy="215640"/>
              </a:xfrm>
            </p:grpSpPr>
            <p:sp>
              <p:nvSpPr>
                <p:cNvPr id="1725" name=""/>
                <p:cNvSpPr/>
                <p:nvPr/>
              </p:nvSpPr>
              <p:spPr>
                <a:xfrm>
                  <a:off x="384012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 flipH="1">
                  <a:off x="388584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398448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8" name=""/>
              <p:cNvGrpSpPr/>
              <p:nvPr/>
            </p:nvGrpSpPr>
            <p:grpSpPr>
              <a:xfrm>
                <a:off x="4184640" y="1482840"/>
                <a:ext cx="216000" cy="215640"/>
                <a:chOff x="4184640" y="1482840"/>
                <a:chExt cx="216000" cy="215640"/>
              </a:xfrm>
            </p:grpSpPr>
            <p:sp>
              <p:nvSpPr>
                <p:cNvPr id="1729" name=""/>
                <p:cNvSpPr/>
                <p:nvPr/>
              </p:nvSpPr>
              <p:spPr>
                <a:xfrm>
                  <a:off x="418464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0" name=""/>
                <p:cNvSpPr/>
                <p:nvPr/>
              </p:nvSpPr>
              <p:spPr>
                <a:xfrm flipH="1">
                  <a:off x="423036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>
                  <a:off x="432900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2" name=""/>
              <p:cNvSpPr/>
              <p:nvPr/>
            </p:nvSpPr>
            <p:spPr>
              <a:xfrm>
                <a:off x="395136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29588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4" name=""/>
            <p:cNvGrpSpPr/>
            <p:nvPr/>
          </p:nvGrpSpPr>
          <p:grpSpPr>
            <a:xfrm>
              <a:off x="5292720" y="2351160"/>
              <a:ext cx="264960" cy="360360"/>
              <a:chOff x="5292720" y="2351160"/>
              <a:chExt cx="264960" cy="360360"/>
            </a:xfrm>
          </p:grpSpPr>
          <p:sp>
            <p:nvSpPr>
              <p:cNvPr id="1735" name=""/>
              <p:cNvSpPr/>
              <p:nvPr/>
            </p:nvSpPr>
            <p:spPr>
              <a:xfrm>
                <a:off x="5298840" y="2351160"/>
                <a:ext cx="0" cy="360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H="1">
                <a:off x="5292720" y="2711520"/>
                <a:ext cx="26496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7" name=""/>
            <p:cNvGrpSpPr/>
            <p:nvPr/>
          </p:nvGrpSpPr>
          <p:grpSpPr>
            <a:xfrm>
              <a:off x="7196040" y="2532240"/>
              <a:ext cx="531360" cy="805680"/>
              <a:chOff x="7196040" y="2532240"/>
              <a:chExt cx="531360" cy="805680"/>
            </a:xfrm>
          </p:grpSpPr>
          <p:grpSp>
            <p:nvGrpSpPr>
              <p:cNvPr id="1738" name=""/>
              <p:cNvGrpSpPr/>
              <p:nvPr/>
            </p:nvGrpSpPr>
            <p:grpSpPr>
              <a:xfrm>
                <a:off x="7196040" y="2532240"/>
                <a:ext cx="531360" cy="414000"/>
                <a:chOff x="7196040" y="2532240"/>
                <a:chExt cx="531360" cy="414000"/>
              </a:xfrm>
            </p:grpSpPr>
            <p:sp>
              <p:nvSpPr>
                <p:cNvPr id="1739" name=""/>
                <p:cNvSpPr/>
                <p:nvPr/>
              </p:nvSpPr>
              <p:spPr>
                <a:xfrm>
                  <a:off x="7196040" y="2532240"/>
                  <a:ext cx="531360" cy="41400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7215120" y="2563560"/>
                  <a:ext cx="495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993300"/>
                      </a:solidFill>
                      <a:latin typeface="Times New Roman"/>
                    </a:rPr>
                    <a:t>C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1" name=""/>
              <p:cNvGrpSpPr/>
              <p:nvPr/>
            </p:nvGrpSpPr>
            <p:grpSpPr>
              <a:xfrm>
                <a:off x="7261200" y="2944800"/>
                <a:ext cx="412560" cy="393120"/>
                <a:chOff x="7261200" y="2944800"/>
                <a:chExt cx="412560" cy="393120"/>
              </a:xfrm>
            </p:grpSpPr>
            <p:sp>
              <p:nvSpPr>
                <p:cNvPr id="1742" name=""/>
                <p:cNvSpPr/>
                <p:nvPr/>
              </p:nvSpPr>
              <p:spPr>
                <a:xfrm>
                  <a:off x="7465680" y="2944800"/>
                  <a:ext cx="0" cy="117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 flipH="1">
                  <a:off x="7264080" y="3052440"/>
                  <a:ext cx="204480" cy="950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>
                  <a:off x="7261200" y="3147840"/>
                  <a:ext cx="4125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 flipH="1">
                  <a:off x="7459560" y="3147840"/>
                  <a:ext cx="207360" cy="932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>
                  <a:off x="7468920" y="3231720"/>
                  <a:ext cx="0" cy="106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47" name=""/>
            <p:cNvGrpSpPr/>
            <p:nvPr/>
          </p:nvGrpSpPr>
          <p:grpSpPr>
            <a:xfrm>
              <a:off x="8007480" y="1789200"/>
              <a:ext cx="360360" cy="360360"/>
              <a:chOff x="8007480" y="1789200"/>
              <a:chExt cx="360360" cy="360360"/>
            </a:xfrm>
          </p:grpSpPr>
          <p:sp>
            <p:nvSpPr>
              <p:cNvPr id="1748" name=""/>
              <p:cNvSpPr/>
              <p:nvPr/>
            </p:nvSpPr>
            <p:spPr>
              <a:xfrm>
                <a:off x="8080560" y="1862280"/>
                <a:ext cx="215640" cy="216000"/>
              </a:xfrm>
              <a:prstGeom prst="ellipse">
                <a:avLst/>
              </a:prstGeom>
              <a:noFill/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8007480" y="1789200"/>
                <a:ext cx="360360" cy="360360"/>
              </a:xfrm>
              <a:prstGeom prst="ellipse">
                <a:avLst/>
              </a:prstGeom>
              <a:noFill/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0" name=""/>
            <p:cNvSpPr/>
            <p:nvPr/>
          </p:nvSpPr>
          <p:spPr>
            <a:xfrm>
              <a:off x="7454880" y="1971720"/>
              <a:ext cx="460440" cy="0"/>
            </a:xfrm>
            <a:prstGeom prst="line">
              <a:avLst/>
            </a:prstGeom>
            <a:ln w="50760">
              <a:solidFill>
                <a:srgbClr val="8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7445520" y="1943280"/>
              <a:ext cx="0" cy="5760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988920" y="4254480"/>
              <a:ext cx="7277040" cy="0"/>
            </a:xfrm>
            <a:prstGeom prst="line">
              <a:avLst/>
            </a:prstGeom>
            <a:ln w="50760">
              <a:solidFill>
                <a:srgbClr val="8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917640" y="4791240"/>
              <a:ext cx="7348320" cy="0"/>
            </a:xfrm>
            <a:prstGeom prst="line">
              <a:avLst/>
            </a:prstGeom>
            <a:ln w="50760">
              <a:solidFill>
                <a:srgbClr val="8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133640" y="3095640"/>
              <a:ext cx="72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00"/>
                  </a:solidFill>
                  <a:latin typeface="Times New Roman"/>
                </a:rPr>
                <a:t>140 b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147680" y="399888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00"/>
                  </a:solidFill>
                  <a:latin typeface="Times New Roman"/>
                </a:rPr>
                <a:t>35b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147680" y="454032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00"/>
                  </a:solidFill>
                  <a:latin typeface="Times New Roman"/>
                </a:rPr>
                <a:t>13b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988920" y="5797440"/>
              <a:ext cx="7348680" cy="0"/>
            </a:xfrm>
            <a:prstGeom prst="line">
              <a:avLst/>
            </a:prstGeom>
            <a:ln w="50760">
              <a:solidFill>
                <a:srgbClr val="8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147680" y="553896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00"/>
                  </a:solidFill>
                  <a:latin typeface="Times New Roman"/>
                </a:rPr>
                <a:t>6b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302000" y="6446880"/>
              <a:ext cx="4035600" cy="0"/>
            </a:xfrm>
            <a:prstGeom prst="line">
              <a:avLst/>
            </a:prstGeom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988920" y="6446880"/>
              <a:ext cx="2952720" cy="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1" name=""/>
            <p:cNvGrpSpPr/>
            <p:nvPr/>
          </p:nvGrpSpPr>
          <p:grpSpPr>
            <a:xfrm>
              <a:off x="3944520" y="6308640"/>
              <a:ext cx="359280" cy="269640"/>
              <a:chOff x="3944520" y="6308640"/>
              <a:chExt cx="359280" cy="269640"/>
            </a:xfrm>
          </p:grpSpPr>
          <p:sp>
            <p:nvSpPr>
              <p:cNvPr id="1762" name=""/>
              <p:cNvSpPr/>
              <p:nvPr/>
            </p:nvSpPr>
            <p:spPr>
              <a:xfrm>
                <a:off x="3944880" y="6308640"/>
                <a:ext cx="358920" cy="269640"/>
              </a:xfrm>
              <a:prstGeom prst="rect">
                <a:avLst/>
              </a:prstGeom>
              <a:solidFill>
                <a:srgbClr val="ff7c8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 flipH="1">
                <a:off x="3944520" y="6308640"/>
                <a:ext cx="358920" cy="2649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4" name=""/>
            <p:cNvSpPr/>
            <p:nvPr/>
          </p:nvSpPr>
          <p:spPr>
            <a:xfrm>
              <a:off x="1147680" y="6159600"/>
              <a:ext cx="151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00"/>
                  </a:solidFill>
                  <a:latin typeface="Times New Roman"/>
                </a:rPr>
                <a:t>Termoficare urb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85640" y="1957320"/>
              <a:ext cx="935280" cy="32220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6" name=""/>
            <p:cNvGrpSpPr/>
            <p:nvPr/>
          </p:nvGrpSpPr>
          <p:grpSpPr>
            <a:xfrm>
              <a:off x="4129200" y="3278160"/>
              <a:ext cx="891720" cy="3133800"/>
              <a:chOff x="4129200" y="3278160"/>
              <a:chExt cx="891720" cy="3133800"/>
            </a:xfrm>
          </p:grpSpPr>
          <p:grpSp>
            <p:nvGrpSpPr>
              <p:cNvPr id="1767" name=""/>
              <p:cNvGrpSpPr/>
              <p:nvPr/>
            </p:nvGrpSpPr>
            <p:grpSpPr>
              <a:xfrm>
                <a:off x="4129200" y="3278160"/>
                <a:ext cx="891720" cy="3133800"/>
                <a:chOff x="4129200" y="3278160"/>
                <a:chExt cx="891720" cy="3133800"/>
              </a:xfrm>
            </p:grpSpPr>
            <p:sp>
              <p:nvSpPr>
                <p:cNvPr id="1768" name=""/>
                <p:cNvSpPr/>
                <p:nvPr/>
              </p:nvSpPr>
              <p:spPr>
                <a:xfrm flipV="1">
                  <a:off x="4402080" y="3906720"/>
                  <a:ext cx="0" cy="2696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69" name=""/>
                <p:cNvGrpSpPr/>
                <p:nvPr/>
              </p:nvGrpSpPr>
              <p:grpSpPr>
                <a:xfrm>
                  <a:off x="4129200" y="3278160"/>
                  <a:ext cx="891720" cy="685440"/>
                  <a:chOff x="4129200" y="3278160"/>
                  <a:chExt cx="891720" cy="685440"/>
                </a:xfrm>
              </p:grpSpPr>
              <p:sp>
                <p:nvSpPr>
                  <p:cNvPr id="1770" name=""/>
                  <p:cNvSpPr/>
                  <p:nvPr/>
                </p:nvSpPr>
                <p:spPr>
                  <a:xfrm>
                    <a:off x="4698720" y="3745080"/>
                    <a:ext cx="102960" cy="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1" name=""/>
                  <p:cNvSpPr/>
                  <p:nvPr/>
                </p:nvSpPr>
                <p:spPr>
                  <a:xfrm>
                    <a:off x="4814640" y="3652920"/>
                    <a:ext cx="206280" cy="1904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72" name=""/>
                  <p:cNvGrpSpPr/>
                  <p:nvPr/>
                </p:nvGrpSpPr>
                <p:grpSpPr>
                  <a:xfrm>
                    <a:off x="4129200" y="3278160"/>
                    <a:ext cx="579600" cy="685440"/>
                    <a:chOff x="4129200" y="3278160"/>
                    <a:chExt cx="579600" cy="685440"/>
                  </a:xfrm>
                </p:grpSpPr>
                <p:grpSp>
                  <p:nvGrpSpPr>
                    <p:cNvPr id="1773" name=""/>
                    <p:cNvGrpSpPr/>
                    <p:nvPr/>
                  </p:nvGrpSpPr>
                  <p:grpSpPr>
                    <a:xfrm>
                      <a:off x="4133520" y="3531960"/>
                      <a:ext cx="575280" cy="431640"/>
                      <a:chOff x="4133520" y="3531960"/>
                      <a:chExt cx="575280" cy="431640"/>
                    </a:xfrm>
                  </p:grpSpPr>
                  <p:sp>
                    <p:nvSpPr>
                      <p:cNvPr id="1774" name=""/>
                      <p:cNvSpPr/>
                      <p:nvPr/>
                    </p:nvSpPr>
                    <p:spPr>
                      <a:xfrm flipV="1">
                        <a:off x="4133520" y="3640320"/>
                        <a:ext cx="0" cy="21420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5" name=""/>
                      <p:cNvSpPr/>
                      <p:nvPr/>
                    </p:nvSpPr>
                    <p:spPr>
                      <a:xfrm flipV="1">
                        <a:off x="4133520" y="3531960"/>
                        <a:ext cx="575280" cy="10836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6" name=""/>
                      <p:cNvSpPr/>
                      <p:nvPr/>
                    </p:nvSpPr>
                    <p:spPr>
                      <a:xfrm>
                        <a:off x="4133520" y="3855240"/>
                        <a:ext cx="575280" cy="10836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7" name=""/>
                      <p:cNvSpPr/>
                      <p:nvPr/>
                    </p:nvSpPr>
                    <p:spPr>
                      <a:xfrm>
                        <a:off x="4708800" y="3532320"/>
                        <a:ext cx="0" cy="43128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778" name=""/>
                    <p:cNvSpPr/>
                    <p:nvPr/>
                  </p:nvSpPr>
                  <p:spPr>
                    <a:xfrm>
                      <a:off x="4129200" y="3278160"/>
                      <a:ext cx="0" cy="38412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79" name=""/>
                <p:cNvSpPr/>
                <p:nvPr/>
              </p:nvSpPr>
              <p:spPr>
                <a:xfrm>
                  <a:off x="4219560" y="3863880"/>
                  <a:ext cx="0" cy="3510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4402080" y="4321080"/>
                  <a:ext cx="0" cy="39708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 flipV="1">
                  <a:off x="4711680" y="3925440"/>
                  <a:ext cx="0" cy="2509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4711680" y="4321080"/>
                  <a:ext cx="0" cy="39708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4711680" y="5870520"/>
                  <a:ext cx="0" cy="5414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4711680" y="4862520"/>
                  <a:ext cx="0" cy="8636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5" name=""/>
              <p:cNvSpPr/>
              <p:nvPr/>
            </p:nvSpPr>
            <p:spPr>
              <a:xfrm>
                <a:off x="4167360" y="361008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6" name=""/>
            <p:cNvGrpSpPr/>
            <p:nvPr/>
          </p:nvGrpSpPr>
          <p:grpSpPr>
            <a:xfrm>
              <a:off x="5842080" y="3278160"/>
              <a:ext cx="891720" cy="3133800"/>
              <a:chOff x="5842080" y="3278160"/>
              <a:chExt cx="891720" cy="3133800"/>
            </a:xfrm>
          </p:grpSpPr>
          <p:grpSp>
            <p:nvGrpSpPr>
              <p:cNvPr id="1787" name=""/>
              <p:cNvGrpSpPr/>
              <p:nvPr/>
            </p:nvGrpSpPr>
            <p:grpSpPr>
              <a:xfrm>
                <a:off x="5842080" y="3278160"/>
                <a:ext cx="891720" cy="3133800"/>
                <a:chOff x="5842080" y="3278160"/>
                <a:chExt cx="891720" cy="3133800"/>
              </a:xfrm>
            </p:grpSpPr>
            <p:sp>
              <p:nvSpPr>
                <p:cNvPr id="1788" name=""/>
                <p:cNvSpPr/>
                <p:nvPr/>
              </p:nvSpPr>
              <p:spPr>
                <a:xfrm flipV="1">
                  <a:off x="6114960" y="3906720"/>
                  <a:ext cx="0" cy="2696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89" name=""/>
                <p:cNvGrpSpPr/>
                <p:nvPr/>
              </p:nvGrpSpPr>
              <p:grpSpPr>
                <a:xfrm>
                  <a:off x="5842080" y="3278160"/>
                  <a:ext cx="891720" cy="685440"/>
                  <a:chOff x="5842080" y="3278160"/>
                  <a:chExt cx="891720" cy="685440"/>
                </a:xfrm>
              </p:grpSpPr>
              <p:sp>
                <p:nvSpPr>
                  <p:cNvPr id="1790" name=""/>
                  <p:cNvSpPr/>
                  <p:nvPr/>
                </p:nvSpPr>
                <p:spPr>
                  <a:xfrm>
                    <a:off x="6411600" y="3745080"/>
                    <a:ext cx="102960" cy="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1" name=""/>
                  <p:cNvSpPr/>
                  <p:nvPr/>
                </p:nvSpPr>
                <p:spPr>
                  <a:xfrm>
                    <a:off x="6527520" y="3652920"/>
                    <a:ext cx="206280" cy="1904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92" name=""/>
                  <p:cNvGrpSpPr/>
                  <p:nvPr/>
                </p:nvGrpSpPr>
                <p:grpSpPr>
                  <a:xfrm>
                    <a:off x="5842080" y="3278160"/>
                    <a:ext cx="579600" cy="685440"/>
                    <a:chOff x="5842080" y="3278160"/>
                    <a:chExt cx="579600" cy="685440"/>
                  </a:xfrm>
                </p:grpSpPr>
                <p:grpSp>
                  <p:nvGrpSpPr>
                    <p:cNvPr id="1793" name=""/>
                    <p:cNvGrpSpPr/>
                    <p:nvPr/>
                  </p:nvGrpSpPr>
                  <p:grpSpPr>
                    <a:xfrm>
                      <a:off x="5846400" y="3531960"/>
                      <a:ext cx="575280" cy="431640"/>
                      <a:chOff x="5846400" y="3531960"/>
                      <a:chExt cx="575280" cy="431640"/>
                    </a:xfrm>
                  </p:grpSpPr>
                  <p:sp>
                    <p:nvSpPr>
                      <p:cNvPr id="1794" name=""/>
                      <p:cNvSpPr/>
                      <p:nvPr/>
                    </p:nvSpPr>
                    <p:spPr>
                      <a:xfrm flipV="1">
                        <a:off x="5846400" y="3640320"/>
                        <a:ext cx="0" cy="21420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5" name=""/>
                      <p:cNvSpPr/>
                      <p:nvPr/>
                    </p:nvSpPr>
                    <p:spPr>
                      <a:xfrm flipV="1">
                        <a:off x="5846400" y="3531960"/>
                        <a:ext cx="575280" cy="10836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6" name=""/>
                      <p:cNvSpPr/>
                      <p:nvPr/>
                    </p:nvSpPr>
                    <p:spPr>
                      <a:xfrm>
                        <a:off x="5846400" y="3855240"/>
                        <a:ext cx="575280" cy="10836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7" name=""/>
                      <p:cNvSpPr/>
                      <p:nvPr/>
                    </p:nvSpPr>
                    <p:spPr>
                      <a:xfrm>
                        <a:off x="6421680" y="3532320"/>
                        <a:ext cx="0" cy="43128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798" name=""/>
                    <p:cNvSpPr/>
                    <p:nvPr/>
                  </p:nvSpPr>
                  <p:spPr>
                    <a:xfrm>
                      <a:off x="5842080" y="3278160"/>
                      <a:ext cx="0" cy="38412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99" name=""/>
                <p:cNvSpPr/>
                <p:nvPr/>
              </p:nvSpPr>
              <p:spPr>
                <a:xfrm>
                  <a:off x="5932440" y="3863880"/>
                  <a:ext cx="0" cy="3510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6114960" y="4321080"/>
                  <a:ext cx="0" cy="39708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 flipV="1">
                  <a:off x="6424560" y="3925440"/>
                  <a:ext cx="0" cy="2509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>
                  <a:off x="6424560" y="4321080"/>
                  <a:ext cx="0" cy="39708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6424560" y="5870520"/>
                  <a:ext cx="0" cy="5414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6424560" y="4862520"/>
                  <a:ext cx="0" cy="8636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5" name=""/>
              <p:cNvSpPr/>
              <p:nvPr/>
            </p:nvSpPr>
            <p:spPr>
              <a:xfrm>
                <a:off x="5886360" y="361008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6" name=""/>
            <p:cNvSpPr/>
            <p:nvPr/>
          </p:nvSpPr>
          <p:spPr>
            <a:xfrm>
              <a:off x="220680" y="1652760"/>
              <a:ext cx="203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Times New Roman"/>
                </a:rPr>
                <a:t>Monitorizare depozit 20 an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7920000" y="155736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00"/>
                  </a:solidFill>
                  <a:latin typeface="Times New Roman"/>
                </a:rPr>
                <a:t>Cos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8" name=""/>
            <p:cNvGrpSpPr/>
            <p:nvPr/>
          </p:nvGrpSpPr>
          <p:grpSpPr>
            <a:xfrm>
              <a:off x="1494000" y="3332160"/>
              <a:ext cx="671040" cy="882720"/>
              <a:chOff x="1494000" y="3332160"/>
              <a:chExt cx="671040" cy="882720"/>
            </a:xfrm>
          </p:grpSpPr>
          <p:sp>
            <p:nvSpPr>
              <p:cNvPr id="1809" name=""/>
              <p:cNvSpPr/>
              <p:nvPr/>
            </p:nvSpPr>
            <p:spPr>
              <a:xfrm>
                <a:off x="1852560" y="3744720"/>
                <a:ext cx="1029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1958760" y="3652560"/>
                <a:ext cx="206280" cy="190800"/>
              </a:xfrm>
              <a:prstGeom prst="ellipse">
                <a:avLst/>
              </a:prstGeom>
              <a:solidFill>
                <a:srgbClr val="ff7c80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1" name=""/>
              <p:cNvGrpSpPr/>
              <p:nvPr/>
            </p:nvGrpSpPr>
            <p:grpSpPr>
              <a:xfrm>
                <a:off x="1494000" y="3531600"/>
                <a:ext cx="364680" cy="432000"/>
                <a:chOff x="1494000" y="3531600"/>
                <a:chExt cx="364680" cy="432000"/>
              </a:xfrm>
            </p:grpSpPr>
            <p:sp>
              <p:nvSpPr>
                <p:cNvPr id="1812" name=""/>
                <p:cNvSpPr/>
                <p:nvPr/>
              </p:nvSpPr>
              <p:spPr>
                <a:xfrm flipV="1">
                  <a:off x="1494000" y="3639960"/>
                  <a:ext cx="0" cy="2142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 flipV="1">
                  <a:off x="1494000" y="3531600"/>
                  <a:ext cx="364680" cy="1083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1494000" y="3854880"/>
                  <a:ext cx="364680" cy="1083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1858680" y="3531960"/>
                  <a:ext cx="0" cy="43164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6" name=""/>
              <p:cNvSpPr/>
              <p:nvPr/>
            </p:nvSpPr>
            <p:spPr>
              <a:xfrm>
                <a:off x="1494000" y="3332160"/>
                <a:ext cx="0" cy="330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1860480" y="3863880"/>
                <a:ext cx="0" cy="3510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8" name=""/>
            <p:cNvSpPr/>
            <p:nvPr/>
          </p:nvSpPr>
          <p:spPr>
            <a:xfrm>
              <a:off x="1434960" y="3610080"/>
              <a:ext cx="50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00"/>
                  </a:solidFill>
                  <a:latin typeface="Times New Roman"/>
                </a:rPr>
                <a:t>TA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9" name=""/>
            <p:cNvGrpSpPr/>
            <p:nvPr/>
          </p:nvGrpSpPr>
          <p:grpSpPr>
            <a:xfrm>
              <a:off x="6789600" y="4805280"/>
              <a:ext cx="752760" cy="975240"/>
              <a:chOff x="6789600" y="4805280"/>
              <a:chExt cx="752760" cy="975240"/>
            </a:xfrm>
          </p:grpSpPr>
          <p:grpSp>
            <p:nvGrpSpPr>
              <p:cNvPr id="1820" name=""/>
              <p:cNvGrpSpPr/>
              <p:nvPr/>
            </p:nvGrpSpPr>
            <p:grpSpPr>
              <a:xfrm>
                <a:off x="6870600" y="4805280"/>
                <a:ext cx="671760" cy="975240"/>
                <a:chOff x="6870600" y="4805280"/>
                <a:chExt cx="671760" cy="975240"/>
              </a:xfrm>
            </p:grpSpPr>
            <p:sp>
              <p:nvSpPr>
                <p:cNvPr id="1821" name=""/>
                <p:cNvSpPr/>
                <p:nvPr/>
              </p:nvSpPr>
              <p:spPr>
                <a:xfrm>
                  <a:off x="7229520" y="5261400"/>
                  <a:ext cx="10332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7335720" y="5159160"/>
                  <a:ext cx="206640" cy="210600"/>
                </a:xfrm>
                <a:prstGeom prst="ellipse">
                  <a:avLst/>
                </a:prstGeom>
                <a:solidFill>
                  <a:srgbClr val="ff7c8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23" name=""/>
                <p:cNvGrpSpPr/>
                <p:nvPr/>
              </p:nvGrpSpPr>
              <p:grpSpPr>
                <a:xfrm>
                  <a:off x="6870600" y="5025600"/>
                  <a:ext cx="365040" cy="477360"/>
                  <a:chOff x="6870600" y="5025600"/>
                  <a:chExt cx="365040" cy="477360"/>
                </a:xfrm>
              </p:grpSpPr>
              <p:sp>
                <p:nvSpPr>
                  <p:cNvPr id="1824" name=""/>
                  <p:cNvSpPr/>
                  <p:nvPr/>
                </p:nvSpPr>
                <p:spPr>
                  <a:xfrm flipV="1">
                    <a:off x="6870600" y="5145840"/>
                    <a:ext cx="0" cy="23688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5" name=""/>
                  <p:cNvSpPr/>
                  <p:nvPr/>
                </p:nvSpPr>
                <p:spPr>
                  <a:xfrm flipV="1">
                    <a:off x="6870600" y="5025600"/>
                    <a:ext cx="365040" cy="11988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6" name=""/>
                  <p:cNvSpPr/>
                  <p:nvPr/>
                </p:nvSpPr>
                <p:spPr>
                  <a:xfrm>
                    <a:off x="6870600" y="5383080"/>
                    <a:ext cx="365040" cy="11988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7" name=""/>
                  <p:cNvSpPr/>
                  <p:nvPr/>
                </p:nvSpPr>
                <p:spPr>
                  <a:xfrm>
                    <a:off x="7235640" y="5025960"/>
                    <a:ext cx="0" cy="4770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28" name=""/>
                <p:cNvSpPr/>
                <p:nvPr/>
              </p:nvSpPr>
              <p:spPr>
                <a:xfrm>
                  <a:off x="6870600" y="4805280"/>
                  <a:ext cx="0" cy="36468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7237440" y="5392800"/>
                  <a:ext cx="0" cy="3877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0" name=""/>
              <p:cNvSpPr/>
              <p:nvPr/>
            </p:nvSpPr>
            <p:spPr>
              <a:xfrm>
                <a:off x="6789600" y="511236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1" name=""/>
            <p:cNvSpPr/>
            <p:nvPr/>
          </p:nvSpPr>
          <p:spPr>
            <a:xfrm flipH="1">
              <a:off x="1193400" y="1301760"/>
              <a:ext cx="4838760" cy="0"/>
            </a:xfrm>
            <a:prstGeom prst="line">
              <a:avLst/>
            </a:prstGeom>
            <a:ln w="50760">
              <a:solidFill>
                <a:srgbClr val="0066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2" name=""/>
            <p:cNvGrpSpPr/>
            <p:nvPr/>
          </p:nvGrpSpPr>
          <p:grpSpPr>
            <a:xfrm>
              <a:off x="825480" y="1114560"/>
              <a:ext cx="360360" cy="360360"/>
              <a:chOff x="825480" y="1114560"/>
              <a:chExt cx="360360" cy="360360"/>
            </a:xfrm>
          </p:grpSpPr>
          <p:sp>
            <p:nvSpPr>
              <p:cNvPr id="1833" name=""/>
              <p:cNvSpPr/>
              <p:nvPr/>
            </p:nvSpPr>
            <p:spPr>
              <a:xfrm>
                <a:off x="898560" y="1187640"/>
                <a:ext cx="215640" cy="216000"/>
              </a:xfrm>
              <a:prstGeom prst="ellipse">
                <a:avLst/>
              </a:prstGeom>
              <a:noFill/>
              <a:ln w="158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825480" y="1114560"/>
                <a:ext cx="360360" cy="360360"/>
              </a:xfrm>
              <a:prstGeom prst="ellipse">
                <a:avLst/>
              </a:prstGeom>
              <a:noFill/>
              <a:ln w="158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5" name=""/>
            <p:cNvSpPr/>
            <p:nvPr/>
          </p:nvSpPr>
          <p:spPr>
            <a:xfrm>
              <a:off x="415800" y="836640"/>
              <a:ext cx="108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Times New Roman"/>
                </a:rPr>
                <a:t>Cos repar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485640" y="2413080"/>
              <a:ext cx="935280" cy="32220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90600" y="2695680"/>
              <a:ext cx="168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Times New Roman"/>
                </a:rPr>
                <a:t>Depozite noi de cenu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 rot="16200000">
              <a:off x="-357120" y="4645080"/>
              <a:ext cx="216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00"/>
                  </a:solidFill>
                  <a:latin typeface="Times New Roman"/>
                </a:rPr>
                <a:t>Consumatorii industriali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2395440" y="1866960"/>
              <a:ext cx="216000" cy="27144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2739960" y="1866960"/>
              <a:ext cx="216000" cy="27144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H="1">
              <a:off x="1496880" y="2373480"/>
              <a:ext cx="912960" cy="0"/>
            </a:xfrm>
            <a:prstGeom prst="line">
              <a:avLst/>
            </a:prstGeom>
            <a:ln w="50760">
              <a:solidFill>
                <a:srgbClr val="0066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2" name=""/>
            <p:cNvGrpSpPr/>
            <p:nvPr/>
          </p:nvGrpSpPr>
          <p:grpSpPr>
            <a:xfrm>
              <a:off x="2398680" y="2532240"/>
              <a:ext cx="531720" cy="414000"/>
              <a:chOff x="2398680" y="2532240"/>
              <a:chExt cx="531720" cy="414000"/>
            </a:xfrm>
          </p:grpSpPr>
          <p:sp>
            <p:nvSpPr>
              <p:cNvPr id="1843" name=""/>
              <p:cNvSpPr/>
              <p:nvPr/>
            </p:nvSpPr>
            <p:spPr>
              <a:xfrm>
                <a:off x="2398680" y="2532240"/>
                <a:ext cx="531720" cy="414000"/>
              </a:xfrm>
              <a:prstGeom prst="rect">
                <a:avLst/>
              </a:prstGeom>
              <a:solidFill>
                <a:srgbClr val="ff7c80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2414520" y="2563920"/>
                <a:ext cx="495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3300"/>
                    </a:solidFill>
                    <a:latin typeface="Times New Roman"/>
                  </a:rPr>
                  <a:t>C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5" name=""/>
            <p:cNvGrpSpPr/>
            <p:nvPr/>
          </p:nvGrpSpPr>
          <p:grpSpPr>
            <a:xfrm>
              <a:off x="2463840" y="2944800"/>
              <a:ext cx="412560" cy="393840"/>
              <a:chOff x="2463840" y="2944800"/>
              <a:chExt cx="412560" cy="393840"/>
            </a:xfrm>
          </p:grpSpPr>
          <p:sp>
            <p:nvSpPr>
              <p:cNvPr id="1846" name=""/>
              <p:cNvSpPr/>
              <p:nvPr/>
            </p:nvSpPr>
            <p:spPr>
              <a:xfrm>
                <a:off x="2668320" y="2944800"/>
                <a:ext cx="0" cy="117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flipH="1">
                <a:off x="2466720" y="3052800"/>
                <a:ext cx="204480" cy="954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2463840" y="3148200"/>
                <a:ext cx="41256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flipH="1">
                <a:off x="2662200" y="3148200"/>
                <a:ext cx="207360" cy="936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2671560" y="3232080"/>
                <a:ext cx="0" cy="1065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1" name=""/>
            <p:cNvGrpSpPr/>
            <p:nvPr/>
          </p:nvGrpSpPr>
          <p:grpSpPr>
            <a:xfrm>
              <a:off x="2124000" y="2351160"/>
              <a:ext cx="264960" cy="360360"/>
              <a:chOff x="2124000" y="2351160"/>
              <a:chExt cx="264960" cy="360360"/>
            </a:xfrm>
          </p:grpSpPr>
          <p:sp>
            <p:nvSpPr>
              <p:cNvPr id="1852" name=""/>
              <p:cNvSpPr/>
              <p:nvPr/>
            </p:nvSpPr>
            <p:spPr>
              <a:xfrm>
                <a:off x="2130120" y="2351160"/>
                <a:ext cx="0" cy="360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 flipH="1">
                <a:off x="2124000" y="2711520"/>
                <a:ext cx="26496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4" name=""/>
            <p:cNvSpPr/>
            <p:nvPr/>
          </p:nvSpPr>
          <p:spPr>
            <a:xfrm flipH="1">
              <a:off x="2558880" y="2363760"/>
              <a:ext cx="216000" cy="0"/>
            </a:xfrm>
            <a:prstGeom prst="line">
              <a:avLst/>
            </a:prstGeom>
            <a:ln w="507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H="1">
              <a:off x="2919240" y="2373480"/>
              <a:ext cx="935280" cy="0"/>
            </a:xfrm>
            <a:prstGeom prst="line">
              <a:avLst/>
            </a:prstGeom>
            <a:ln w="507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 flipH="1">
              <a:off x="3998880" y="2373480"/>
              <a:ext cx="216000" cy="0"/>
            </a:xfrm>
            <a:prstGeom prst="line">
              <a:avLst/>
            </a:prstGeom>
            <a:ln w="507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H="1">
              <a:off x="4359240" y="2373480"/>
              <a:ext cx="944640" cy="0"/>
            </a:xfrm>
            <a:prstGeom prst="line">
              <a:avLst/>
            </a:prstGeom>
            <a:ln w="507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8" name=""/>
            <p:cNvGrpSpPr/>
            <p:nvPr/>
          </p:nvGrpSpPr>
          <p:grpSpPr>
            <a:xfrm>
              <a:off x="3325680" y="6308640"/>
              <a:ext cx="258840" cy="258840"/>
              <a:chOff x="3325680" y="6308640"/>
              <a:chExt cx="258840" cy="258840"/>
            </a:xfrm>
          </p:grpSpPr>
          <p:sp>
            <p:nvSpPr>
              <p:cNvPr id="1859" name=""/>
              <p:cNvSpPr/>
              <p:nvPr/>
            </p:nvSpPr>
            <p:spPr>
              <a:xfrm>
                <a:off x="3325680" y="6308640"/>
                <a:ext cx="258840" cy="258840"/>
              </a:xfrm>
              <a:prstGeom prst="ellipse">
                <a:avLst/>
              </a:prstGeom>
              <a:solidFill>
                <a:srgbClr val="ff7c8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 flipH="1">
                <a:off x="3373560" y="6439680"/>
                <a:ext cx="15624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1" name=""/>
            <p:cNvGrpSpPr/>
            <p:nvPr/>
          </p:nvGrpSpPr>
          <p:grpSpPr>
            <a:xfrm>
              <a:off x="3584520" y="2351160"/>
              <a:ext cx="806400" cy="987480"/>
              <a:chOff x="3584520" y="2351160"/>
              <a:chExt cx="806400" cy="987480"/>
            </a:xfrm>
          </p:grpSpPr>
          <p:grpSp>
            <p:nvGrpSpPr>
              <p:cNvPr id="1862" name=""/>
              <p:cNvGrpSpPr/>
              <p:nvPr/>
            </p:nvGrpSpPr>
            <p:grpSpPr>
              <a:xfrm>
                <a:off x="3859200" y="2532240"/>
                <a:ext cx="531720" cy="414000"/>
                <a:chOff x="3859200" y="2532240"/>
                <a:chExt cx="531720" cy="414000"/>
              </a:xfrm>
            </p:grpSpPr>
            <p:sp>
              <p:nvSpPr>
                <p:cNvPr id="1863" name=""/>
                <p:cNvSpPr/>
                <p:nvPr/>
              </p:nvSpPr>
              <p:spPr>
                <a:xfrm>
                  <a:off x="3859200" y="2532240"/>
                  <a:ext cx="531720" cy="414000"/>
                </a:xfrm>
                <a:prstGeom prst="rect">
                  <a:avLst/>
                </a:prstGeom>
                <a:solidFill>
                  <a:srgbClr val="ff7c8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3875040" y="2563920"/>
                  <a:ext cx="495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Times New Roman"/>
                    </a:rPr>
                    <a:t>C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5" name=""/>
              <p:cNvGrpSpPr/>
              <p:nvPr/>
            </p:nvGrpSpPr>
            <p:grpSpPr>
              <a:xfrm>
                <a:off x="3924360" y="2944800"/>
                <a:ext cx="412560" cy="393840"/>
                <a:chOff x="3924360" y="2944800"/>
                <a:chExt cx="412560" cy="393840"/>
              </a:xfrm>
            </p:grpSpPr>
            <p:sp>
              <p:nvSpPr>
                <p:cNvPr id="1866" name=""/>
                <p:cNvSpPr/>
                <p:nvPr/>
              </p:nvSpPr>
              <p:spPr>
                <a:xfrm>
                  <a:off x="4128840" y="2944800"/>
                  <a:ext cx="0" cy="1177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 flipH="1">
                  <a:off x="3927240" y="3052800"/>
                  <a:ext cx="204480" cy="954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3924360" y="3148200"/>
                  <a:ext cx="4125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 flipH="1">
                  <a:off x="4122720" y="3148200"/>
                  <a:ext cx="207360" cy="936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4132080" y="3232080"/>
                  <a:ext cx="0" cy="1065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1" name=""/>
              <p:cNvGrpSpPr/>
              <p:nvPr/>
            </p:nvGrpSpPr>
            <p:grpSpPr>
              <a:xfrm>
                <a:off x="3584520" y="2351160"/>
                <a:ext cx="264960" cy="360360"/>
                <a:chOff x="3584520" y="2351160"/>
                <a:chExt cx="264960" cy="360360"/>
              </a:xfrm>
            </p:grpSpPr>
            <p:sp>
              <p:nvSpPr>
                <p:cNvPr id="1872" name=""/>
                <p:cNvSpPr/>
                <p:nvPr/>
              </p:nvSpPr>
              <p:spPr>
                <a:xfrm>
                  <a:off x="3590640" y="23511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 flipH="1">
                  <a:off x="3584520" y="27115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74" name=""/>
            <p:cNvSpPr/>
            <p:nvPr/>
          </p:nvSpPr>
          <p:spPr>
            <a:xfrm>
              <a:off x="698400" y="2009880"/>
              <a:ext cx="505080" cy="18720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V="1">
              <a:off x="695160" y="2009880"/>
              <a:ext cx="505080" cy="18720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V="1">
              <a:off x="2932200" y="3906720"/>
              <a:ext cx="0" cy="2700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7" name=""/>
            <p:cNvGrpSpPr/>
            <p:nvPr/>
          </p:nvGrpSpPr>
          <p:grpSpPr>
            <a:xfrm>
              <a:off x="2678040" y="3278160"/>
              <a:ext cx="891720" cy="685440"/>
              <a:chOff x="2678040" y="3278160"/>
              <a:chExt cx="891720" cy="685440"/>
            </a:xfrm>
          </p:grpSpPr>
          <p:sp>
            <p:nvSpPr>
              <p:cNvPr id="1878" name=""/>
              <p:cNvSpPr/>
              <p:nvPr/>
            </p:nvSpPr>
            <p:spPr>
              <a:xfrm>
                <a:off x="3247560" y="3745080"/>
                <a:ext cx="10296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3363480" y="3652920"/>
                <a:ext cx="206280" cy="190440"/>
              </a:xfrm>
              <a:prstGeom prst="ellipse">
                <a:avLst/>
              </a:prstGeom>
              <a:solidFill>
                <a:srgbClr val="ffcc99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0" name=""/>
              <p:cNvGrpSpPr/>
              <p:nvPr/>
            </p:nvGrpSpPr>
            <p:grpSpPr>
              <a:xfrm>
                <a:off x="2678040" y="3278160"/>
                <a:ext cx="579600" cy="685440"/>
                <a:chOff x="2678040" y="3278160"/>
                <a:chExt cx="579600" cy="685440"/>
              </a:xfrm>
            </p:grpSpPr>
            <p:grpSp>
              <p:nvGrpSpPr>
                <p:cNvPr id="1881" name=""/>
                <p:cNvGrpSpPr/>
                <p:nvPr/>
              </p:nvGrpSpPr>
              <p:grpSpPr>
                <a:xfrm>
                  <a:off x="2682360" y="3531960"/>
                  <a:ext cx="575280" cy="431640"/>
                  <a:chOff x="2682360" y="3531960"/>
                  <a:chExt cx="575280" cy="431640"/>
                </a:xfrm>
              </p:grpSpPr>
              <p:sp>
                <p:nvSpPr>
                  <p:cNvPr id="1882" name=""/>
                  <p:cNvSpPr/>
                  <p:nvPr/>
                </p:nvSpPr>
                <p:spPr>
                  <a:xfrm flipV="1">
                    <a:off x="2682360" y="3640320"/>
                    <a:ext cx="0" cy="21420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3" name=""/>
                  <p:cNvSpPr/>
                  <p:nvPr/>
                </p:nvSpPr>
                <p:spPr>
                  <a:xfrm flipV="1">
                    <a:off x="2682360" y="3531960"/>
                    <a:ext cx="575280" cy="10836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4" name=""/>
                  <p:cNvSpPr/>
                  <p:nvPr/>
                </p:nvSpPr>
                <p:spPr>
                  <a:xfrm>
                    <a:off x="2682360" y="3855240"/>
                    <a:ext cx="575280" cy="10836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5" name=""/>
                  <p:cNvSpPr/>
                  <p:nvPr/>
                </p:nvSpPr>
                <p:spPr>
                  <a:xfrm>
                    <a:off x="3257640" y="3532320"/>
                    <a:ext cx="0" cy="43128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86" name=""/>
                <p:cNvSpPr/>
                <p:nvPr/>
              </p:nvSpPr>
              <p:spPr>
                <a:xfrm>
                  <a:off x="2678040" y="3278160"/>
                  <a:ext cx="0" cy="38412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87" name=""/>
            <p:cNvSpPr/>
            <p:nvPr/>
          </p:nvSpPr>
          <p:spPr>
            <a:xfrm>
              <a:off x="2932200" y="4321080"/>
              <a:ext cx="0" cy="397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8" name=""/>
            <p:cNvGrpSpPr/>
            <p:nvPr/>
          </p:nvGrpSpPr>
          <p:grpSpPr>
            <a:xfrm>
              <a:off x="3376440" y="3962520"/>
              <a:ext cx="496440" cy="187200"/>
              <a:chOff x="3376440" y="3962520"/>
              <a:chExt cx="496440" cy="187200"/>
            </a:xfrm>
          </p:grpSpPr>
          <p:sp>
            <p:nvSpPr>
              <p:cNvPr id="1889" name=""/>
              <p:cNvSpPr/>
              <p:nvPr/>
            </p:nvSpPr>
            <p:spPr>
              <a:xfrm>
                <a:off x="3376440" y="3962520"/>
                <a:ext cx="208080" cy="187200"/>
              </a:xfrm>
              <a:prstGeom prst="ellipse">
                <a:avLst/>
              </a:prstGeom>
              <a:solidFill>
                <a:srgbClr val="ffcc99"/>
              </a:solidFill>
              <a:ln w="1260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0" name=""/>
              <p:cNvGrpSpPr/>
              <p:nvPr/>
            </p:nvGrpSpPr>
            <p:grpSpPr>
              <a:xfrm>
                <a:off x="3455640" y="3998880"/>
                <a:ext cx="417240" cy="117360"/>
                <a:chOff x="3455640" y="3998880"/>
                <a:chExt cx="417240" cy="117360"/>
              </a:xfrm>
            </p:grpSpPr>
            <p:sp>
              <p:nvSpPr>
                <p:cNvPr id="1891" name=""/>
                <p:cNvSpPr/>
                <p:nvPr/>
              </p:nvSpPr>
              <p:spPr>
                <a:xfrm>
                  <a:off x="3455640" y="3998880"/>
                  <a:ext cx="412920" cy="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3459960" y="4002120"/>
                  <a:ext cx="59760" cy="5508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 flipH="1">
                  <a:off x="3459960" y="4061520"/>
                  <a:ext cx="59760" cy="5472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3459960" y="4116240"/>
                  <a:ext cx="412920" cy="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95" name=""/>
            <p:cNvSpPr/>
            <p:nvPr/>
          </p:nvSpPr>
          <p:spPr>
            <a:xfrm flipV="1">
              <a:off x="3260880" y="3951000"/>
              <a:ext cx="0" cy="1191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255840" y="4070520"/>
              <a:ext cx="11916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735280" y="3610080"/>
              <a:ext cx="50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00"/>
                  </a:solidFill>
                  <a:latin typeface="Times New Roman"/>
                </a:rPr>
                <a:t>TA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8" name=""/>
            <p:cNvGrpSpPr/>
            <p:nvPr/>
          </p:nvGrpSpPr>
          <p:grpSpPr>
            <a:xfrm>
              <a:off x="7448040" y="543960"/>
              <a:ext cx="3187800" cy="1388160"/>
              <a:chOff x="7448040" y="543960"/>
              <a:chExt cx="3187800" cy="1388160"/>
            </a:xfrm>
          </p:grpSpPr>
          <p:sp>
            <p:nvSpPr>
              <p:cNvPr id="1899" name=""/>
              <p:cNvSpPr/>
              <p:nvPr/>
            </p:nvSpPr>
            <p:spPr>
              <a:xfrm flipV="1">
                <a:off x="7448040" y="543600"/>
                <a:ext cx="1461240" cy="138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389" y="3116"/>
                    </a:moveTo>
                    <a:arcTo wR="10800" hR="10800" stAng="-2721549" swAng="36503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389" y="3116"/>
                    </a:moveTo>
                    <a:arcTo wR="10800" hR="10800" stAng="-2721549" swAng="3650365"/>
                  </a:path>
                </a:pathLst>
              </a:custGeom>
              <a:noFill/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 flipH="1" flipV="1">
                <a:off x="9174240" y="543960"/>
                <a:ext cx="1461240" cy="138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389" y="3116"/>
                    </a:moveTo>
                    <a:arcTo wR="10800" hR="10800" stAng="-2721549" swAng="36503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389" y="3116"/>
                    </a:moveTo>
                    <a:arcTo wR="10800" hR="10800" stAng="-2721549" swAng="3650365"/>
                  </a:path>
                </a:pathLst>
              </a:custGeom>
              <a:noFill/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8868960" y="1052640"/>
                <a:ext cx="34524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8696520" y="1729440"/>
                <a:ext cx="69012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3" name=""/>
            <p:cNvSpPr/>
            <p:nvPr/>
          </p:nvSpPr>
          <p:spPr>
            <a:xfrm>
              <a:off x="8193240" y="750960"/>
              <a:ext cx="158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Times New Roman"/>
                </a:rPr>
                <a:t>Instalatie de racir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4" name=""/>
            <p:cNvGrpSpPr/>
            <p:nvPr/>
          </p:nvGrpSpPr>
          <p:grpSpPr>
            <a:xfrm>
              <a:off x="5294160" y="2351160"/>
              <a:ext cx="806400" cy="987480"/>
              <a:chOff x="5294160" y="2351160"/>
              <a:chExt cx="806400" cy="987480"/>
            </a:xfrm>
          </p:grpSpPr>
          <p:grpSp>
            <p:nvGrpSpPr>
              <p:cNvPr id="1905" name=""/>
              <p:cNvGrpSpPr/>
              <p:nvPr/>
            </p:nvGrpSpPr>
            <p:grpSpPr>
              <a:xfrm>
                <a:off x="5568840" y="2532240"/>
                <a:ext cx="531720" cy="414000"/>
                <a:chOff x="5568840" y="2532240"/>
                <a:chExt cx="531720" cy="414000"/>
              </a:xfrm>
            </p:grpSpPr>
            <p:sp>
              <p:nvSpPr>
                <p:cNvPr id="1906" name=""/>
                <p:cNvSpPr/>
                <p:nvPr/>
              </p:nvSpPr>
              <p:spPr>
                <a:xfrm>
                  <a:off x="5568840" y="2532240"/>
                  <a:ext cx="531720" cy="414000"/>
                </a:xfrm>
                <a:prstGeom prst="rect">
                  <a:avLst/>
                </a:prstGeom>
                <a:solidFill>
                  <a:srgbClr val="ff7c8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5584680" y="2563920"/>
                  <a:ext cx="495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Times New Roman"/>
                    </a:rPr>
                    <a:t>C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8" name=""/>
              <p:cNvGrpSpPr/>
              <p:nvPr/>
            </p:nvGrpSpPr>
            <p:grpSpPr>
              <a:xfrm>
                <a:off x="5634000" y="2944800"/>
                <a:ext cx="412560" cy="393840"/>
                <a:chOff x="5634000" y="2944800"/>
                <a:chExt cx="412560" cy="393840"/>
              </a:xfrm>
            </p:grpSpPr>
            <p:sp>
              <p:nvSpPr>
                <p:cNvPr id="1909" name=""/>
                <p:cNvSpPr/>
                <p:nvPr/>
              </p:nvSpPr>
              <p:spPr>
                <a:xfrm>
                  <a:off x="5838480" y="2944800"/>
                  <a:ext cx="0" cy="1177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 flipH="1">
                  <a:off x="5636880" y="3052800"/>
                  <a:ext cx="204480" cy="954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5634000" y="3148200"/>
                  <a:ext cx="4125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 flipH="1">
                  <a:off x="5832360" y="3148200"/>
                  <a:ext cx="207360" cy="936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5841720" y="3232080"/>
                  <a:ext cx="0" cy="1065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4" name=""/>
              <p:cNvGrpSpPr/>
              <p:nvPr/>
            </p:nvGrpSpPr>
            <p:grpSpPr>
              <a:xfrm>
                <a:off x="5294160" y="2351160"/>
                <a:ext cx="264960" cy="360360"/>
                <a:chOff x="5294160" y="2351160"/>
                <a:chExt cx="264960" cy="360360"/>
              </a:xfrm>
            </p:grpSpPr>
            <p:sp>
              <p:nvSpPr>
                <p:cNvPr id="1915" name=""/>
                <p:cNvSpPr/>
                <p:nvPr/>
              </p:nvSpPr>
              <p:spPr>
                <a:xfrm>
                  <a:off x="5300280" y="23511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 flipH="1">
                  <a:off x="5294160" y="27115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17" name=""/>
            <p:cNvGrpSpPr/>
            <p:nvPr/>
          </p:nvGrpSpPr>
          <p:grpSpPr>
            <a:xfrm>
              <a:off x="5557680" y="1320840"/>
              <a:ext cx="560520" cy="1217520"/>
              <a:chOff x="5557680" y="1320840"/>
              <a:chExt cx="560520" cy="1217520"/>
            </a:xfrm>
          </p:grpSpPr>
          <p:sp>
            <p:nvSpPr>
              <p:cNvPr id="1918" name=""/>
              <p:cNvSpPr/>
              <p:nvPr/>
            </p:nvSpPr>
            <p:spPr>
              <a:xfrm>
                <a:off x="555768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566892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590220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601344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566892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601344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4" name=""/>
              <p:cNvGrpSpPr/>
              <p:nvPr/>
            </p:nvGrpSpPr>
            <p:grpSpPr>
              <a:xfrm>
                <a:off x="5557680" y="1482840"/>
                <a:ext cx="216000" cy="215640"/>
                <a:chOff x="5557680" y="1482840"/>
                <a:chExt cx="216000" cy="215640"/>
              </a:xfrm>
            </p:grpSpPr>
            <p:sp>
              <p:nvSpPr>
                <p:cNvPr id="1925" name=""/>
                <p:cNvSpPr/>
                <p:nvPr/>
              </p:nvSpPr>
              <p:spPr>
                <a:xfrm>
                  <a:off x="555768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 flipH="1">
                  <a:off x="560340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570204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8" name=""/>
              <p:cNvGrpSpPr/>
              <p:nvPr/>
            </p:nvGrpSpPr>
            <p:grpSpPr>
              <a:xfrm>
                <a:off x="5902200" y="1482840"/>
                <a:ext cx="216000" cy="215640"/>
                <a:chOff x="5902200" y="1482840"/>
                <a:chExt cx="216000" cy="215640"/>
              </a:xfrm>
            </p:grpSpPr>
            <p:sp>
              <p:nvSpPr>
                <p:cNvPr id="1929" name=""/>
                <p:cNvSpPr/>
                <p:nvPr/>
              </p:nvSpPr>
              <p:spPr>
                <a:xfrm>
                  <a:off x="590220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 flipH="1">
                  <a:off x="594792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604656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2" name=""/>
              <p:cNvSpPr/>
              <p:nvPr/>
            </p:nvSpPr>
            <p:spPr>
              <a:xfrm>
                <a:off x="566892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601344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4" name=""/>
            <p:cNvSpPr/>
            <p:nvPr/>
          </p:nvSpPr>
          <p:spPr>
            <a:xfrm>
              <a:off x="1596960" y="1100160"/>
              <a:ext cx="504720" cy="39384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492200" y="817560"/>
              <a:ext cx="165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Times New Roman"/>
                </a:rPr>
                <a:t>Instalatie desulfur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6" name=""/>
            <p:cNvGrpSpPr/>
            <p:nvPr/>
          </p:nvGrpSpPr>
          <p:grpSpPr>
            <a:xfrm>
              <a:off x="8569440" y="2532240"/>
              <a:ext cx="909000" cy="752400"/>
              <a:chOff x="8569440" y="2532240"/>
              <a:chExt cx="909000" cy="752400"/>
            </a:xfrm>
          </p:grpSpPr>
          <p:sp>
            <p:nvSpPr>
              <p:cNvPr id="1937" name=""/>
              <p:cNvSpPr/>
              <p:nvPr/>
            </p:nvSpPr>
            <p:spPr>
              <a:xfrm>
                <a:off x="8613720" y="2532240"/>
                <a:ext cx="864720" cy="752400"/>
              </a:xfrm>
              <a:prstGeom prst="rect">
                <a:avLst/>
              </a:prstGeom>
              <a:solidFill>
                <a:srgbClr val="ff7c8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8569440" y="2631960"/>
                <a:ext cx="9028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Times New Roman"/>
                  </a:rPr>
                  <a:t>Tratare chimica ap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9" name=""/>
            <p:cNvSpPr/>
            <p:nvPr/>
          </p:nvSpPr>
          <p:spPr>
            <a:xfrm>
              <a:off x="8255160" y="2425680"/>
              <a:ext cx="1511280" cy="93492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7905600" y="2641680"/>
              <a:ext cx="432000" cy="14292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2:34:03Z</dcterms:created>
  <dc:creator>Cet_Tehnica</dc:creator>
  <dc:description/>
  <dc:language>en-US</dc:language>
  <cp:lastModifiedBy>Cet_Tehnica</cp:lastModifiedBy>
  <dcterms:modified xsi:type="dcterms:W3CDTF">2006-11-14T13:29:25Z</dcterms:modified>
  <cp:revision>18</cp:revision>
  <dc:subject/>
  <dc:title>Slide 1</dc:title>
</cp:coreProperties>
</file>